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9F9-8523-480B-AEB7-1EF30C82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41B-8657-4092-8780-9CC4B76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DD8-290D-4AC5-BE31-85917E73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969-D178-43C2-946E-C92FC74B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5BC-C195-4A84-93E6-FE575924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31D-5944-4247-B4FE-C9F98B17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FE1-CE31-425F-A4B8-DAA11A16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9FA-AF55-49E3-99A1-396EBD3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C34-6910-464A-8E48-DE3391F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8D7-AA27-4880-8E24-0C341A7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A3C-E55A-4E0D-9DB0-7EAAA80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759-5246-4727-B0F9-2FE1941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41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3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e34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e3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e34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e341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e341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e341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41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8f8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AC52-6D01-4894-A624-33D54FE70946}" type="datetime">
              <a:rPr b="0" lang="ru-RU" sz="1200" spc="-1" strike="noStrike">
                <a:solidFill>
                  <a:srgbClr val="968f8b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8f8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8f8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C29-D3AB-4825-B21D-73C988CA49AC}" type="slidenum">
              <a:rPr b="0" lang="ru-RU" sz="1200" spc="-1" strike="noStrike">
                <a:solidFill>
                  <a:srgbClr val="968f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41a"/>
                </a:solidFill>
                <a:latin typeface="Arial"/>
              </a:rPr>
              <a:t>ЗАЩИТА ИНФОРМАЦИИ</a:t>
            </a:r>
            <a:endParaRPr b="0" lang="en-US" sz="4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786200"/>
            <a:ext cx="6400800" cy="10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2713"/>
                </a:solidFill>
                <a:latin typeface="Arial"/>
              </a:rPr>
              <a:t>Автор: </a:t>
            </a:r>
            <a:r>
              <a:rPr b="0" lang="ru-RU" sz="2000" spc="-1" strike="noStrike">
                <a:solidFill>
                  <a:srgbClr val="3b2713"/>
                </a:solidFill>
                <a:latin typeface="Arial"/>
              </a:rPr>
              <a:t>учитель МКОУ «Медвежьегорская СОШ №1»</a:t>
            </a:r>
            <a:endParaRPr b="0" lang="en-US" sz="2000" spc="-1" strike="noStrike">
              <a:solidFill>
                <a:srgbClr val="4e341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2713"/>
                </a:solidFill>
                <a:latin typeface="Arial"/>
              </a:rPr>
              <a:t>Завилейская С. А.</a:t>
            </a:r>
            <a:endParaRPr b="0" lang="en-US" sz="2000" spc="-1" strike="noStrike">
              <a:solidFill>
                <a:srgbClr val="4e341a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857680" y="62024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41a"/>
                </a:solidFill>
                <a:latin typeface="Arial"/>
              </a:rPr>
              <a:t>2012-2013 год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ЦИФРОВАЯ ПОДПИСЬ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85880" y="1357200"/>
            <a:ext cx="8143920" cy="82548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Цифровая подпись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-   это индивидуальный секретный шифр, ключ которого известен только владельцу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785880" y="2571840"/>
            <a:ext cx="7929360" cy="100872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41a"/>
                </a:solidFill>
                <a:latin typeface="Times New Roman"/>
              </a:rPr>
              <a:t>Цифровая подпись </a:t>
            </a: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предназначена для защиты электронного документа и является результатом криптографического преобразования информации с использованием закрытого ключа 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857160" y="4176720"/>
            <a:ext cx="7929720" cy="7038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41a"/>
                </a:solidFill>
                <a:latin typeface="Times New Roman"/>
              </a:rPr>
              <a:t>Закрытый ключ </a:t>
            </a: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– это ключ, которым заранее обмениваются два абонента, ведущие секретную переписку. 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ЦИФРОВОЙ СЕРТИФИКАТ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785880" y="1357200"/>
            <a:ext cx="8143920" cy="155700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Цифровой сертификат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-   это сообщение, пописанное полномочным органом сертификации, который подтверждает, что открытый ключ действительно относится к владельцу подписи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857160" y="3319560"/>
            <a:ext cx="8072640" cy="7038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41a"/>
                </a:solidFill>
                <a:latin typeface="Times New Roman"/>
              </a:rPr>
              <a:t>Открытый ключ </a:t>
            </a: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передается с документом заверенным цифровой подписью для ее расшифровки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0"/>
          <p:cNvSpPr/>
          <p:nvPr/>
        </p:nvSpPr>
        <p:spPr>
          <a:xfrm>
            <a:off x="1214280" y="15001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В 1988 году американская Ассоциация компьютерного оборудования объявила </a:t>
            </a: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30 ноября Международным днем защиты информации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(Computer Security Day). 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5143680" y="3143160"/>
            <a:ext cx="3536640" cy="235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>
            <a:off x="1214280" y="3143160"/>
            <a:ext cx="39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Целью Дня является напоминание пользователям о необходимости защиты их компьютеров и всей хранимой в них информации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47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785880" y="1357200"/>
            <a:ext cx="8143920" cy="192276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Защищаемая  информация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– это информация, являющаяся предметом собственности и подлежащая защите в соответствии с требованиями правовых документов или требованиями,  устанавливаемыми собственником информации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785880" y="3500280"/>
            <a:ext cx="8143920" cy="119124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Собственником информации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может быть -</a:t>
            </a: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государство, юридическое лицо, группа физических лиц, отдельное физическое лицо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ЗАЩИЩАЕМАЯ ИНФОРМАЦИЯ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2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3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ЦИФРОВАЯ ИНФОРМАЦИЯ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785880" y="1357200"/>
            <a:ext cx="8143920" cy="119124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Цифровая информация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– это информация, хранение, передача и обработка которой осуществляется средствами ИКТ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pic>
        <p:nvPicPr>
          <p:cNvPr id="56" name="Picture 2" descr="F:\Открытый_урок\исследования_IDC1.jpg"/>
          <p:cNvPicPr/>
          <p:nvPr/>
        </p:nvPicPr>
        <p:blipFill>
          <a:blip r:embed="rId1"/>
          <a:stretch/>
        </p:blipFill>
        <p:spPr>
          <a:xfrm>
            <a:off x="2500200" y="2733840"/>
            <a:ext cx="4429080" cy="3052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6"/>
          <p:cNvSpPr/>
          <p:nvPr/>
        </p:nvSpPr>
        <p:spPr>
          <a:xfrm>
            <a:off x="714240" y="60595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41a"/>
                </a:solidFill>
                <a:latin typeface="Times New Roman"/>
              </a:rPr>
              <a:t>Результаты исследования International Data Corporation (IDC) , 2008 год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8" name="Выноска со стрелкой вправо 18"/>
          <p:cNvSpPr/>
          <p:nvPr/>
        </p:nvSpPr>
        <p:spPr>
          <a:xfrm>
            <a:off x="857160" y="4643280"/>
            <a:ext cx="1857600" cy="642960"/>
          </a:xfrm>
          <a:prstGeom prst="rightArrowCallout">
            <a:avLst>
              <a:gd name="adj1" fmla="val 25002"/>
              <a:gd name="adj2" fmla="val 22500"/>
              <a:gd name="adj3" fmla="val 24999"/>
              <a:gd name="adj4" fmla="val 84144"/>
            </a:avLst>
          </a:prstGeom>
          <a:solidFill>
            <a:srgbClr val="dff3f3"/>
          </a:solidFill>
          <a:ln w="255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713"/>
                </a:solidFill>
                <a:latin typeface="Times New Roman"/>
              </a:rPr>
              <a:t>468 ЭБ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713"/>
                </a:solidFill>
                <a:latin typeface="Times New Roman"/>
              </a:rPr>
              <a:t>2008 г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59" name="Выноска со стрелкой вправо 19"/>
          <p:cNvSpPr/>
          <p:nvPr/>
        </p:nvSpPr>
        <p:spPr>
          <a:xfrm flipH="1">
            <a:off x="6858000" y="3214800"/>
            <a:ext cx="1643040" cy="642960"/>
          </a:xfrm>
          <a:prstGeom prst="rightArrowCallout">
            <a:avLst>
              <a:gd name="adj1" fmla="val 25002"/>
              <a:gd name="adj2" fmla="val 22500"/>
              <a:gd name="adj3" fmla="val 24998"/>
              <a:gd name="adj4" fmla="val 84144"/>
            </a:avLst>
          </a:prstGeom>
          <a:solidFill>
            <a:srgbClr val="dff3f3"/>
          </a:solidFill>
          <a:ln w="255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713"/>
                </a:solidFill>
                <a:latin typeface="Times New Roman"/>
              </a:rPr>
              <a:t>2502 ЭБ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713"/>
                </a:solidFill>
                <a:latin typeface="Times New Roman"/>
              </a:rPr>
              <a:t>2012 г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0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8"/>
          <p:cNvSpPr/>
          <p:nvPr/>
        </p:nvSpPr>
        <p:spPr>
          <a:xfrm>
            <a:off x="785880" y="1357200"/>
            <a:ext cx="8143920" cy="1557000"/>
          </a:xfrm>
          <a:prstGeom prst="rect">
            <a:avLst/>
          </a:prstGeom>
          <a:solidFill>
            <a:srgbClr val="dff3f3"/>
          </a:solidFill>
          <a:ln w="9360">
            <a:solidFill>
              <a:srgbClr val="159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Защита  информации 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-   деятельность по предотвращению утечки защищаемой информации,  несанкционированных и непреднамеренных воздействий на защищаемую информацию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ЗАЩИТА ИНФОРМАЦИИ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4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85880" y="3179880"/>
            <a:ext cx="8143920" cy="265428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Несанкционированное воздействие 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– это преднамеренная порча или уничтожение информации со стороны лиц не имеющих на это права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41a"/>
                </a:solidFill>
                <a:latin typeface="Times New Roman"/>
              </a:rPr>
              <a:t>Непреднамеренное воздействие</a:t>
            </a: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 происходит вследствие ошибок пользователя, а также из-за сбоев оборудования или программного обеспечения.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ВИДЫ УГРОЗ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57160" y="1357200"/>
          <a:ext cx="7858080" cy="22924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420840">
                <a:tc grid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Угроза утечки</a:t>
                      </a:r>
                      <a:endParaRPr b="0" lang="en-US" sz="24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Преднамеренная кража, копирование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Проникновение в память компьютера, в базы данных информационных систем.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Перехват в каналах передачи данных, искажение, подлог данных.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Box 12"/>
          <p:cNvSpPr/>
          <p:nvPr/>
        </p:nvSpPr>
        <p:spPr>
          <a:xfrm>
            <a:off x="2500200" y="3929040"/>
            <a:ext cx="6215040" cy="7038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Цифровые носители для хранения данных – объекты краж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571840" y="5600880"/>
            <a:ext cx="6143400" cy="39888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Новый канал утечки – кража через сети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  <p:pic>
        <p:nvPicPr>
          <p:cNvPr id="73" name="Picture 10" descr="http://t2.gstatic.com/images?q=tbn:ANd9GcSeZHiHL0OYkixShs95MBSNxmqVI-Newe_CFPydomTQ8EuygVjg3g"/>
          <p:cNvPicPr/>
          <p:nvPr/>
        </p:nvPicPr>
        <p:blipFill>
          <a:blip r:embed="rId1"/>
          <a:stretch/>
        </p:blipFill>
        <p:spPr>
          <a:xfrm>
            <a:off x="1071720" y="3857760"/>
            <a:ext cx="128556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http://t2.gstatic.com/images?q=tbn:ANd9GcT8a0WezK3bO3QeSyALuJEHLvbCH_bUmA34KGLNZ4HrafuU3va6yg"/>
          <p:cNvPicPr/>
          <p:nvPr/>
        </p:nvPicPr>
        <p:blipFill>
          <a:blip r:embed="rId2"/>
          <a:stretch/>
        </p:blipFill>
        <p:spPr>
          <a:xfrm>
            <a:off x="1143000" y="5286240"/>
            <a:ext cx="118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57160" y="1357200"/>
          <a:ext cx="7858080" cy="257832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420840">
                <a:tc grid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Угроза разрушения</a:t>
                      </a:r>
                      <a:endParaRPr b="0" lang="en-US" sz="24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Несанкционированное разрушение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Непреднамеренное разрушение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Вредоносные программные коды - вирусы; деятельность хакеров, атаки.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341a"/>
                          </a:solidFill>
                          <a:latin typeface="Times New Roman"/>
                          <a:ea typeface="Calibri"/>
                        </a:rPr>
                        <a:t>Ошибки пользователя, сбои оборудования, ошибки и сбои в работе ПО, форс-мажорные обстоятельства. </a:t>
                      </a:r>
                      <a:endParaRPr b="0" lang="en-US" sz="2000" spc="-1" strike="noStrike">
                        <a:solidFill>
                          <a:srgbClr val="4e341a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ВИДЫ УГРОЗ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928800" y="4357800"/>
            <a:ext cx="7786440" cy="7038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41a"/>
                </a:solidFill>
                <a:latin typeface="Times New Roman"/>
              </a:rPr>
              <a:t>Хакеры</a:t>
            </a: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 – «взломщики» информационных систем с целью воздействия на их содержание и работоспособность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928800" y="5364000"/>
            <a:ext cx="7786440" cy="7038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41a"/>
                </a:solidFill>
                <a:latin typeface="Times New Roman"/>
              </a:rPr>
              <a:t>Атака</a:t>
            </a:r>
            <a:r>
              <a:rPr b="0" lang="ru-RU" sz="2000" spc="-1" strike="noStrike">
                <a:solidFill>
                  <a:srgbClr val="4e341a"/>
                </a:solidFill>
                <a:latin typeface="Times New Roman"/>
              </a:rPr>
              <a:t> – это одновременное обращение с большого количества компьютеров на сервер информационной системы.</a:t>
            </a:r>
            <a:endParaRPr b="0" lang="en-US" sz="20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1"/>
          <p:cNvSpPr/>
          <p:nvPr/>
        </p:nvSpPr>
        <p:spPr>
          <a:xfrm>
            <a:off x="857160" y="93996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Физическая защита каналов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Использование источников бесперебойного питания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Контроль и профилактика оборудования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Резервное копирование информации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Использование надежных паролей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Разграничение доступа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Брандмауэры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Межсетевые экраны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e34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41a"/>
                </a:solidFill>
                <a:latin typeface="Times New Roman"/>
              </a:rPr>
              <a:t>Антивирусные программы</a:t>
            </a:r>
            <a:endParaRPr b="0" lang="en-US" sz="24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2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pic>
        <p:nvPicPr>
          <p:cNvPr id="84" name="Picture 18" descr="http://www.aq.ru/upload/iblock/807/80712f08ab9c61508024e0b86d884022.jpg"/>
          <p:cNvPicPr/>
          <p:nvPr/>
        </p:nvPicPr>
        <p:blipFill>
          <a:blip r:embed="rId1"/>
          <a:stretch/>
        </p:blipFill>
        <p:spPr>
          <a:xfrm>
            <a:off x="6072120" y="3857760"/>
            <a:ext cx="2657520" cy="2000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СПОСОБЫ ЗАЩИТЫ ИНФОРМАЦИИ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5"/>
          <p:cNvSpPr/>
          <p:nvPr/>
        </p:nvSpPr>
        <p:spPr>
          <a:xfrm>
            <a:off x="1714680" y="135720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41a"/>
                </a:solidFill>
                <a:latin typeface="Times New Roman"/>
              </a:rPr>
              <a:t>Антивирусы лаборатории Касперского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41a"/>
                </a:solidFill>
                <a:latin typeface="Times New Roman"/>
              </a:rPr>
              <a:t>Dr .Web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41a"/>
                </a:solidFill>
                <a:latin typeface="Times New Roman"/>
              </a:rPr>
              <a:t>ESET NOD32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41a"/>
                </a:solidFill>
                <a:latin typeface="Times New Roman"/>
              </a:rPr>
              <a:t>AVAST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41a"/>
                </a:solidFill>
                <a:latin typeface="Times New Roman"/>
              </a:rPr>
              <a:t>McAfee Antivirus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41a"/>
                </a:solidFill>
                <a:latin typeface="Times New Roman"/>
              </a:rPr>
              <a:t>Symantec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7" name="Нижний колонтитул 14"/>
          <p:cNvSpPr/>
          <p:nvPr/>
        </p:nvSpPr>
        <p:spPr>
          <a:xfrm>
            <a:off x="4786200" y="6572160"/>
            <a:ext cx="43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68f8b"/>
                </a:solidFill>
                <a:latin typeface="Arial"/>
              </a:rPr>
              <a:t>Завилейская С. А., учитель информатики и ИКТ, МКОУ "Медвежьегорская СОШ №1"</a:t>
            </a:r>
            <a:endParaRPr b="0" lang="en-US" sz="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0" y="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bdba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4e341a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428840" y="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41a"/>
                </a:solidFill>
                <a:latin typeface="Arial"/>
              </a:rPr>
              <a:t>АНТИВИРУСНЫЕ ПРОГРАММЫ</a:t>
            </a:r>
            <a:endParaRPr b="0" lang="en-US" sz="2800" spc="-1" strike="noStrike">
              <a:solidFill>
                <a:srgbClr val="4e341a"/>
              </a:solidFill>
              <a:latin typeface="Arial"/>
            </a:endParaRPr>
          </a:p>
        </p:txBody>
      </p:sp>
      <p:pic>
        <p:nvPicPr>
          <p:cNvPr id="90" name="Picture 2" descr="Лаборатория Касперского, Антивирус Касперского"/>
          <p:cNvPicPr/>
          <p:nvPr/>
        </p:nvPicPr>
        <p:blipFill>
          <a:blip r:embed="rId1"/>
          <a:stretch/>
        </p:blipFill>
        <p:spPr>
          <a:xfrm>
            <a:off x="928800" y="1357200"/>
            <a:ext cx="618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DrWeb Anti-Virus"/>
          <p:cNvPicPr/>
          <p:nvPr/>
        </p:nvPicPr>
        <p:blipFill>
          <a:blip r:embed="rId2"/>
          <a:stretch/>
        </p:blipFill>
        <p:spPr>
          <a:xfrm>
            <a:off x="785880" y="2214720"/>
            <a:ext cx="83808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Eset Nod32 Anti-Virus"/>
          <p:cNvPicPr/>
          <p:nvPr/>
        </p:nvPicPr>
        <p:blipFill>
          <a:blip r:embed="rId3"/>
          <a:stretch/>
        </p:blipFill>
        <p:spPr>
          <a:xfrm>
            <a:off x="642960" y="3214800"/>
            <a:ext cx="1038240" cy="40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ymantec, Norton Anti-Virus"/>
          <p:cNvPicPr/>
          <p:nvPr/>
        </p:nvPicPr>
        <p:blipFill>
          <a:blip r:embed="rId4"/>
          <a:stretch/>
        </p:blipFill>
        <p:spPr>
          <a:xfrm>
            <a:off x="571680" y="5786280"/>
            <a:ext cx="1085760" cy="39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McAfee Antivirus, VirusScan"/>
          <p:cNvPicPr/>
          <p:nvPr/>
        </p:nvPicPr>
        <p:blipFill>
          <a:blip r:embed="rId5"/>
          <a:stretch/>
        </p:blipFill>
        <p:spPr>
          <a:xfrm>
            <a:off x="714240" y="5143680"/>
            <a:ext cx="8953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http://t2.gstatic.com/images?q=tbn:ANd9GcTWV3mSDtCj7MicgIye-WnQXH8Uvo3Ss0Ox4lkzdDRLYzMNOCzyDw"/>
          <p:cNvPicPr/>
          <p:nvPr/>
        </p:nvPicPr>
        <p:blipFill>
          <a:blip r:embed="rId6"/>
          <a:stretch/>
        </p:blipFill>
        <p:spPr>
          <a:xfrm>
            <a:off x="857160" y="3787920"/>
            <a:ext cx="7160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8:27:48Z</dcterms:created>
  <dc:creator>kab31</dc:creator>
  <dc:description/>
  <dc:language>en-US</dc:language>
  <cp:lastModifiedBy>Миша</cp:lastModifiedBy>
  <dcterms:modified xsi:type="dcterms:W3CDTF">2013-04-09T09:48:17Z</dcterms:modified>
  <cp:revision>123</cp:revision>
  <dc:subject/>
  <dc:title>Информационные процессы в системах</dc:title>
</cp:coreProperties>
</file>