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21D2-EB07-463F-8D2F-DA90782A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B0A4-5668-40BD-9345-2FF8B4E9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C6FD-3C02-455E-8670-29DA94EA1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B2B-0E73-4877-BFF5-EEB73094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85E-549A-4BF8-85CC-58CEA751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8746-3996-4AB6-8F37-40688849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2152-546B-47EC-BD26-8ACDD671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D1F-A7D7-4605-B7FA-9FC74A7F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4D7-51DF-434D-81F5-7818D5AA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CCE6-9421-4D2A-8D93-324EA843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E7C-349F-4BB0-BE0D-A35BF31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BF9B-FDAA-4F78-A5EB-1AEF1C1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1391-4557-40AA-97CD-D58839CEE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7dd"/>
            </a:gs>
            <a:gs pos="100000">
              <a:srgbClr val="8f8c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NEMATOGRAH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THE EIGH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ONDER OF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580000" y="558972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атегории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СОШ №45 г. Твер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ова Г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684360" y="1397160"/>
          <a:ext cx="7848360" cy="4840200"/>
        </p:xfrm>
        <a:graphic>
          <a:graphicData uri="http://schemas.openxmlformats.org/drawingml/2006/table">
            <a:tbl>
              <a:tblPr/>
              <a:tblGrid>
                <a:gridCol w="1307880"/>
                <a:gridCol w="1308240"/>
                <a:gridCol w="1307880"/>
                <a:gridCol w="1308240"/>
                <a:gridCol w="1308240"/>
                <a:gridCol w="1307880"/>
              </a:tblGrid>
              <a:tr h="96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IN PAI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often go to the cine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watching video fil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your favourite fil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are your favourite actors/actres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as the last film you watched? How did you lik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ING COMPREH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Listen to the recording and match the genres of films with the opinions about them. You will hear the recording tw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Listen to Melissa’s impressions after having watched the fil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anic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l in the table trying to define whether the statement is true, false or there was no information of the kind in the dialogue. You will hear the recording tw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In 1895 the French Lumiere brothers showed their first films in public. Were they different from modern fil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Where were the early films show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Why did the intellectual classes ignore the cinem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Why di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eat Train Robbery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ome a sensational h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ING COMPREH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When was the first special effect create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When did the first studio open in Holly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Why did film-makers like Holly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When did the era of the talking film begi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Do you think that cinematography can be called ‘The Eighth Wonder of the World’?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557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lywood is really the world cinema empire. What can you tell about its histo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Загрузки\гейбл.jpg"/>
          <p:cNvPicPr/>
          <p:nvPr/>
        </p:nvPicPr>
        <p:blipFill>
          <a:blip r:embed="rId1"/>
          <a:stretch/>
        </p:blipFill>
        <p:spPr>
          <a:xfrm>
            <a:off x="3348000" y="-243000"/>
            <a:ext cx="3936960" cy="482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Загрузки\1202082577_gone-with-wind-16 Ли.jpg"/>
          <p:cNvPicPr/>
          <p:nvPr/>
        </p:nvPicPr>
        <p:blipFill>
          <a:blip r:embed="rId2"/>
          <a:stretch/>
        </p:blipFill>
        <p:spPr>
          <a:xfrm>
            <a:off x="0" y="0"/>
            <a:ext cx="3708360" cy="4076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Загрузки\Charlie_Chaplin.jpg"/>
          <p:cNvPicPr/>
          <p:nvPr/>
        </p:nvPicPr>
        <p:blipFill>
          <a:blip r:embed="rId3"/>
          <a:stretch/>
        </p:blipFill>
        <p:spPr>
          <a:xfrm>
            <a:off x="1042920" y="2852640"/>
            <a:ext cx="3254400" cy="400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Загрузки\Mary-Pickford.jpg"/>
          <p:cNvPicPr/>
          <p:nvPr/>
        </p:nvPicPr>
        <p:blipFill>
          <a:blip r:embed="rId4"/>
          <a:stretch/>
        </p:blipFill>
        <p:spPr>
          <a:xfrm>
            <a:off x="5940360" y="2997360"/>
            <a:ext cx="320364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Загрузки\007_02 metro.jpg"/>
          <p:cNvPicPr/>
          <p:nvPr/>
        </p:nvPicPr>
        <p:blipFill>
          <a:blip r:embed="rId1"/>
          <a:stretch/>
        </p:blipFill>
        <p:spPr>
          <a:xfrm>
            <a:off x="0" y="0"/>
            <a:ext cx="512136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D:\Загрузки\1241794578_fox.jpg"/>
          <p:cNvPicPr/>
          <p:nvPr/>
        </p:nvPicPr>
        <p:blipFill>
          <a:blip r:embed="rId2"/>
          <a:stretch/>
        </p:blipFill>
        <p:spPr>
          <a:xfrm>
            <a:off x="0" y="3141720"/>
            <a:ext cx="4932360" cy="3716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Загрузки\6b711ac3f35288d warner.jpg"/>
          <p:cNvPicPr/>
          <p:nvPr/>
        </p:nvPicPr>
        <p:blipFill>
          <a:blip r:embed="rId3"/>
          <a:stretch/>
        </p:blipFill>
        <p:spPr>
          <a:xfrm>
            <a:off x="4381560" y="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D:\Загрузки\paramountheader.jpg"/>
          <p:cNvPicPr/>
          <p:nvPr/>
        </p:nvPicPr>
        <p:blipFill>
          <a:blip r:embed="rId4"/>
          <a:stretch/>
        </p:blipFill>
        <p:spPr>
          <a:xfrm>
            <a:off x="4284720" y="3573360"/>
            <a:ext cx="485928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n cinematography also has a long history. What do you know about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Загрузки\wpid-Imperiya-kino-Aleksandra-Hanjonkova-1.jpg"/>
          <p:cNvPicPr/>
          <p:nvPr/>
        </p:nvPicPr>
        <p:blipFill>
          <a:blip r:embed="rId1"/>
          <a:stretch/>
        </p:blipFill>
        <p:spPr>
          <a:xfrm>
            <a:off x="5594400" y="2637000"/>
            <a:ext cx="3549600" cy="422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Загрузки\Холодная.jpg"/>
          <p:cNvPicPr/>
          <p:nvPr/>
        </p:nvPicPr>
        <p:blipFill>
          <a:blip r:embed="rId2"/>
          <a:stretch/>
        </p:blipFill>
        <p:spPr>
          <a:xfrm>
            <a:off x="0" y="2637000"/>
            <a:ext cx="2916360" cy="422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:\Загрузки\Полонский.jpg"/>
          <p:cNvPicPr/>
          <p:nvPr/>
        </p:nvPicPr>
        <p:blipFill>
          <a:blip r:embed="rId3"/>
          <a:stretch/>
        </p:blipFill>
        <p:spPr>
          <a:xfrm>
            <a:off x="2843280" y="2637000"/>
            <a:ext cx="29527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Загрузки\Быков.jpg"/>
          <p:cNvPicPr/>
          <p:nvPr/>
        </p:nvPicPr>
        <p:blipFill>
          <a:blip r:embed="rId1"/>
          <a:stretch/>
        </p:blipFill>
        <p:spPr>
          <a:xfrm>
            <a:off x="0" y="0"/>
            <a:ext cx="3203640" cy="4321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Загрузки\Роу.jpg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Загрузки\Тарковский.jpg"/>
          <p:cNvPicPr/>
          <p:nvPr/>
        </p:nvPicPr>
        <p:blipFill>
          <a:blip r:embed="rId3"/>
          <a:stretch/>
        </p:blipFill>
        <p:spPr>
          <a:xfrm>
            <a:off x="3059280" y="0"/>
            <a:ext cx="3384360" cy="479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D:\Загрузки\Михалков.jpg"/>
          <p:cNvPicPr/>
          <p:nvPr/>
        </p:nvPicPr>
        <p:blipFill>
          <a:blip r:embed="rId4"/>
          <a:stretch/>
        </p:blipFill>
        <p:spPr>
          <a:xfrm>
            <a:off x="0" y="3068640"/>
            <a:ext cx="3492360" cy="378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D:\Загрузки\Кончаловский.jpg"/>
          <p:cNvPicPr/>
          <p:nvPr/>
        </p:nvPicPr>
        <p:blipFill>
          <a:blip r:embed="rId5"/>
          <a:stretch/>
        </p:blipFill>
        <p:spPr>
          <a:xfrm>
            <a:off x="5940360" y="3284640"/>
            <a:ext cx="320364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7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wor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564000" y="3789360"/>
          <a:ext cx="5133960" cy="1554120"/>
        </p:xfrm>
        <a:graphic>
          <a:graphicData uri="http://schemas.openxmlformats.org/drawingml/2006/table">
            <a:tbl>
              <a:tblPr/>
              <a:tblGrid>
                <a:gridCol w="1738080"/>
                <a:gridCol w="3395880"/>
              </a:tblGrid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sk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. 2 pp. 202-203 (parts 1) and 2) in written form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A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chievements of Australian cinematography are also of interest. Can you make a short review of th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D:\Загрузки\p_f crocodile.jpg"/>
          <p:cNvPicPr/>
          <p:nvPr/>
        </p:nvPicPr>
        <p:blipFill>
          <a:blip r:embed="rId1"/>
          <a:stretch/>
        </p:blipFill>
        <p:spPr>
          <a:xfrm>
            <a:off x="1908000" y="3343320"/>
            <a:ext cx="533412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230472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Wei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e Camp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Загрузки\200px-StrictlyBallroom.jpg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Загрузки\13425-large picnic.jpg"/>
          <p:cNvPicPr/>
          <p:nvPr/>
        </p:nvPicPr>
        <p:blipFill>
          <a:blip r:embed="rId2"/>
          <a:stretch/>
        </p:blipFill>
        <p:spPr>
          <a:xfrm>
            <a:off x="0" y="0"/>
            <a:ext cx="2627280" cy="3141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D:\Загрузки\89 Peter Weir.jpg"/>
          <p:cNvPicPr/>
          <p:nvPr/>
        </p:nvPicPr>
        <p:blipFill>
          <a:blip r:embed="rId3"/>
          <a:stretch/>
        </p:blipFill>
        <p:spPr>
          <a:xfrm>
            <a:off x="0" y="3048120"/>
            <a:ext cx="370836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D:\Загрузки\image_124255523592974700_1Jane Campion.jpg"/>
          <p:cNvPicPr/>
          <p:nvPr/>
        </p:nvPicPr>
        <p:blipFill>
          <a:blip r:embed="rId4"/>
          <a:stretch/>
        </p:blipFill>
        <p:spPr>
          <a:xfrm>
            <a:off x="5435640" y="2852640"/>
            <a:ext cx="370836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m it up I can say that cinematography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YOUR ATTENTION!!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ere the Seven Wonders of the World in the ancient tim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ugh many of the ancient World Wonders don’t exist any longer, people still remember and treasure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know anything that can be called ‘The Eighth Wonder of the World’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lumier.wmv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85800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vise th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isten to and to understand the texts about different genres of films and about Melissa’s impressions after having watched the film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ad the text and be ready to answer the ques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peak about the history of American, Australian and Russian cinematograp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 THE GENRES WITH THEIR DESCRI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78480"/>
        </p:xfrm>
        <a:graphic>
          <a:graphicData uri="http://schemas.openxmlformats.org/drawingml/2006/table">
            <a:tbl>
              <a:tblPr/>
              <a:tblGrid>
                <a:gridCol w="801720"/>
                <a:gridCol w="1728720"/>
                <a:gridCol w="863640"/>
                <a:gridCol w="48355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orical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wboys, guns, shots, saloons and prairies are typical of these film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always full of tears and are said to be romances for girl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er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usually full of fights and adventures. Chase, fights and guns are typical of these fil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o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films with a mysterious plot and people always try to guess who are criminals in the film. Mysteries and clues are typical of these film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ve sto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realistic, truly reflect the past and teach you to defend justice. Wars and heroes are typical of these film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 THE GENRES WITH THEIR DESCRI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794120"/>
        </p:xfrm>
        <a:graphic>
          <a:graphicData uri="http://schemas.openxmlformats.org/drawingml/2006/table">
            <a:tbl>
              <a:tblPr/>
              <a:tblGrid>
                <a:gridCol w="658800"/>
                <a:gridCol w="1943280"/>
                <a:gridCol w="865080"/>
                <a:gridCol w="476244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e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ways keep the audience in suspens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ill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usually unrealistic as they are about unreal or supernatural things and stuffed with events and have a mysterious plo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ve, sorrow and relationship are typical of these fil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ience fiction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l facts of the events of the past without film stars are presented by these films before the audienc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lodra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funny and make people smile and laugh. Joker and sometimes silly situations are typical of these fil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 THE GENRES WITH THEIR DESCRI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851360"/>
        </p:xfrm>
        <a:graphic>
          <a:graphicData uri="http://schemas.openxmlformats.org/drawingml/2006/table">
            <a:tbl>
              <a:tblPr/>
              <a:tblGrid>
                <a:gridCol w="730080"/>
                <a:gridCol w="1729080"/>
                <a:gridCol w="934920"/>
                <a:gridCol w="4835520"/>
              </a:tblGrid>
              <a:tr h="74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o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od, screams, monsters, vampires,  maniacs and  knives  are typical of these films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3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venture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said to have a simple story line but touching. Love, faraway lands and horses are typical of these film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ic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films with painted personages for children as a rul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rror f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sometimes too dramatic and usually everybody dies at the en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  <a:tr h="101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ge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e said to have a funny plot with a lot of musi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b4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алина</cp:lastModifiedBy>
  <dcterms:modified xsi:type="dcterms:W3CDTF">2013-01-10T16:56:09Z</dcterms:modified>
  <cp:revision>76</cp:revision>
  <dc:subject/>
  <dc:title>CINEMATOGRAHY </dc:title>
</cp:coreProperties>
</file>