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5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7862-F5A1-4F7E-9552-DB490A61A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F9C1-B995-418C-9442-BF713260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84EB-A8D2-4379-BBA5-80CBA88F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8CD1-290A-47BF-ADFA-2B925D82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1472-A464-4E10-AB62-3E6FCA8F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49B2-EF57-40A6-98C6-34A48780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D15F-BE67-4312-966E-4EBA6F64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2FC9-42FA-4398-8E1C-5163154E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9668-5FE5-4363-A9E6-F9A71F66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778E-B984-4E81-A088-CBAE0BDE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1C49-9ED7-4814-8D30-042978C3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A77D-31D3-4E94-8A9B-4C3F3BA2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DBF0-6778-4281-B9B0-8173375481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631280" cy="31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1d1cb"/>
                </a:solidFill>
                <a:latin typeface="Times New Roman"/>
              </a:rPr>
              <a:t>ПОЛИТИЧЕСКИЕ РЕПРЕССИИ </a:t>
            </a:r>
            <a:br>
              <a:rPr sz="4000"/>
            </a:br>
            <a:r>
              <a:rPr b="1" lang="ru-RU" sz="4000" spc="-1" strike="noStrike">
                <a:solidFill>
                  <a:srgbClr val="d1d1cb"/>
                </a:solidFill>
                <a:latin typeface="Times New Roman"/>
              </a:rPr>
              <a:t>30-Х ГОДОВ </a:t>
            </a:r>
            <a:r>
              <a:rPr b="1" lang="en-US" sz="4000" spc="-1" strike="noStrike">
                <a:solidFill>
                  <a:srgbClr val="d1d1cb"/>
                </a:solidFill>
                <a:latin typeface="Times New Roman"/>
              </a:rPr>
              <a:t>XX </a:t>
            </a:r>
            <a:r>
              <a:rPr b="1" lang="ru-RU" sz="4000" spc="-1" strike="noStrike">
                <a:solidFill>
                  <a:srgbClr val="d1d1cb"/>
                </a:solidFill>
                <a:latin typeface="Times New Roman"/>
              </a:rPr>
              <a:t>века</a:t>
            </a:r>
            <a:br>
              <a:rPr sz="4000"/>
            </a:br>
            <a:r>
              <a:rPr b="1" lang="ru-RU" sz="4000" spc="-1" strike="noStrike">
                <a:solidFill>
                  <a:srgbClr val="d1d1cb"/>
                </a:solidFill>
                <a:latin typeface="Times New Roman"/>
              </a:rPr>
              <a:t>В НАШЕМ КРАЕ</a:t>
            </a:r>
            <a:br>
              <a:rPr sz="4000"/>
            </a:br>
            <a:r>
              <a:rPr b="1" lang="ru-RU" sz="4000" spc="-1" strike="noStrike">
                <a:solidFill>
                  <a:srgbClr val="d1d1cb"/>
                </a:solidFill>
                <a:latin typeface="Times New Roman"/>
              </a:rPr>
              <a:t>(репрессии среди саамов)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крытый ур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 истории России в 9 класс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фрагмен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дготовила и провела Ежова Н.Я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в. библиотекой МБОУ РСОШ им. В.С.Ворон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Выписка </a:t>
            </a:r>
            <a:br>
              <a:rPr sz="4000"/>
            </a:b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из протокола Тройки УНКВД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68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ло № 88534 – 37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5-го Мурманского погран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ряда по обвинен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опорова Пет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Григорьевича (1-го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АССТРЕЛЯ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8 августа 1937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724360" y="1844640"/>
            <a:ext cx="2981520" cy="422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5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98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98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98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98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98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98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98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98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Левашовская пустошь</a:t>
            </a:r>
            <a:br>
              <a:rPr sz="4000"/>
            </a:b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(Ленинградская область)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859280" y="1557360"/>
            <a:ext cx="3743280" cy="2712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84360" y="1457280"/>
            <a:ext cx="3539880" cy="5400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508720" y="4351320"/>
            <a:ext cx="2592360" cy="2506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28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Отказ и признание пострадавшей</a:t>
            </a:r>
            <a:br>
              <a:rPr sz="4000"/>
            </a:b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дочери Чопорова 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11240" y="1484280"/>
            <a:ext cx="3467160" cy="5040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64000" y="1413000"/>
            <a:ext cx="3300480" cy="51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Причины ареста.</a:t>
            </a:r>
            <a:br>
              <a:rPr sz="4000"/>
            </a:b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Обвинительное заключение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Антисоветская пропаган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Шпиона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Связь с врагом наро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8 статья со всеми её 14 пунктами Уголовного кодекса 1926 г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амые «ходовые»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1а – «измена Родин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 – «вооружённое восстани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6 – «шпионаж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7 – «подрыв государственной экономик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8 – «терроризм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10 – «антисоветская пропаганда и агитац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11 – «заговоры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ВМН (высшая мера наказан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768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768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" dur="768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" dur="768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Саамский заговор</a:t>
            </a:r>
            <a:br>
              <a:rPr sz="4000"/>
            </a:br>
            <a:r>
              <a:rPr b="0" lang="en-US" sz="2000" spc="-1" strike="noStrike">
                <a:solidFill>
                  <a:srgbClr val="d1d1cb"/>
                </a:solidFill>
                <a:latin typeface="Arial"/>
              </a:rPr>
              <a:t>«Саамская националистическая повстанческая диверсионно-вредительская организация»</a:t>
            </a:r>
            <a:endParaRPr b="0" lang="en-US" sz="2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46911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ель: создание независимого саамского государ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зидентом и министрами «определили» русских Алымова В.К. и Салазкина А.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508720" y="1628640"/>
            <a:ext cx="326556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За что?</a:t>
            </a:r>
            <a:br>
              <a:rPr sz="4000"/>
            </a:b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(расстрелянный саам)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амский бард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ан Матрёх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писал песню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свящённу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прессиям сред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ам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3520800" cy="4464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3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98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98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98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98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98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9" dur="110599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Расстрелянный саам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 что? За то, что жизнь люби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леней пас, семью корми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ли за преданность зем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винцом прошили в тишин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ан Матрёх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4797360"/>
            <a:ext cx="5933880" cy="17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8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ШАЛАМОВ </a:t>
            </a:r>
            <a:br>
              <a:rPr sz="4000"/>
            </a:b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Варлам Тихонович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3324240" cy="4565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916280"/>
            <a:ext cx="2533680" cy="3960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Солженицын</a:t>
            </a:r>
            <a:br>
              <a:rPr sz="4000"/>
            </a:b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Александр Исаевич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336852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24360" y="1989000"/>
            <a:ext cx="2995920" cy="3745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Скромный </a:t>
            </a:r>
            <a:br>
              <a:rPr sz="4000"/>
            </a:b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Николай Александрович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3606840" cy="4680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581800" y="1844640"/>
            <a:ext cx="2517480" cy="4105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Карта ГУЛАГа</a:t>
            </a:r>
            <a:br>
              <a:rPr sz="4000"/>
            </a:b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на территории СССР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199280" cy="47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Объекты ГУЛАГа на территории Мурманской области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540072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Степаненко </a:t>
            </a:r>
            <a:br>
              <a:rPr sz="4000"/>
            </a:b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Александр Михайлович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349236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148360" y="1628640"/>
            <a:ext cx="349236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042920" y="1773360"/>
            <a:ext cx="3114720" cy="4321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2024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Колесо репрессий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Один росчерк пера, и семьи как и не было никогда»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воспоминания У.И.Васильево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0360" y="2924280"/>
            <a:ext cx="2678400" cy="3600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87640" y="2708280"/>
            <a:ext cx="2448000" cy="3828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580000" y="2924280"/>
            <a:ext cx="3365640" cy="3600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7524720" y="0"/>
            <a:ext cx="1165320" cy="1512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7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0:04:11Z</dcterms:created>
  <dc:creator>007</dc:creator>
  <dc:description/>
  <dc:language>en-US</dc:language>
  <cp:lastModifiedBy>Vlad</cp:lastModifiedBy>
  <dcterms:modified xsi:type="dcterms:W3CDTF">2013-02-13T20:21:45Z</dcterms:modified>
  <cp:revision>82</cp:revision>
  <dc:subject/>
  <dc:title>ПОЛИТИЧЕСКИЕ РЕПРЕССИИ 30-ХГОДОВ  В НАШЕМ КРАЕ</dc:title>
</cp:coreProperties>
</file>