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3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wmf" ContentType="image/x-wmf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74A-218C-4DF5-8CC8-CCDC374C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0BE-319A-4B69-B01C-7A3FD35A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CEB-519E-4433-83EF-0DCDC611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3A1-1B0F-433A-890D-A13D680F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B400-D900-4B03-80A7-F1D560B5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C8A7-48C6-4DF1-B371-0088C7D9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6A71-9B50-4E8A-B9EB-90D19EA0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E7AD-56A1-4C2A-831B-1061AAE7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E67D-9032-4E79-9ADB-4D340F28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88E4-A0C0-44D2-946B-FA2666A8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CA08-4696-4DD6-917C-3941F3B3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834-1AC8-4159-AD47-10E58693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814A-40A5-415E-AAF3-2DD98081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3EAE-8A10-4296-9A12-79F917DE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EF5E-0151-4A9B-8CCC-5E82ABE8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EED0-D741-422F-B310-B4EAF6A6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C915-DE97-4E16-96D6-076F0C3D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441D1-BA1F-43C2-AF9B-DD2371E7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4A5DE-3A8A-4D4F-87B5-E6243A49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86A74-7849-48D1-8030-6BB6726C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ADBD7-0D25-483B-9756-C5A0817E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C9A02-B0D1-49E1-818C-48EF45B5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C99-4F88-4C10-81D5-B956B721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4E3A-84D1-40B0-8370-BECE1077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5813D-53C1-4D1D-8B29-17C07CE5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8127B-EC89-41F8-9069-78CA346E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044C9-B071-4407-AB31-2EDDA815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CE0C6-62E9-4849-B58A-ED1C24F8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43B9-6865-495B-A73C-1E8F607D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FB445-3065-4C0F-A05E-E36C09BB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898-8A9A-488B-8CD9-AC8A55E2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689-8D58-402F-B1CB-36DE9AEB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59F-A9A7-4D04-82AF-EB51FF1D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6FE-75CE-4F2D-BEF6-38895141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416-D2E7-456E-B430-552C2B0E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425-4CA3-4FF7-BC66-44F9E95F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2859-1FA1-4F2C-B8C4-01276C9D7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099F-1A2E-43ED-B14A-26C7734CC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192D-204B-4C87-93D5-365FCB74D3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Фильм.wmv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68680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6" descr="скат-хвостоко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кат-хвосток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img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Костные рыб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6" descr="осетр русск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Осетр рус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2362320" y="5867280"/>
            <a:ext cx="441936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ряд Осетрообраз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acipenser_stellatus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5"/>
          <p:cNvSpPr/>
          <p:nvPr/>
        </p:nvSpPr>
        <p:spPr>
          <a:xfrm>
            <a:off x="2743200" y="457200"/>
            <a:ext cx="4038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еврю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2971800" y="685800"/>
            <a:ext cx="2590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е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animal_t_519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8"/>
          <p:cNvSpPr/>
          <p:nvPr/>
        </p:nvSpPr>
        <p:spPr>
          <a:xfrm>
            <a:off x="1981080" y="304920"/>
            <a:ext cx="55627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ельдь тихоокеан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1905120" y="6095880"/>
            <a:ext cx="5333760" cy="5335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ряд Сельде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img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1905120" y="5867280"/>
            <a:ext cx="5333760" cy="5335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ряд Сельде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2208240" y="380880"/>
            <a:ext cx="47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льдь атлан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1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o_tshawitscha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6"/>
          <p:cNvSpPr/>
          <p:nvPr/>
        </p:nvSpPr>
        <p:spPr>
          <a:xfrm>
            <a:off x="3659400" y="38088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ем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1752480" y="5791320"/>
            <a:ext cx="5410440" cy="6858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тряд Лососеобраз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salmon3"/>
          <p:cNvPicPr/>
          <p:nvPr/>
        </p:nvPicPr>
        <p:blipFill>
          <a:blip r:embed="rId1"/>
          <a:stretch/>
        </p:blipFill>
        <p:spPr>
          <a:xfrm>
            <a:off x="0" y="-533520"/>
            <a:ext cx="9524880" cy="800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Rectangle 5"/>
          <p:cNvSpPr/>
          <p:nvPr/>
        </p:nvSpPr>
        <p:spPr>
          <a:xfrm>
            <a:off x="2971800" y="0"/>
            <a:ext cx="2438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3034440" y="-231840"/>
            <a:ext cx="18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гол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tris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5"/>
          <p:cNvSpPr/>
          <p:nvPr/>
        </p:nvSpPr>
        <p:spPr>
          <a:xfrm>
            <a:off x="3429000" y="304920"/>
            <a:ext cx="22860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3352680" y="304920"/>
            <a:ext cx="2362320" cy="7034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>
                  <a:alpha val="41176"/>
                </a:srgbClr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ар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2133720" y="5867280"/>
            <a:ext cx="45720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я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пообраз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be2624a653f16c87881deac2d45c9c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5"/>
          <p:cNvSpPr/>
          <p:nvPr/>
        </p:nvSpPr>
        <p:spPr>
          <a:xfrm>
            <a:off x="4192560" y="304920"/>
            <a:ext cx="127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2286000" y="31082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img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Многообразие ры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600"/>
                </a:solidFill>
                <a:latin typeface="Arial"/>
              </a:rPr>
              <a:t>ЦЕЛЬ УРОКА:  </a:t>
            </a:r>
            <a:r>
              <a:rPr b="1" lang="ru-RU" sz="2800" spc="-1" strike="noStrike">
                <a:solidFill>
                  <a:srgbClr val="fcf600"/>
                </a:solidFill>
                <a:latin typeface="Times New Roman"/>
              </a:rPr>
              <a:t>познакомиться с                       многообразием рыб;</a:t>
            </a:r>
            <a:r>
              <a:rPr b="1" lang="en-US" sz="2800" spc="-1" strike="noStrike">
                <a:solidFill>
                  <a:srgbClr val="fcf6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cf600"/>
                </a:solidFill>
                <a:latin typeface="Times New Roman"/>
              </a:rPr>
              <a:t> выявить признаки основных классов рыб; сформировать умения сравнивать и определять наиболее распространённые отряды рыб; воспитывать бережное отношение к природе</a:t>
            </a:r>
            <a:r>
              <a:rPr b="0" lang="ru-RU" sz="2800" spc="-1" strike="noStrike">
                <a:solidFill>
                  <a:srgbClr val="fcf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f6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Язь реч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окунь речно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кунь реч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533520" y="5105520"/>
            <a:ext cx="4267080" cy="7617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ряд Окунеоб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Щука обыкнов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8"/>
          <p:cNvSpPr/>
          <p:nvPr/>
        </p:nvSpPr>
        <p:spPr>
          <a:xfrm>
            <a:off x="2362320" y="380880"/>
            <a:ext cx="3352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уд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0_896c_1ffe0bdc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coelacanth-swimm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6"/>
          <p:cNvSpPr/>
          <p:nvPr/>
        </p:nvSpPr>
        <p:spPr>
          <a:xfrm>
            <a:off x="3429000" y="380880"/>
            <a:ext cx="2438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3429000" y="30492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тиме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Фильм_многообразие.wmv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3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img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писок литератур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 В.В. Латюшин  В.А. Шапкина «Биология. Животные. 7 класс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. Дрофа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 В.В. Латюшин  Г.А. Уфимцева «Биология. Животные. 7 класс: тематическое и     поурочное планирование к учебнику В.В.Латюшин В.А.Шапкина «Биолигия. Животные. 7 класс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. Дрофа,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 А.В.Онищенко «Биология в таблицах и схемах» СПБ ООО «Виктория плюс»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biolog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/19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 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ooec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/0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/0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b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-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ande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//9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g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kipedi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s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ok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3200400" y="457200"/>
            <a:ext cx="2819520" cy="60948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Picture 5" descr="img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9"/>
          <p:cNvSpPr/>
          <p:nvPr/>
        </p:nvSpPr>
        <p:spPr>
          <a:xfrm>
            <a:off x="3048120" y="457200"/>
            <a:ext cx="297180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3200400" y="457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ЛАС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1143000" y="1905120"/>
            <a:ext cx="2895480" cy="533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ЯЩЕВЫЕ РЫ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5029200" y="1905120"/>
            <a:ext cx="2743200" cy="533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ТНЫЕ РЫ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 flipH="1">
            <a:off x="3123720" y="1295280"/>
            <a:ext cx="11430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4800600" y="1295280"/>
            <a:ext cx="16002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6"/>
          <p:cNvSpPr/>
          <p:nvPr/>
        </p:nvSpPr>
        <p:spPr>
          <a:xfrm>
            <a:off x="228600" y="2971800"/>
            <a:ext cx="1676520" cy="6858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яд А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7"/>
          <p:cNvSpPr/>
          <p:nvPr/>
        </p:nvSpPr>
        <p:spPr>
          <a:xfrm>
            <a:off x="762120" y="4191120"/>
            <a:ext cx="2209680" cy="99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я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ер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8"/>
          <p:cNvSpPr/>
          <p:nvPr/>
        </p:nvSpPr>
        <p:spPr>
          <a:xfrm>
            <a:off x="2362320" y="3048120"/>
            <a:ext cx="1604880" cy="679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яд С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9"/>
          <p:cNvSpPr/>
          <p:nvPr/>
        </p:nvSpPr>
        <p:spPr>
          <a:xfrm>
            <a:off x="4572000" y="3505320"/>
            <a:ext cx="2209680" cy="99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я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уне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0"/>
          <p:cNvSpPr/>
          <p:nvPr/>
        </p:nvSpPr>
        <p:spPr>
          <a:xfrm>
            <a:off x="6705720" y="2971800"/>
            <a:ext cx="213336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я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етр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1"/>
          <p:cNvSpPr/>
          <p:nvPr/>
        </p:nvSpPr>
        <p:spPr>
          <a:xfrm>
            <a:off x="2743200" y="5105520"/>
            <a:ext cx="2209680" cy="838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я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п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2"/>
          <p:cNvSpPr/>
          <p:nvPr/>
        </p:nvSpPr>
        <p:spPr>
          <a:xfrm>
            <a:off x="6095880" y="4648320"/>
            <a:ext cx="22100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я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ьде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3"/>
          <p:cNvSpPr/>
          <p:nvPr/>
        </p:nvSpPr>
        <p:spPr>
          <a:xfrm>
            <a:off x="6934320" y="5791320"/>
            <a:ext cx="2209680" cy="10666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я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сосе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8"/>
          <p:cNvSpPr/>
          <p:nvPr/>
        </p:nvSpPr>
        <p:spPr>
          <a:xfrm flipH="1">
            <a:off x="761760" y="251460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9"/>
          <p:cNvSpPr/>
          <p:nvPr/>
        </p:nvSpPr>
        <p:spPr>
          <a:xfrm>
            <a:off x="2819520" y="259092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0"/>
          <p:cNvSpPr/>
          <p:nvPr/>
        </p:nvSpPr>
        <p:spPr>
          <a:xfrm flipH="1">
            <a:off x="1828800" y="2438280"/>
            <a:ext cx="45720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6"/>
          <p:cNvSpPr/>
          <p:nvPr/>
        </p:nvSpPr>
        <p:spPr>
          <a:xfrm flipH="1">
            <a:off x="5333760" y="2514600"/>
            <a:ext cx="68580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7"/>
          <p:cNvSpPr/>
          <p:nvPr/>
        </p:nvSpPr>
        <p:spPr>
          <a:xfrm>
            <a:off x="6858000" y="24382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8"/>
          <p:cNvSpPr/>
          <p:nvPr/>
        </p:nvSpPr>
        <p:spPr>
          <a:xfrm flipH="1">
            <a:off x="3886200" y="2438280"/>
            <a:ext cx="1371600" cy="2667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9"/>
          <p:cNvSpPr/>
          <p:nvPr/>
        </p:nvSpPr>
        <p:spPr>
          <a:xfrm>
            <a:off x="6400800" y="2438280"/>
            <a:ext cx="762120" cy="2210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0"/>
          <p:cNvSpPr/>
          <p:nvPr/>
        </p:nvSpPr>
        <p:spPr>
          <a:xfrm>
            <a:off x="7772400" y="2133720"/>
            <a:ext cx="11430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1"/>
          <p:cNvSpPr/>
          <p:nvPr/>
        </p:nvSpPr>
        <p:spPr>
          <a:xfrm>
            <a:off x="8839080" y="2743200"/>
            <a:ext cx="76320" cy="2666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2"/>
          <p:cNvSpPr/>
          <p:nvPr/>
        </p:nvSpPr>
        <p:spPr>
          <a:xfrm flipH="1">
            <a:off x="8381880" y="541008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img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Хрящевые рыб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ha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6"/>
          <p:cNvSpPr/>
          <p:nvPr/>
        </p:nvSpPr>
        <p:spPr>
          <a:xfrm>
            <a:off x="8229600" y="64008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акула.wmv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"/>
          <p:cNvPicPr/>
          <p:nvPr/>
        </p:nvPicPr>
        <p:blipFill>
          <a:blip r:embed="rId1"/>
          <a:srcRect l="18051" t="11328" r="18542" b="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Акула-мо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1277696547_gigant-ak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5"/>
          <p:cNvSpPr/>
          <p:nvPr/>
        </p:nvSpPr>
        <p:spPr>
          <a:xfrm>
            <a:off x="3352680" y="380880"/>
            <a:ext cx="35053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игантская ак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скат пятнистый орля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47560" y="5638320"/>
            <a:ext cx="6476760" cy="83844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кат пятнистый орля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13-01-07T16:48:1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