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42E-FD01-40EA-9688-D6D08F5B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8A2-CD71-4C83-8145-030F80FA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1E9-677D-4670-A24B-AD8B6C81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048-FCCA-46FE-891E-50210AB4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C71F-8D72-4749-AED3-3972410D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E792-0602-4B7D-96E7-7C24875B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C4E0-3C9B-4C78-A6B9-EC0EA93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5D6D-1162-4731-BDC4-2D65FD7F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D691-D21E-47FF-8136-946DACC6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20A5-CADA-47E0-AF4A-B53186AC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7A5B-1703-4E40-86E1-5361BD34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775-EEA0-4F98-A491-75365D39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EDA2-D6D5-4098-8141-EE84C05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86BB-958D-4121-9A9A-A5141F4F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B399-498B-4780-8A05-ECB2047F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2C21-9EBB-49C6-936A-7246FC55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13E3-41D3-4E05-A00F-F808F0C8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908-EF01-4C2E-B8FD-AB3CF9EB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4D0-5391-4E11-A459-18228DE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0F4-5094-475D-A0C3-2B24D28D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29C-8B6C-472D-909E-E95BD5FB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AEC-924C-464B-9729-BDB8BA4C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010-8BCF-4F09-BE92-941FFBC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2F9-0A49-4A3B-ACFE-C2D9428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3102-7426-4A3F-AA10-D3CA48573F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498B-D5DB-48AF-A683-9F56BABC3D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-243360"/>
            <a:ext cx="678204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GOTH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 are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ndead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pearanc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blackest blac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ewelle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lack hai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787480" cy="29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41050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ature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907920"/>
            <a:ext cx="3409920" cy="494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4537080" cy="3414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racula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meter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ath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sic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120920" cy="392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7480" y="189000"/>
            <a:ext cx="335592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140360" y="227664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tto Dix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Sisters of Mercy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0:08:29Z</dcterms:created>
  <dc:creator>STIBA</dc:creator>
  <dc:description/>
  <dc:language>en-US</dc:language>
  <cp:lastModifiedBy>Admin</cp:lastModifiedBy>
  <dcterms:modified xsi:type="dcterms:W3CDTF">2012-03-22T13:32:03Z</dcterms:modified>
  <cp:revision>4</cp:revision>
  <dc:subject/>
  <dc:title>GOTH </dc:title>
</cp:coreProperties>
</file>