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84E-9963-4401-AF60-CC8214C8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08E-9EA0-47A7-ACB3-1410C8C8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607-00AD-4FEB-8377-6ADA2E84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938-055B-4B3B-A6FC-A8C212D8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F53-5A63-414E-A972-8E8B3D47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C579-C340-40E5-95DF-9559B6A4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438-B78C-42E3-836B-4BF0BFF6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CFAE-577B-487F-B434-7CADC02A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8F1-D045-4E1B-9ECD-8751FE50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D085-7C9C-48EF-ADFC-C35BE498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D27-63C7-4911-A4A4-F6ABE715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159B-BAE1-49C3-A0FC-0EA2C4AF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D846-0B5F-40DC-B723-432D51160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195200"/>
            <a:ext cx="69404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66ff"/>
                </a:solidFill>
                <a:uFillTx/>
                <a:latin typeface="Arial"/>
              </a:rPr>
              <a:t>Голуб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- северный кустарничек со съедобными сизо-голубыми ягод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5:48:26Z</dcterms:created>
  <dc:creator>Admin</dc:creator>
  <dc:description/>
  <dc:language>en-US</dc:language>
  <cp:lastModifiedBy>Admin</cp:lastModifiedBy>
  <dcterms:modified xsi:type="dcterms:W3CDTF">2009-05-12T15:48:26Z</dcterms:modified>
  <cp:revision>1</cp:revision>
  <dc:subject/>
  <dc:title>Слайд 1</dc:title>
</cp:coreProperties>
</file>