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69A-CE63-48BF-9403-DBBE2353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BCA-B1EE-41EE-BBB2-A6D835C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A81-016D-4182-94F0-931DD142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423-BE0D-4524-B385-6421BEF2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029-0D08-4B65-96BF-0AC8BE9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E5A-6326-48DD-9870-2A4F6F0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DE7-2BEA-47DD-8B57-E6CA94E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D2C-9207-4DC1-889F-B0023D2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1BC-9C9E-40C5-A651-0B828487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D9A-298A-4CFE-9188-67300245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6FF-837A-49E4-BDA6-D5D97EF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C41-C363-4861-803D-F4418A5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D8B-4DE5-4487-BF3C-97F9FB36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d2082a"/>
                </a:solidFill>
                <a:uFillTx/>
                <a:latin typeface="Arial"/>
              </a:rPr>
              <a:t>Брусника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– лесной стелющийся кустарничек с кожистыми вечнозелеными листьями и съедобными красными ягода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54:34Z</dcterms:created>
  <dc:creator>Admin</dc:creator>
  <dc:description/>
  <dc:language>en-US</dc:language>
  <cp:lastModifiedBy>Admin</cp:lastModifiedBy>
  <dcterms:modified xsi:type="dcterms:W3CDTF">2009-05-12T15:54:34Z</dcterms:modified>
  <cp:revision>1</cp:revision>
  <dc:subject/>
  <dc:title>Слайд 1</dc:title>
</cp:coreProperties>
</file>