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D29A-EF67-41FE-BC77-5C42F41CB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723A-747E-4358-8601-179D5D0A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C9E6-5AFF-4EB5-A7D8-B4F8C997A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0C0C-D916-4835-87D1-B07C2C115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025B-30E5-4798-A5C4-35E605F3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9AAE-4A48-4C99-8196-21E20CB1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3C60-CBAA-4D9B-8094-89C6A68B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8C0C-CCCC-416B-B8DA-C5B5FA54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9931-C939-4AF8-89A4-6176E832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25AA-3540-4A67-B426-446E48C4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DD7A-D344-4845-B944-CC538660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1F6F-7807-4C4A-B3A8-AB27218D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A4C9-328C-4A17-9874-A5EB4B469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1266480"/>
            <a:ext cx="820908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Морошка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– болотное растение со съедобными рыжевато-желтыми душистыми ягод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15:44:21Z</dcterms:created>
  <dc:creator>Admin</dc:creator>
  <dc:description/>
  <dc:language>en-US</dc:language>
  <cp:lastModifiedBy>Admin</cp:lastModifiedBy>
  <dcterms:modified xsi:type="dcterms:W3CDTF">2009-05-12T15:44:21Z</dcterms:modified>
  <cp:revision>1</cp:revision>
  <dc:subject/>
  <dc:title>Слайд 1</dc:title>
</cp:coreProperties>
</file>