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FDE-BF1C-46A7-B252-4ABD18A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A82-0F8A-4D4B-91DD-B2C2FE5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A0F-95B3-47F7-88D3-FFAB9AA1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BC9-A01C-47AD-9615-9ACD02E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BAA-9E0F-4B46-A1E7-7835A167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3C5-11CD-4E18-99B5-C0AB919F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07D-60EC-42E4-8F4B-75D9ACAB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825-77EA-4AEF-82FE-0320BA3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D71-B7E9-4A9E-8F6A-4D3D849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C27-CA8E-47B9-9D86-42569B8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53A-528A-4F67-BFE2-5ED3DE44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065-0C9E-499C-9823-D6DAC1B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9F5-8E19-4F8B-93D0-391D570AC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412280"/>
            <a:ext cx="64818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990033"/>
                </a:solidFill>
                <a:uFillTx/>
                <a:latin typeface="Arial"/>
              </a:rPr>
              <a:t>Клюк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мелкий стелющийся кустарничек с вечнозелеными листьями и темно-красными ягод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52:12Z</dcterms:created>
  <dc:creator>Admin</dc:creator>
  <dc:description/>
  <dc:language>en-US</dc:language>
  <cp:lastModifiedBy>Admin</cp:lastModifiedBy>
  <dcterms:modified xsi:type="dcterms:W3CDTF">2009-05-12T15:52:12Z</dcterms:modified>
  <cp:revision>1</cp:revision>
  <dc:subject/>
  <dc:title>Слайд 1</dc:title>
</cp:coreProperties>
</file>