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615-63A5-430C-B906-EF73A141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28C-86FD-4E9C-B347-FFD1064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646-4620-412E-B96A-94C27AE2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81D-91B7-4040-BA6D-2B28B49E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CD2-A4B6-4BAF-99F3-1AB8D25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BEF-6569-4F22-8DB7-4FC8862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B67-5AC6-4B8B-873A-4E287700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5B7-6215-433A-96A5-1715F7B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786-5754-4DC4-A57C-0954601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496-19C7-40A3-8105-759B764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847-9751-4506-A270-F2C8D8A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B86-2E3A-4BAE-A01D-88EBDEB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4C1-12C6-4E4E-8A18-DBB294C19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266480"/>
            <a:ext cx="6120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Чер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– мелкий дикорастущий кустарничек с ягодами черно-синего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50:34Z</dcterms:created>
  <dc:creator>Admin</dc:creator>
  <dc:description/>
  <dc:language>en-US</dc:language>
  <cp:lastModifiedBy>Admin</cp:lastModifiedBy>
  <dcterms:modified xsi:type="dcterms:W3CDTF">2009-05-12T15:50:34Z</dcterms:modified>
  <cp:revision>1</cp:revision>
  <dc:subject/>
  <dc:title>Слайд 1</dc:title>
</cp:coreProperties>
</file>