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5BF-7DFF-4225-AFB0-0BB9B1D8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359-EAB6-43D5-B851-7079BB89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09A-80C1-4752-B4E1-C241A2F6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C5E-F5C1-497C-A7D3-6CC273AE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EA1-A290-4794-9696-63B9FF9E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ADD-8C04-470C-B05C-DABAE3D4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C88-E049-4451-9850-54364615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7B7-A6C1-43C2-8266-D70754A8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3AE-28FA-499A-9E20-E389CB77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D5C-A5DE-4434-AFE0-4A00EDEE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628-30E4-4B37-AF0B-FBD0E90E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21B-B314-4881-8B70-431D039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4C5F-D2F9-4E78-9965-2B210D02C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готовление шипа с полупотем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319572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ш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ладывание длины шипа по лин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476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ш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несение линии разметки по уголь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7600" y="2895480"/>
            <a:ext cx="18194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ш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тка толщины шипа рейсм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14954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ш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тка толщины шипа рейсм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2819520"/>
            <a:ext cx="1638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ш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19004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ш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19083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ш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20304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ш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19861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IMIR</cp:lastModifiedBy>
  <dcterms:modified xsi:type="dcterms:W3CDTF">2012-01-30T19:30:0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