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.png" ContentType="image/png"/>
  <Override PartName="/ppt/media/image2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3.png" ContentType="image/png"/>
  <Override PartName="/ppt/media/image26.png" ContentType="image/png"/>
  <Override PartName="/ppt/media/image29.gif" ContentType="image/gif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03F2-D8BB-42DB-8B71-7BAEECB116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324A-7E17-4770-9692-0DB7E7B28A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07E1-1D01-47D0-8701-2D5D89DA78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2F0-F974-49B5-8DAD-EB8E802E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677-99EA-4B31-AFE8-3F83202E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0CF-2AD5-4992-90FB-56B4BC0E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FB7-F968-4305-B870-9F656EF3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D6F-E6EE-4FC8-8465-C5A634D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9E8-9A62-40CA-978B-E745C831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28A-0EC3-4CDA-981A-92B9C5A5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FA5-A20D-46C7-87D4-4A2D541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872-0205-4C1D-A0A3-DA3AE205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7E4-9B2F-42B1-B0F8-D84792BA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12F-DFA8-4308-A63B-E6C2A95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A0C-AD0F-47DC-BB87-A6B9AE4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C0D-233F-47FA-BB3F-42848B2982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5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Bookman Old Style"/>
              </a:rPr>
              <a:t>МБОУ Знаменская СОШ</a:t>
            </a:r>
            <a:br>
              <a:rPr sz="1400"/>
            </a:br>
            <a:r>
              <a:rPr b="0" lang="ru-RU" sz="4400" spc="-1" strike="noStrike">
                <a:solidFill>
                  <a:srgbClr val="eeece1"/>
                </a:solidFill>
                <a:latin typeface="Bookman Old Style"/>
              </a:rPr>
              <a:t>Урок математики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6 клас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ы готовы к урок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Mistral"/>
              </a:rPr>
              <a:t>Физминутка</a:t>
            </a:r>
            <a:endParaRPr b="0" lang="en-US" sz="72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8) + (+3)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+53)+(-35)=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-0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09)+(+0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09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15) +(-8)=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-67)+(+67)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9)+(+17)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24) + (+19)=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-245)+(+300)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12)+(-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skazka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C:\Documents and Settings\YAROSLAV\Мои документы\Мои рисунки\9dc9f229e90fabf5c2832f7e31a9fcc6.gif"/>
          <p:cNvPicPr/>
          <p:nvPr/>
        </p:nvPicPr>
        <p:blipFill>
          <a:blip r:embed="rId2"/>
          <a:stretch/>
        </p:blipFill>
        <p:spPr>
          <a:xfrm>
            <a:off x="853920" y="4992840"/>
            <a:ext cx="1724040" cy="17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3.0)">
                                      <p:cBhvr>
                                        <p:cTn id="379" dur="16313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Bookman Old Style"/>
              </a:rPr>
              <a:t>Как сложить два отрицательных числа? 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0020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Bookman Old Style"/>
              </a:rPr>
              <a:t>Поставить в ответ мину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Bookman Old Style"/>
              </a:rPr>
              <a:t>Сложить модул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Запомни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При сложении двух чисел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ы на знаки посмотр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Если одинаковы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Модули ты их сложи!  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Перед суммой непременно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ы поставь их «общий» знак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-2+(-3), станет с минусом пятак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9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3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7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вальная выноска 28"/>
          <p:cNvSpPr/>
          <p:nvPr/>
        </p:nvSpPr>
        <p:spPr>
          <a:xfrm rot="12028200">
            <a:off x="1775880" y="2385720"/>
            <a:ext cx="5418360" cy="4195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29"/>
          <p:cNvSpPr/>
          <p:nvPr/>
        </p:nvSpPr>
        <p:spPr>
          <a:xfrm>
            <a:off x="3143160" y="3357720"/>
            <a:ext cx="350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«Найти сумму всех целых чисел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 – 499 до 501»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Горизонтальный свиток 26"/>
          <p:cNvSpPr/>
          <p:nvPr/>
        </p:nvSpPr>
        <p:spPr>
          <a:xfrm>
            <a:off x="357120" y="0"/>
            <a:ext cx="6143760" cy="28576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рахмагуп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дийский математик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Sylfaen"/>
              </a:rPr>
              <a:t>ІІ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ве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7" descr="карт5"/>
          <p:cNvPicPr/>
          <p:nvPr/>
        </p:nvPicPr>
        <p:blipFill>
          <a:blip r:embed="rId1"/>
          <a:stretch/>
        </p:blipFill>
        <p:spPr>
          <a:xfrm>
            <a:off x="6480000" y="214200"/>
            <a:ext cx="2664000" cy="2376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6315120" cy="33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23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0" y="2276640"/>
            <a:ext cx="3708360" cy="231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0" y="4543560"/>
            <a:ext cx="3708360" cy="2314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5"/>
          <a:stretch/>
        </p:blipFill>
        <p:spPr>
          <a:xfrm>
            <a:off x="3708360" y="0"/>
            <a:ext cx="3168720" cy="2852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6"/>
          <a:stretch/>
        </p:blipFill>
        <p:spPr>
          <a:xfrm>
            <a:off x="3500280" y="2500200"/>
            <a:ext cx="3168720" cy="285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7"/>
          <a:stretch/>
        </p:blipFill>
        <p:spPr>
          <a:xfrm>
            <a:off x="3571920" y="5286240"/>
            <a:ext cx="3429000" cy="15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8"/>
          <a:stretch/>
        </p:blipFill>
        <p:spPr>
          <a:xfrm>
            <a:off x="6572160" y="2357280"/>
            <a:ext cx="2571840" cy="29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9"/>
          <a:stretch/>
        </p:blipFill>
        <p:spPr>
          <a:xfrm>
            <a:off x="6858000" y="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"/>
          <p:cNvPicPr/>
          <p:nvPr/>
        </p:nvPicPr>
        <p:blipFill>
          <a:blip r:embed="rId10"/>
          <a:stretch/>
        </p:blipFill>
        <p:spPr>
          <a:xfrm>
            <a:off x="7000920" y="5005440"/>
            <a:ext cx="2143080" cy="1852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3"/>
          <p:cNvSpPr/>
          <p:nvPr/>
        </p:nvSpPr>
        <p:spPr>
          <a:xfrm>
            <a:off x="714240" y="64296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2+9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3929040" y="3786120"/>
            <a:ext cx="25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78+(-179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7000920" y="85716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97+ (-19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357120" y="52149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101+(-12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7000920" y="371484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228+6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428760" y="3000240"/>
            <a:ext cx="33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163+(-2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3857760" y="564372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185+(-115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7358040" y="578628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+(-5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4071960" y="100008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300+30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0200" y="5357520"/>
            <a:ext cx="392904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Bookman Old Style"/>
              </a:rPr>
              <a:t>Урок окончен!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137" name="Picture 6" descr="186"/>
          <p:cNvPicPr/>
          <p:nvPr/>
        </p:nvPicPr>
        <p:blipFill>
          <a:blip r:embed="rId1"/>
          <a:stretch/>
        </p:blipFill>
        <p:spPr>
          <a:xfrm>
            <a:off x="4500720" y="1415880"/>
            <a:ext cx="3071520" cy="3017880"/>
          </a:xfrm>
          <a:prstGeom prst="rect">
            <a:avLst/>
          </a:prstGeom>
          <a:ln w="0">
            <a:noFill/>
          </a:ln>
        </p:spPr>
      </p:pic>
      <p:sp>
        <p:nvSpPr>
          <p:cNvPr id="138" name="Lock"/>
          <p:cNvSpPr/>
          <p:nvPr/>
        </p:nvSpPr>
        <p:spPr>
          <a:xfrm rot="1054200">
            <a:off x="4457880" y="3192120"/>
            <a:ext cx="1000080" cy="12859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1785960" y="357120"/>
            <a:ext cx="59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eece1"/>
                </a:solidFill>
                <a:latin typeface="Bookman Old Style"/>
              </a:rPr>
              <a:t>Вот и сказке конец…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ыучить правило на стр.18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очинить сказку по тем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Придумать 10 примеров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а сложение положительных чисе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а сложение отрицательных чисе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а сложение чисел с разными знак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282680" y="596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Bookman Old Style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5" descr="30"/>
          <p:cNvPicPr/>
          <p:nvPr/>
        </p:nvPicPr>
        <p:blipFill>
          <a:blip r:embed="rId1"/>
          <a:stretch/>
        </p:blipFill>
        <p:spPr>
          <a:xfrm>
            <a:off x="6659640" y="4842000"/>
            <a:ext cx="206676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6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Bookman Old Style"/>
              </a:rPr>
              <a:t>Умеете ли вы складывать числа?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Проблем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ложение чисел с разными знака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Овал 3"/>
          <p:cNvSpPr/>
          <p:nvPr/>
        </p:nvSpPr>
        <p:spPr>
          <a:xfrm>
            <a:off x="2714760" y="1357200"/>
            <a:ext cx="1143000" cy="1071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2322360" y="-396720"/>
            <a:ext cx="4784760" cy="1976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1359000"/>
            <a:ext cx="513252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3"/>
          <a:stretch/>
        </p:blipFill>
        <p:spPr>
          <a:xfrm>
            <a:off x="158760" y="2792520"/>
            <a:ext cx="84916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Выгнутая вправо стрелка 8"/>
          <p:cNvSpPr/>
          <p:nvPr/>
        </p:nvSpPr>
        <p:spPr>
          <a:xfrm rot="1975800">
            <a:off x="5791320" y="1379160"/>
            <a:ext cx="3308400" cy="1139760"/>
          </a:xfrm>
          <a:custGeom>
            <a:avLst/>
            <a:gdLst>
              <a:gd name="textAreaLeft" fmla="*/ 443160 w 3308400"/>
              <a:gd name="textAreaRight" fmla="*/ 2865240 w 3308400"/>
              <a:gd name="textAreaTop" fmla="*/ 177840 h 1139760"/>
              <a:gd name="textAreaBottom" fmla="*/ 81936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2684746"/>
                <a:lnTo>
                  <a:pt x="6495" y="21288"/>
                </a:lnTo>
                <a:lnTo>
                  <a:pt x="0" y="16200"/>
                </a:lnTo>
                <a:lnTo>
                  <a:pt x="6495" y="10488"/>
                </a:lnTo>
                <a:lnTo>
                  <a:pt x="6495" y="13188"/>
                </a:lnTo>
                <a:arcTo wR="21600" hR="6750" stAng="2684746" swAng="-221876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рицательны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Выгнутая влево стрелка 6"/>
          <p:cNvSpPr/>
          <p:nvPr/>
        </p:nvSpPr>
        <p:spPr>
          <a:xfrm rot="19932600">
            <a:off x="-50400" y="1520640"/>
            <a:ext cx="3632040" cy="682560"/>
          </a:xfrm>
          <a:custGeom>
            <a:avLst/>
            <a:gdLst>
              <a:gd name="textAreaLeft" fmla="*/ 486360 w 3632040"/>
              <a:gd name="textAreaRight" fmla="*/ 3145680 w 3632040"/>
              <a:gd name="textAreaTop" fmla="*/ 100440 h 682560"/>
              <a:gd name="textAreaBottom" fmla="*/ 520560 h 6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372" stAng="-5400000" swAng="-5400000"/>
                <a:lnTo>
                  <a:pt x="0" y="13284"/>
                </a:lnTo>
                <a:arcTo wR="21600" hR="6372" stAng="10800000" swAng="-3155040"/>
                <a:lnTo>
                  <a:pt x="16845" y="21444"/>
                </a:lnTo>
                <a:lnTo>
                  <a:pt x="21600" y="16200"/>
                </a:lnTo>
                <a:lnTo>
                  <a:pt x="16845" y="10644"/>
                </a:lnTo>
                <a:lnTo>
                  <a:pt x="16845" y="12588"/>
                </a:lnTo>
                <a:arcTo wR="21600" hR="6372" stAng="7644960" swAng="2508086"/>
                <a:lnTo>
                  <a:pt x="3453" y="9828"/>
                </a:lnTo>
                <a:arcTo wR="21600" hR="6372" stAng="-10153046" swAng="4753046"/>
                <a:close/>
              </a:path>
              <a:path fill="darkenLess" w="21600" h="21600">
                <a:moveTo>
                  <a:pt x="21600" y="0"/>
                </a:moveTo>
                <a:arcTo wR="21600" hR="6372" stAng="-5400000" swAng="-5400000"/>
                <a:lnTo>
                  <a:pt x="0" y="6372"/>
                </a:lnTo>
                <a:arcTo wR="21600" hR="6372" stAng="10800000" swAng="-646954"/>
                <a:lnTo>
                  <a:pt x="3453" y="9828"/>
                </a:lnTo>
                <a:arcTo wR="21600" hR="6372" stAng="-10153046" swAng="475304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ложительны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Mistral"/>
              </a:rPr>
              <a:t>Герои сказок</a:t>
            </a:r>
            <a:endParaRPr b="0" lang="en-US" sz="72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2627280" y="2786040"/>
            <a:ext cx="3889440" cy="11462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2"/>
          <a:stretch/>
        </p:blipFill>
        <p:spPr>
          <a:xfrm>
            <a:off x="2944800" y="3529080"/>
            <a:ext cx="3084480" cy="14810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9" descr=""/>
          <p:cNvPicPr/>
          <p:nvPr/>
        </p:nvPicPr>
        <p:blipFill>
          <a:blip r:embed="rId3"/>
          <a:stretch/>
        </p:blipFill>
        <p:spPr>
          <a:xfrm>
            <a:off x="2822400" y="2749680"/>
            <a:ext cx="3499200" cy="1334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2792520"/>
            <a:ext cx="4492800" cy="11030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1" descr=""/>
          <p:cNvPicPr/>
          <p:nvPr/>
        </p:nvPicPr>
        <p:blipFill>
          <a:blip r:embed="rId5"/>
          <a:stretch/>
        </p:blipFill>
        <p:spPr>
          <a:xfrm>
            <a:off x="2822400" y="2773440"/>
            <a:ext cx="3486240" cy="12128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2" descr=""/>
          <p:cNvPicPr/>
          <p:nvPr/>
        </p:nvPicPr>
        <p:blipFill>
          <a:blip r:embed="rId6"/>
          <a:stretch/>
        </p:blipFill>
        <p:spPr>
          <a:xfrm>
            <a:off x="2286000" y="2773440"/>
            <a:ext cx="4559400" cy="12128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3" descr=""/>
          <p:cNvPicPr/>
          <p:nvPr/>
        </p:nvPicPr>
        <p:blipFill>
          <a:blip r:embed="rId7"/>
          <a:stretch/>
        </p:blipFill>
        <p:spPr>
          <a:xfrm>
            <a:off x="1944720" y="2736720"/>
            <a:ext cx="3267000" cy="12495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4" descr=""/>
          <p:cNvPicPr/>
          <p:nvPr/>
        </p:nvPicPr>
        <p:blipFill>
          <a:blip r:embed="rId8"/>
          <a:stretch/>
        </p:blipFill>
        <p:spPr>
          <a:xfrm>
            <a:off x="1994040" y="2773440"/>
            <a:ext cx="2693880" cy="121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931 0 E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3064E-006 L 0.26041 -0.29664 E">
                                      <p:cBhvr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7399 L -0.25469 -0.14682 E">
                                      <p:cBhvr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d3365a70f643"/>
          <p:cNvPicPr/>
          <p:nvPr/>
        </p:nvPicPr>
        <p:blipFill>
          <a:blip r:embed="rId1"/>
          <a:stretch/>
        </p:blipFill>
        <p:spPr>
          <a:xfrm>
            <a:off x="208080" y="920880"/>
            <a:ext cx="109692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3365a70f643"/>
          <p:cNvPicPr/>
          <p:nvPr/>
        </p:nvPicPr>
        <p:blipFill>
          <a:blip r:embed="rId2"/>
          <a:stretch/>
        </p:blipFill>
        <p:spPr>
          <a:xfrm>
            <a:off x="8058240" y="5565600"/>
            <a:ext cx="1092240" cy="97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3365a70f643"/>
          <p:cNvPicPr/>
          <p:nvPr/>
        </p:nvPicPr>
        <p:blipFill>
          <a:blip r:embed="rId3"/>
          <a:stretch/>
        </p:blipFill>
        <p:spPr>
          <a:xfrm>
            <a:off x="341280" y="5413320"/>
            <a:ext cx="1176480" cy="105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3365a70f643"/>
          <p:cNvPicPr/>
          <p:nvPr/>
        </p:nvPicPr>
        <p:blipFill>
          <a:blip r:embed="rId4"/>
          <a:stretch/>
        </p:blipFill>
        <p:spPr>
          <a:xfrm>
            <a:off x="7639200" y="493560"/>
            <a:ext cx="1212840" cy="108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3365a70f643"/>
          <p:cNvPicPr/>
          <p:nvPr/>
        </p:nvPicPr>
        <p:blipFill>
          <a:blip r:embed="rId5"/>
          <a:stretch/>
        </p:blipFill>
        <p:spPr>
          <a:xfrm>
            <a:off x="7924680" y="3425760"/>
            <a:ext cx="1090800" cy="974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Documents and Settings\YAROSLAV\Мои документы\Мои рисунки\9dc9f229e90fabf5c2832f7e31a9fcc6.gif"/>
          <p:cNvPicPr/>
          <p:nvPr/>
        </p:nvPicPr>
        <p:blipFill>
          <a:blip r:embed="rId6"/>
          <a:stretch/>
        </p:blipFill>
        <p:spPr>
          <a:xfrm>
            <a:off x="2066760" y="1279440"/>
            <a:ext cx="1938600" cy="194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:\Documents and Settings\YAROSLAV\Мои документы\Мои рисунки\9dc9f229e90fabf5c2832f7e31a9fcc6.gif"/>
          <p:cNvPicPr/>
          <p:nvPr/>
        </p:nvPicPr>
        <p:blipFill>
          <a:blip r:embed="rId7"/>
          <a:stretch/>
        </p:blipFill>
        <p:spPr>
          <a:xfrm>
            <a:off x="3279600" y="4925880"/>
            <a:ext cx="1725840" cy="172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C:\Documents and Settings\YAROSLAV\Мои документы\Мои рисунки\9dc9f229e90fabf5c2832f7e31a9fcc6.gif"/>
          <p:cNvPicPr/>
          <p:nvPr/>
        </p:nvPicPr>
        <p:blipFill>
          <a:blip r:embed="rId8"/>
          <a:stretch/>
        </p:blipFill>
        <p:spPr>
          <a:xfrm>
            <a:off x="5425920" y="2706840"/>
            <a:ext cx="1938600" cy="194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Documents and Settings\YAROSLAV\Мои документы\Мои рисунки\9dc9f229e90fabf5c2832f7e31a9fcc6.gif"/>
          <p:cNvPicPr/>
          <p:nvPr/>
        </p:nvPicPr>
        <p:blipFill>
          <a:blip r:embed="rId9"/>
          <a:stretch/>
        </p:blipFill>
        <p:spPr>
          <a:xfrm>
            <a:off x="208080" y="27068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1360" y="1643040"/>
            <a:ext cx="65005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ece1"/>
                </a:solidFill>
                <a:latin typeface="Mistral"/>
              </a:rPr>
              <a:t>…</a:t>
            </a:r>
            <a:r>
              <a:rPr b="1" lang="ru-RU" sz="6000" spc="-1" strike="noStrike">
                <a:solidFill>
                  <a:srgbClr val="eeece1"/>
                </a:solidFill>
                <a:latin typeface="Mistral"/>
              </a:rPr>
              <a:t>Жили-были два числа </a:t>
            </a:r>
            <a:br>
              <a:rPr sz="6000"/>
            </a:br>
            <a:r>
              <a:rPr b="1" lang="ru-RU" sz="6000" spc="-1" strike="noStrike">
                <a:solidFill>
                  <a:srgbClr val="eeece1"/>
                </a:solidFill>
                <a:latin typeface="Mistral"/>
              </a:rPr>
              <a:t> </a:t>
            </a:r>
            <a:endParaRPr b="0" lang="en-US" sz="6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296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Итак, сказка начинаетс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Заголовок 11"/>
          <p:cNvSpPr/>
          <p:nvPr/>
        </p:nvSpPr>
        <p:spPr>
          <a:xfrm>
            <a:off x="357120" y="2643120"/>
            <a:ext cx="77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ece1"/>
                </a:solidFill>
                <a:latin typeface="Mistral"/>
              </a:rPr>
              <a:t>и были у них разные знаки </a:t>
            </a:r>
            <a:br>
              <a:rPr sz="6000"/>
            </a:br>
            <a:r>
              <a:rPr b="1" lang="ru-RU" sz="6000" spc="-1" strike="noStrike">
                <a:solidFill>
                  <a:srgbClr val="eeece1"/>
                </a:solidFill>
                <a:latin typeface="Mistr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457200" y="285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571680" y="43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28760" y="4143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eece1"/>
                </a:solidFill>
                <a:latin typeface="Mistral"/>
              </a:rPr>
              <a:t>Решили они сразиться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skazka2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109" dur="19113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14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Mistral"/>
              </a:rPr>
              <a:t>Стали числа сражаться…</a:t>
            </a:r>
            <a:br>
              <a:rPr sz="4000"/>
            </a:br>
            <a:r>
              <a:rPr b="0" lang="ru-RU" sz="4000" spc="-1" strike="noStrike">
                <a:solidFill>
                  <a:srgbClr val="eeece1"/>
                </a:solidFill>
                <a:latin typeface="Mistral"/>
              </a:rPr>
              <a:t>Кто же победит ?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У кого больше сил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Чьи силы иссякнут, а у кого останутся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Каким будет результат сражения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делайте выво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Kiki's_Delivery_Service-Joe_Hisaishi-A_Town_Where_You_Can_See_the_Ocean.wma" descr=""/>
          <p:cNvPicPr/>
          <p:nvPr/>
        </p:nvPicPr>
        <p:blipFill>
          <a:blip r:embed="rId1"/>
          <a:stretch/>
        </p:blipFill>
        <p:spPr>
          <a:xfrm>
            <a:off x="778680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4"/>
          <p:cNvPicPr/>
          <p:nvPr/>
        </p:nvPicPr>
        <p:blipFill>
          <a:blip r:embed="rId2"/>
          <a:stretch/>
        </p:blipFill>
        <p:spPr>
          <a:xfrm>
            <a:off x="5500800" y="3608280"/>
            <a:ext cx="3643200" cy="308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.0)">
                                      <p:cBhvr>
                                        <p:cTn id="164" dur="17441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Bookman Old Style"/>
              </a:rPr>
              <a:t>Правило сложения чисел с разными знаками</a:t>
            </a:r>
            <a:endParaRPr b="0" lang="en-US" sz="28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Чтобы сложить два числа с разными знаками надо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Сравнить модули чисе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ставить в ответ знак числа с большим модуле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Из большего модуля вычесть меньш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6" descr="d3365a70f643"/>
          <p:cNvPicPr/>
          <p:nvPr/>
        </p:nvPicPr>
        <p:blipFill>
          <a:blip r:embed="rId1"/>
          <a:stretch/>
        </p:blipFill>
        <p:spPr>
          <a:xfrm>
            <a:off x="1206360" y="4853160"/>
            <a:ext cx="1092240" cy="974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:\Documents and Settings\YAROSLAV\Мои документы\Мои рисунки\9dc9f229e90fabf5c2832f7e31a9fcc6.gif"/>
          <p:cNvPicPr/>
          <p:nvPr/>
        </p:nvPicPr>
        <p:blipFill>
          <a:blip r:embed="rId2"/>
          <a:stretch/>
        </p:blipFill>
        <p:spPr>
          <a:xfrm>
            <a:off x="2779560" y="3780000"/>
            <a:ext cx="172584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13920" y="1356840"/>
            <a:ext cx="692964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Если числа разных знаков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Победит «сильнейший знак»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Разность модулей найди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И всё время делай так!     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19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1600200"/>
            <a:ext cx="268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+0,9=                                  1,7+7,3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,2+8=                                 4+0,8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5+4,3=                                   9+17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0,04+0,2=                              2,7+0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Содержимое 3"/>
          <p:cNvSpPr/>
          <p:nvPr/>
        </p:nvSpPr>
        <p:spPr>
          <a:xfrm>
            <a:off x="5429160" y="1285920"/>
            <a:ext cx="2352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2,1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5,6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+ 2,2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3,2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0,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8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0,16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2,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Bookman Old Style"/>
              </a:rPr>
              <a:t>Самостоятельная работа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28640" y="1428480"/>
            <a:ext cx="2352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3+0,9=                                  1,7+(-7,3)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,2+(-8)=                                 -4+0,8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5+4,3=                                   9+(-17)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0,04+(-0,2)=                              -2,7+0=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10" descr="C:\Documents and Settings\YAROSLAV\Мои документы\Мои рисунки\9dc9f229e90fabf5c2832f7e31a9fcc6.gif"/>
          <p:cNvPicPr/>
          <p:nvPr/>
        </p:nvPicPr>
        <p:blipFill>
          <a:blip r:embed="rId1"/>
          <a:stretch/>
        </p:blipFill>
        <p:spPr>
          <a:xfrm>
            <a:off x="493560" y="1279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Documents and Settings\YAROSLAV\Мои документы\Мои рисунки\9dc9f229e90fabf5c2832f7e31a9fcc6.gif"/>
          <p:cNvPicPr/>
          <p:nvPr/>
        </p:nvPicPr>
        <p:blipFill>
          <a:blip r:embed="rId2"/>
          <a:stretch/>
        </p:blipFill>
        <p:spPr>
          <a:xfrm>
            <a:off x="420840" y="2992320"/>
            <a:ext cx="1731960" cy="172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Documents and Settings\YAROSLAV\Мои документы\Мои рисунки\9dc9f229e90fabf5c2832f7e31a9fcc6.gif"/>
          <p:cNvPicPr/>
          <p:nvPr/>
        </p:nvPicPr>
        <p:blipFill>
          <a:blip r:embed="rId3"/>
          <a:stretch/>
        </p:blipFill>
        <p:spPr>
          <a:xfrm>
            <a:off x="633240" y="4705200"/>
            <a:ext cx="1731960" cy="173196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3286080" y="3000240"/>
            <a:ext cx="348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Bookman Old Style"/>
              </a:rPr>
              <a:t>Что не так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8:17:09Z</dcterms:created>
  <dc:creator>Елена</dc:creator>
  <dc:description/>
  <dc:language>en-US</dc:language>
  <cp:lastModifiedBy>Admin</cp:lastModifiedBy>
  <dcterms:modified xsi:type="dcterms:W3CDTF">2012-01-15T18:21:11Z</dcterms:modified>
  <cp:revision>23</cp:revision>
  <dc:subject/>
  <dc:title>Урок математики</dc:title>
</cp:coreProperties>
</file>