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8B62A1-CD29-4BF8-8E2B-B14279662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D9EC69-E4D4-4CFB-BBE5-21D0E52F7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54A63-9861-4BFF-8077-7370F0EAC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AA1B72-D66A-46BE-A990-3216A5F9D3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8FECAD-5151-4EC1-A1A9-8161C67C70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73FA4A-0CD9-4A8D-B41E-9611E0BC5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91A68-265A-4162-9EC2-E2DE549BA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283136-7608-4E48-A16B-42D30A6AD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38B016-D413-438E-AF16-5A70D88917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ED284B-99BA-4391-8619-15E6B1BAB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523FDE-D45D-425C-AAD0-409813444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E831D-D5BA-4004-A774-CC567D398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AA17E3-DAF8-4E6B-A31A-9833CED6C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D8F2-3037-4FEA-A592-06D9F704D4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40EE-9DEA-45CD-B51D-1EFB984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8743-2F4F-4611-A626-AD59622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0252-E654-4014-8E19-8C863EB44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18F2-5A62-4C1F-BBD5-F37057B5A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74263-05DD-4670-A04C-4A564899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3D2E-73FD-448D-9AEF-2426A3A4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02DF7-7310-4B02-8A04-440E32A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82E9F-88F1-449E-90EB-D11103A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97B91-55D7-4D3F-844B-F686D6FA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55567-A309-442B-AD2A-DC8EB47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DC20-2F37-46BC-9C7F-8A8C128D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3A318-CF53-496A-A339-11D2F87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50D94-2277-46C7-8FB8-B7387D30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04973-2507-4553-A59F-2DCB2CAD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91DB7-02FB-47EA-841A-68F0F04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22E73-EE0B-4D12-ACFA-522B6ACD4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B28-1795-497D-9619-897E45A0D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2133-81EA-411D-AE75-EE7D847E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4B7-ACB6-4B48-98B6-D2EF7AA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F89-0264-4B94-9B28-E8143FB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BE8E-1DA1-452F-90E0-A4C50897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88BD-CA6C-4BAB-B072-650AC011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7A93-DE95-45AF-A7BA-299866C9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09AE-A206-44BC-95E2-35AAA98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A087-C806-40C4-A30A-D7CF220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91A-95F3-437E-BDBD-E1002EBF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1F33-91DE-43E2-86DC-05B60432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250-BFDF-488F-9E1A-4FD2B9E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74E-30CE-4234-8348-EE30F2856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93D32-3CF9-4D4F-B7BC-BCF74C238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7498D-DCB7-4AA2-91F9-F6996114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7B2EE-85E2-4ECC-8FE9-88FFC6ED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1753-ADB5-4FEF-98A2-DCFF6136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6C92D-9EBA-4090-A5C6-6E3B689B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5D399-A8A5-49EA-A114-D5289732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5B730-5C85-4E8C-AF43-6CCA2D6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DF87A-6F7F-4605-B21D-61403D0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CB583-3A0B-48C6-BB77-EC88FF2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C29A1-E580-4F23-8262-CB8213B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4876B-F55B-4E5C-8292-F7EA7FDD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3DA4D-3BE9-4D80-81D0-FCA5DD8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14FE4-65E4-43A8-A9AD-6FA04CBC6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97677-A18A-43E9-9AF3-31D96E544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C6D1-F48D-464B-9786-9AF8F392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37902-B695-4E50-B4EE-AEC6607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3657C-D944-44E1-AE97-61C1B849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89BE3-9877-49FB-817A-E54FB17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C802F-2D92-4873-973F-40BFD343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C4A8C-9F9D-4826-8C8A-20DAC377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0B855-E10B-49E7-91E6-4595D55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DA615-44C0-4BE7-8DB6-19C4FBC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9E3C5-5B2F-4C04-9CEE-3BCB6E5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F8EE7-8537-455E-AD03-C6083C1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B9C88-B5A2-4820-9AB7-6CC119E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DA8C-4019-4FA2-9255-4811A143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F60F0-9527-42A3-BF42-A75019E2DA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69ED-0D1D-4EB3-BC4F-C9F317CF1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0E19-1DC0-4A61-87A3-ECA1CCBF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E056-BD1D-4E80-8735-4A78E99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E4A5-3F49-4A6F-AD09-6320CCD4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6BBA-DA88-4F41-8560-2F32181D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7CB1-9932-4631-9ABA-F5A17FFA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B4802-6F83-4D87-8059-F81C2FB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778A-1D9A-423D-9AC5-1FDC1A9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731B-75C2-4564-BD95-53EC93C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8ADC-CDA0-44F9-9F42-81217F4F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D7EE-74B9-43B4-A062-7150447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45CB-9D83-410F-85AA-52224ED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7863-275A-429E-931E-75455080F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D47A8-AE5A-4749-8574-F7EF38E28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A330B-B82C-49E4-8DD8-7E61786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5D126-4257-4011-86D8-A3788B8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C60D7-59FB-450A-8D29-2539A595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7A1F8-994D-4BF6-83ED-082767D6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917C1-786C-48AA-9245-A1F67387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AB781-7FDC-4B8A-8CD7-625147D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114B-834D-4AA2-A663-8C4E690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32235-EB3B-49B3-8CE2-C5C252F3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1E6FA-87F8-4D1C-AD3E-C08EE4C9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A69DD-6777-4BF3-A710-E672674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7B42E-AA1D-48D8-9AB7-0DEFFD5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3B9A2-3354-4258-BBE8-88C03EE73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0F63-8C84-4DB2-A87C-5B1E466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.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15B189-24C2-4FC5-A1FA-2287549172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8BB9AF-9B2D-46D6-A28A-A6DB531CF35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23E0A3-6653-422D-BABF-6D420B5E8E3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E2B211-0B9A-4405-ADD3-518D462BB204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2FCB1B-FEBB-4BF8-BCFD-2F6A6C060CB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B9572C-8EDE-4295-BD3B-FF9C70AC3966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20D125-4362-4D65-AD92-EF4B772748E4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628640" y="285840"/>
            <a:ext cx="593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5436a"/>
                </a:solidFill>
                <a:latin typeface="Corbel"/>
                <a:ea typeface="Arial Unicode MS"/>
              </a:rPr>
              <a:t>Знакомьтесь</a:t>
            </a:r>
            <a:r>
              <a:rPr b="1" lang="ru-RU" sz="3900" spc="-1" strike="noStrike">
                <a:solidFill>
                  <a:srgbClr val="35436a"/>
                </a:solidFill>
                <a:latin typeface="Corbel"/>
                <a:ea typeface="Arial Unicode MS"/>
              </a:rPr>
              <a:t>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2"/>
          <p:cNvGrpSpPr/>
          <p:nvPr/>
        </p:nvGrpSpPr>
        <p:grpSpPr>
          <a:xfrm>
            <a:off x="2055960" y="1579680"/>
            <a:ext cx="5141880" cy="3998880"/>
            <a:chOff x="2055960" y="1579680"/>
            <a:chExt cx="5141880" cy="3998880"/>
          </a:xfrm>
        </p:grpSpPr>
        <p:pic>
          <p:nvPicPr>
            <p:cNvPr id="328" name="Picture 3" descr=""/>
            <p:cNvPicPr/>
            <p:nvPr/>
          </p:nvPicPr>
          <p:blipFill>
            <a:blip r:embed="rId1"/>
            <a:stretch/>
          </p:blipFill>
          <p:spPr>
            <a:xfrm>
              <a:off x="2055960" y="1579680"/>
              <a:ext cx="514188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4"/>
            <p:cNvSpPr/>
            <p:nvPr/>
          </p:nvSpPr>
          <p:spPr>
            <a:xfrm>
              <a:off x="2055960" y="1579680"/>
              <a:ext cx="514188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AutoShape 5"/>
          <p:cNvSpPr/>
          <p:nvPr/>
        </p:nvSpPr>
        <p:spPr>
          <a:xfrm>
            <a:off x="4357800" y="5730840"/>
            <a:ext cx="322200" cy="928800"/>
          </a:xfrm>
          <a:prstGeom prst="downArrow">
            <a:avLst>
              <a:gd name="adj1" fmla="val 50000"/>
              <a:gd name="adj2" fmla="val 6652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8215200" y="63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6643440" cy="47149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2160720" y="2021040"/>
            <a:ext cx="5715000" cy="3019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rbel"/>
                <a:ea typeface="Arial Unicode MS"/>
              </a:rPr>
              <a:t>Что такое этикет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434960" y="274680"/>
            <a:ext cx="72057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Corbel"/>
                <a:ea typeface="Arial Unicode MS"/>
              </a:rPr>
              <a:t>Определение слова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000080" y="1079640"/>
            <a:ext cx="7786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Этикет (франц. etiquette), свод правил поведения, обхождения, принятых в определенных социальных круг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В переносном значении — форма поведения, обхождения, правила учтивости, принятые в данном общ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2867040" y="90360"/>
            <a:ext cx="45133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rbel"/>
                <a:ea typeface="Arial Unicode MS"/>
              </a:rPr>
              <a:t>Лабиринт</a:t>
            </a:r>
            <a:r>
              <a:rPr b="0" lang="ru-RU" sz="3900" spc="-1" strike="noStrike">
                <a:solidFill>
                  <a:srgbClr val="002060"/>
                </a:solidFill>
                <a:latin typeface="Corbel"/>
                <a:ea typeface="Arial Unicode MS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876320" y="1000080"/>
            <a:ext cx="5143680" cy="5659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1434960" y="274680"/>
            <a:ext cx="7423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Лабиринт – это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задача, которая решается науга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1000080" y="1571760"/>
            <a:ext cx="7857720" cy="4752360"/>
            <a:chOff x="1000080" y="1571760"/>
            <a:chExt cx="7857720" cy="4752360"/>
          </a:xfrm>
        </p:grpSpPr>
        <p:pic>
          <p:nvPicPr>
            <p:cNvPr id="339" name="Picture 3" descr=""/>
            <p:cNvPicPr/>
            <p:nvPr/>
          </p:nvPicPr>
          <p:blipFill>
            <a:blip r:embed="rId1"/>
            <a:stretch/>
          </p:blipFill>
          <p:spPr>
            <a:xfrm>
              <a:off x="1213560" y="1642680"/>
              <a:ext cx="75002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4"/>
            <p:cNvSpPr/>
            <p:nvPr/>
          </p:nvSpPr>
          <p:spPr>
            <a:xfrm>
              <a:off x="1000080" y="1571760"/>
              <a:ext cx="7857720" cy="46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1428840" y="85716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1071720" y="142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3541680" cy="283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2571840" y="2928960"/>
            <a:ext cx="509580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2019240" y="233280"/>
            <a:ext cx="59292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  <a:ea typeface="Arial Unicode MS"/>
              </a:rPr>
              <a:t>Немного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928800"/>
            <a:ext cx="7791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«Дорога ложка к обеду», - гласит русская пословица. И не зря в этой пословице упоминается именно ложка, ведь ложка – это самый практичный предмет из всех столовых прибор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Несмотря на то, что ложка предназначена для переноса жидкой или полужидкой пищи, ее можно использовать и в качестве вилки, и в качестве ножа, и в качестве поварёшки. Некоторые ложки удачно используют для декорирования помещения. Особенно хорошо применяются для этого деревянные ложки с росписью, они не только очень красивые, но еще и функциональны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Необходимость ложки люди поняли очень давно, именно поэтому ее начали использовать как столовый прибор уже в древние времена. Первые ложки были сделаны не из камня, а из обожжённой гл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2143080" y="4287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ожки в древ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285920" y="285840"/>
            <a:ext cx="7429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 древнейших времён восточные славяне употребляли ударные инструменты в ратном деле, на охоте, в обрядах, в пастушестве и в качестве музыкального инструмента для ритмизующего сопровождения пения или пляски. Использование этих инструментов родственно хлопанию в ладоши, притопыванию, что существовало у всех народах мира с древ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071720" y="3571920"/>
            <a:ext cx="4147920" cy="309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5400720" y="3600360"/>
            <a:ext cx="351000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5643720" cy="46432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2"/>
          <p:cNvSpPr/>
          <p:nvPr/>
        </p:nvSpPr>
        <p:spPr>
          <a:xfrm>
            <a:off x="1644480" y="144360"/>
            <a:ext cx="7499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1c4853"/>
                </a:solidFill>
                <a:latin typeface="Corbel"/>
                <a:ea typeface="Arial Unicode MS"/>
              </a:rPr>
              <a:t>Театр на деревянных ложка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  <a:ea typeface="Arial Unicode MS"/>
              </a:rPr>
              <a:t>Отгадайте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 Unicode MS"/>
              </a:rPr>
              <a:t> загад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1434960" y="1428840"/>
            <a:ext cx="7499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При виде еды не считают ворон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Бросаются дружно с обеих сторон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Один — разрезае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Другая — цепляе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Обоим работы в тарелке хват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0:52:24Z</dcterms:created>
  <dc:creator>1А</dc:creator>
  <dc:description/>
  <dc:language>en-US</dc:language>
  <cp:lastModifiedBy>1А</cp:lastModifiedBy>
  <dcterms:modified xsi:type="dcterms:W3CDTF">2012-01-31T02:43:54Z</dcterms:modified>
  <cp:revision>41</cp:revision>
  <dc:subject/>
  <dc:title>Лабиринт</dc:title>
</cp:coreProperties>
</file>