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34EBD6-5F3E-42DA-A66D-A1B8C29D1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5076E8-5E31-40CD-9063-686E9B4A2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05DE99-DBC2-4C8C-ADDF-A3C1785BBE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5D21A1-730F-42C3-8813-7ECECED9E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0BE3F2-31BB-42EC-85EF-14FC6F1B7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E4A778-7A3F-4CFD-B99C-6D71F2E08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3425FA-DEEB-4BF8-94A3-6A2CA10C4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C8605-0B43-4212-920A-22C2ED9F0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2C15C2-FD8D-460C-A190-C8D03D289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902EB-056C-420C-AB9C-9ACF6C071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C8AFFD-8727-4C4E-A581-26E5069D61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FA3106-634E-435C-B17F-BA015AAB6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1DA9E5-0CB3-483E-A7B7-A22CDB0CB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F26C6-A93D-41A4-8301-101B81384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17F5-9058-4FA6-A125-6238CC0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2D0B-DA66-41CE-BB66-35C3EEE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3054-BD1A-486B-B420-31AEA4984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C7E53-2610-446B-9B4A-21BBE8649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93BE1-B153-43BC-82E3-AD484F7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B5E3C-8030-472E-818A-810EEA7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F3BD-27E6-4466-A21F-28EB3C5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D256C-51EA-4C7F-A7B4-897C00C2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E38A-22AB-4407-A4EF-63590C02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5A292-3CB5-439B-9DE9-E657891F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9B65-7D2B-4D7B-94C9-5D0E40E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20670-E356-4668-8C30-F5618312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36F19-DAAD-4198-9953-AADF54C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A2CD4-430F-457C-8523-938D22D9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27AA6-726F-4234-9C02-0CDD7B1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3AC72-3AEA-41F6-B420-088FF6D63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F8A-6AB7-47C7-A9D2-B7D076CC29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DBED-308A-4E8D-A627-3BF2D1D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107-4FF0-4BAA-9400-4DE39D4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9BC6-8859-4AE2-806C-D33FF02D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BE4-AC2B-4E08-8E7A-BB226A49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978E-8D6F-4E85-9DDC-4F4BD6A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908-DA56-4DD4-AC88-A973EC84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766D-3CE1-4EB2-8CA2-79FD573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A0A-1905-4444-90EC-7D38568D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E28-DCBA-4676-8570-2434ED44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FD1-E971-4D5E-A7D0-AF16770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36A-8B72-4CCD-86E3-EB4F361B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B5B6-98CF-4000-93F6-6D1A7DBA8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7CF3E-D777-4A63-9AA7-27D3CC5AE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35AEB-90D2-4B8F-8E52-E4827915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02E8B-E397-43D8-80FE-D722A480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1893-7C17-4BF4-816F-1403A79C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41C40-092D-485D-ABD1-222BE4DE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0560D-046D-462E-A79D-597B5F6C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90C0B-2642-49EF-A95E-F9F4A447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2687C-BA34-4287-946E-AB539179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1C789-8747-4017-9933-0C15569C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8B4A4-DEC9-477F-BE3C-F79EAFF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68EC4-AC6D-4E3C-8CCC-9A4514C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FD1AB-2116-4AF2-A961-1079041A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460F7-17C7-40EB-BB33-49E16DAFA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0FC22-26B0-4D3A-80F1-2AD331F3E3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F988-A46A-4546-8876-E1CFC6F0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69985-E7F4-48D6-9D27-8D362FEE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77D6A-7AF5-47BA-8871-0D5B4E1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D3937-5E57-4595-9184-2E6B1C1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C8396-B5B1-414E-B503-981BE942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7C3AC-19D8-46B4-B082-1EE9D91E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4FC10-6BD7-481F-8D80-92B67CC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E5E640-FFD8-4B60-AE69-B8CDA96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08EFA-14C5-4888-A692-F95DDBA0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CFA30-C5A1-40F4-B72B-27FDEEAD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D2514-CD5D-4B96-9AE5-26CA18B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709A-6404-4486-AF88-A5E24C0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BE38A-F0FA-47E6-B352-2A7E17B61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3E7A1-1639-4F06-84AD-5C17D275D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173C-BA8E-433A-804F-3800F8B4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C65B-D6C4-4ABC-9D92-1FE47946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BBA3-0F19-47F4-B99A-2F4F8FC3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C1FC-E395-43F9-BEA5-63435BC0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82DF-394D-47EB-A44E-A6E67E0F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334E-BFB2-4EB9-AAA2-65785400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26F7-8A93-4FE2-9890-2ABD8EF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DA3E-E420-4BE0-94DF-8D6CD73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AF77-3456-4904-A75D-CAE50045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B477-267F-4178-A9C3-370191F4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F74F3-2DBC-40EB-9478-8BB8C69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854F-9270-4203-981F-02F3B958F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300494-1CA1-45D4-B10F-BB716F71E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0FE7E-B320-443A-BC8C-FDB30ED5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2547D-75BB-4F7F-863D-C38DA4B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AB3BC-34F6-47A5-8AA1-BD569978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DB426-7343-4DE3-BC9B-B482B01A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80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FA2C9-52A3-46D8-9079-7F225FD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E21F3-230E-41BF-8945-95E6C1C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8A90-5124-4224-B997-C9059703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0C164-B631-46D9-A320-DAE81722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20D78-1914-4786-82CD-F9FF6035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50C24-9992-472C-B909-5541AA0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F0777-C18A-413C-93F2-492EDD3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C774B-470D-4704-B6E9-F7DC269C6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4280-8E2E-4F83-BE4E-22AE77C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.11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BC3FEC-207F-494E-B330-82E2FDF7BE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463225-ADA1-4A98-AD07-1577F42A6486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35D2C0-1683-45F3-8A19-1029E43B6E5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EF7C9C-BB10-4DBC-BF87-BE1C913BAC8D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50AE0F-CB87-4D14-97B0-AB46F31168AC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70DD89-2BE0-418B-847F-C17A6770B3E2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360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30.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360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C9F5D9-A9C5-40BA-9A6E-0FB0A72FB772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628640" y="285840"/>
            <a:ext cx="593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5436a"/>
                </a:solidFill>
                <a:latin typeface="Corbel"/>
                <a:ea typeface="Arial Unicode MS"/>
              </a:rPr>
              <a:t>Знакомьтесь</a:t>
            </a:r>
            <a:r>
              <a:rPr b="1" lang="ru-RU" sz="3900" spc="-1" strike="noStrike">
                <a:solidFill>
                  <a:srgbClr val="35436a"/>
                </a:solidFill>
                <a:latin typeface="Corbel"/>
                <a:ea typeface="Arial Unicode MS"/>
              </a:rPr>
              <a:t>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2"/>
          <p:cNvGrpSpPr/>
          <p:nvPr/>
        </p:nvGrpSpPr>
        <p:grpSpPr>
          <a:xfrm>
            <a:off x="2055960" y="1579680"/>
            <a:ext cx="5141880" cy="3998880"/>
            <a:chOff x="2055960" y="1579680"/>
            <a:chExt cx="5141880" cy="3998880"/>
          </a:xfrm>
        </p:grpSpPr>
        <p:pic>
          <p:nvPicPr>
            <p:cNvPr id="328" name="Picture 3" descr=""/>
            <p:cNvPicPr/>
            <p:nvPr/>
          </p:nvPicPr>
          <p:blipFill>
            <a:blip r:embed="rId1"/>
            <a:stretch/>
          </p:blipFill>
          <p:spPr>
            <a:xfrm>
              <a:off x="2055960" y="1579680"/>
              <a:ext cx="514188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4"/>
            <p:cNvSpPr/>
            <p:nvPr/>
          </p:nvSpPr>
          <p:spPr>
            <a:xfrm>
              <a:off x="2055960" y="1579680"/>
              <a:ext cx="514188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AutoShape 5"/>
          <p:cNvSpPr/>
          <p:nvPr/>
        </p:nvSpPr>
        <p:spPr>
          <a:xfrm>
            <a:off x="4357800" y="5730840"/>
            <a:ext cx="322200" cy="928800"/>
          </a:xfrm>
          <a:prstGeom prst="downArrow">
            <a:avLst>
              <a:gd name="adj1" fmla="val 50000"/>
              <a:gd name="adj2" fmla="val 6652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8215200" y="63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6643440" cy="47149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2160720" y="2021040"/>
            <a:ext cx="5715000" cy="3019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rbel"/>
                <a:ea typeface="Arial Unicode MS"/>
              </a:rPr>
              <a:t>Что такое этикет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434960" y="274680"/>
            <a:ext cx="72057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Corbel"/>
                <a:ea typeface="Arial Unicode MS"/>
              </a:rPr>
              <a:t>Определение слова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1000080" y="1079640"/>
            <a:ext cx="7786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Этикет (франц. etiquette), свод правил поведения, обхождения, принятых в определенных социальных круг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В переносном значении — форма поведения, обхождения, правила учтивости, принятые в данном обще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2867040" y="90360"/>
            <a:ext cx="45133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rbel"/>
                <a:ea typeface="Arial Unicode MS"/>
              </a:rPr>
              <a:t>Лабиринт</a:t>
            </a:r>
            <a:r>
              <a:rPr b="0" lang="ru-RU" sz="3900" spc="-1" strike="noStrike">
                <a:solidFill>
                  <a:srgbClr val="002060"/>
                </a:solidFill>
                <a:latin typeface="Corbel"/>
                <a:ea typeface="Arial Unicode MS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876320" y="1000080"/>
            <a:ext cx="5143680" cy="5659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5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1434960" y="274680"/>
            <a:ext cx="7423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Лабиринт – это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задача, которая решается науга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1000080" y="1571760"/>
            <a:ext cx="7857720" cy="4752360"/>
            <a:chOff x="1000080" y="1571760"/>
            <a:chExt cx="7857720" cy="4752360"/>
          </a:xfrm>
        </p:grpSpPr>
        <p:pic>
          <p:nvPicPr>
            <p:cNvPr id="339" name="Picture 3" descr=""/>
            <p:cNvPicPr/>
            <p:nvPr/>
          </p:nvPicPr>
          <p:blipFill>
            <a:blip r:embed="rId1"/>
            <a:stretch/>
          </p:blipFill>
          <p:spPr>
            <a:xfrm>
              <a:off x="1213560" y="1642680"/>
              <a:ext cx="750024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4"/>
            <p:cNvSpPr/>
            <p:nvPr/>
          </p:nvSpPr>
          <p:spPr>
            <a:xfrm>
              <a:off x="1000080" y="1571760"/>
              <a:ext cx="7857720" cy="46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Rectangle 5"/>
          <p:cNvSpPr/>
          <p:nvPr/>
        </p:nvSpPr>
        <p:spPr>
          <a:xfrm>
            <a:off x="1428840" y="85716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1071720" y="142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3541680" cy="283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2571840" y="2928960"/>
            <a:ext cx="509580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2019240" y="233280"/>
            <a:ext cx="59292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  <a:ea typeface="Arial Unicode MS"/>
              </a:rPr>
              <a:t>Немного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928800"/>
            <a:ext cx="7791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«Дорога ложка к обеду», - гласит русская пословица. И не зря в этой пословице упоминается именно ложка, ведь ложка – это самый практичный предмет из всех столовых приборо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Несмотря на то, что ложка предназначена для переноса жидкой или полужидкой пищи, ее можно использовать и в качестве вилки, и в качестве ножа, и в качестве поварёшки. Некоторые ложки удачно используют для декорирования помещения. Особенно хорошо применяются для этого деревянные ложки с росписью, они не только очень красивые, но еще и функциональны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 Unicode MS"/>
              </a:rPr>
              <a:t>Необходимость ложки люди поняли очень давно, именно поэтому ее начали использовать как столовый прибор уже в древние времена. Первые ложки были сделаны не из камня, а из обожжённой гл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2"/>
          <p:cNvSpPr/>
          <p:nvPr/>
        </p:nvSpPr>
        <p:spPr>
          <a:xfrm>
            <a:off x="2143080" y="4287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Ложки в древ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285920" y="285840"/>
            <a:ext cx="7429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 древнейших времён восточные славяне употребляли ударные инструменты в ратном деле, на охоте, в обрядах, в пастушестве и в качестве музыкального инструмента для ритмизующего сопровождения пения или пляски. Использование этих инструментов родственно хлопанию в ладоши, притопыванию, что существовало у всех народах мира с древ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071720" y="3571920"/>
            <a:ext cx="4147920" cy="309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5400720" y="3600360"/>
            <a:ext cx="351000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5643720" cy="46432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2"/>
          <p:cNvSpPr/>
          <p:nvPr/>
        </p:nvSpPr>
        <p:spPr>
          <a:xfrm>
            <a:off x="1644480" y="144360"/>
            <a:ext cx="7499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1c4853"/>
                </a:solidFill>
                <a:latin typeface="Corbel"/>
                <a:ea typeface="Arial Unicode MS"/>
              </a:rPr>
              <a:t>Театр на деревянных ложка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  <a:ea typeface="Arial Unicode MS"/>
              </a:rPr>
              <a:t>Отгадайте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 Unicode MS"/>
              </a:rPr>
              <a:t> загад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1434960" y="1428840"/>
            <a:ext cx="7499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При виде еды не считают ворон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Бросаются дружно с обеих сторон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Один — разрезае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Другая — цепляе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 Unicode MS"/>
              </a:rPr>
              <a:t>Обоим работы в тарелке хват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0:52:24Z</dcterms:created>
  <dc:creator>1А</dc:creator>
  <dc:description/>
  <dc:language>en-US</dc:language>
  <cp:lastModifiedBy>1А</cp:lastModifiedBy>
  <dcterms:modified xsi:type="dcterms:W3CDTF">2012-01-31T02:43:54Z</dcterms:modified>
  <cp:revision>41</cp:revision>
  <dc:subject/>
  <dc:title>Лабиринт</dc:title>
</cp:coreProperties>
</file>