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CE2-038A-4BEE-ABDD-14A785AB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3FA-F346-4070-AC27-7E731972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276-BAFA-4994-A74A-6928D606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A39-6AF5-4354-80F3-681E1102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602-0132-42EA-AFD0-78888E88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0998-EDF7-443C-960F-02AB4B2F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D2F1-9C66-4AB5-94B6-35D0E437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3DFC-6D9E-46D8-A5C0-E0A34F41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6984-9B75-4A3E-9B9A-E367C733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576B-6D3A-40C4-A987-A8F2147D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4B9-74D9-4B0C-86D4-CB7E96E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FA6-DBA8-434F-814D-0389896F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2007-FA18-47D5-BBF4-1819032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C96F-D0CB-4402-9F46-8C59907C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BEF-BF05-4A5D-8EFD-EDCC4242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5BE5-F820-40E4-91FB-73EB4E0B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D30-6417-44DD-866B-CEA2BE8D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AB6-7409-45B9-A994-64D174EC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1CA-48F3-4770-9471-3E0BF5C3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897-20E0-4BE5-BFF0-B1765CA2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F6F-E703-4EF8-9635-F058E226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546-B62C-45B6-A02A-50A9F593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AD9-1028-46F4-A9DA-9F6B5C3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1B5-C505-421E-B32E-FFFD8792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E464-4A44-4E8D-BAAA-7B7F8B092F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2C1D-B196-433A-AC01-6529661E86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835280" y="1341360"/>
            <a:ext cx="518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с причастиям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24360" y="1916280"/>
            <a:ext cx="1562400" cy="33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916280"/>
            <a:ext cx="3673440" cy="3384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отография преступника в профиль и в анфа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910160" y="3642480"/>
            <a:ext cx="2300400" cy="146160"/>
          </a:xfrm>
          <a:custGeom>
            <a:avLst/>
            <a:gdLst>
              <a:gd name="textAreaLeft" fmla="*/ 374400 w 2300400"/>
              <a:gd name="textAreaRight" fmla="*/ 1926000 w 2300400"/>
              <a:gd name="textAreaTop" fmla="*/ 23760 h 146160"/>
              <a:gd name="textAreaBottom" fmla="*/ 12240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6" y="3516"/>
                </a:lnTo>
                <a:lnTo>
                  <a:pt x="10800" y="0"/>
                </a:lnTo>
                <a:lnTo>
                  <a:pt x="18084" y="3516"/>
                </a:lnTo>
                <a:lnTo>
                  <a:pt x="21600" y="10800"/>
                </a:lnTo>
                <a:lnTo>
                  <a:pt x="18084" y="18084"/>
                </a:lnTo>
                <a:lnTo>
                  <a:pt x="10800" y="21600"/>
                </a:lnTo>
                <a:lnTo>
                  <a:pt x="3516" y="1808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548080" y="3148560"/>
            <a:ext cx="152640" cy="1001880"/>
          </a:xfrm>
          <a:custGeom>
            <a:avLst/>
            <a:gdLst>
              <a:gd name="textAreaLeft" fmla="*/ 22320 w 152640"/>
              <a:gd name="textAreaRight" fmla="*/ 130320 w 152640"/>
              <a:gd name="textAreaTop" fmla="*/ 148320 h 1001880"/>
              <a:gd name="textAreaBottom" fmla="*/ 853560 h 100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2492280"/>
            <a:ext cx="220680" cy="2232000"/>
          </a:xfrm>
          <a:custGeom>
            <a:avLst/>
            <a:gdLst>
              <a:gd name="textAreaLeft" fmla="*/ 32400 w 220680"/>
              <a:gd name="textAreaRight" fmla="*/ 188280 w 220680"/>
              <a:gd name="textAreaTop" fmla="*/ 330480 h 2232000"/>
              <a:gd name="textAreaBottom" fmla="*/ 19015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3500280"/>
            <a:ext cx="1112760" cy="216000"/>
          </a:xfrm>
          <a:custGeom>
            <a:avLst/>
            <a:gdLst>
              <a:gd name="textAreaLeft" fmla="*/ 164880 w 1112760"/>
              <a:gd name="textAreaRight" fmla="*/ 947880 w 1112760"/>
              <a:gd name="textAreaTop" fmla="*/ 32040 h 216000"/>
              <a:gd name="textAreaBottom" fmla="*/ 1839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492280"/>
            <a:ext cx="1076040" cy="144720"/>
          </a:xfrm>
          <a:custGeom>
            <a:avLst/>
            <a:gdLst>
              <a:gd name="textAreaLeft" fmla="*/ 159120 w 1076040"/>
              <a:gd name="textAreaRight" fmla="*/ 916920 w 1076040"/>
              <a:gd name="textAreaTop" fmla="*/ 21240 h 144720"/>
              <a:gd name="textAreaBottom" fmla="*/ 1234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4653000"/>
            <a:ext cx="1082520" cy="163440"/>
          </a:xfrm>
          <a:custGeom>
            <a:avLst/>
            <a:gdLst>
              <a:gd name="textAreaLeft" fmla="*/ 181440 w 1082520"/>
              <a:gd name="textAreaRight" fmla="*/ 901080 w 1082520"/>
              <a:gd name="textAreaTop" fmla="*/ 27360 h 163440"/>
              <a:gd name="textAreaBottom" fmla="*/ 1360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20" y="3620"/>
                </a:lnTo>
                <a:lnTo>
                  <a:pt x="10800" y="0"/>
                </a:lnTo>
                <a:lnTo>
                  <a:pt x="17980" y="3620"/>
                </a:lnTo>
                <a:lnTo>
                  <a:pt x="21600" y="10800"/>
                </a:lnTo>
                <a:lnTo>
                  <a:pt x="17980" y="17980"/>
                </a:lnTo>
                <a:lnTo>
                  <a:pt x="10800" y="21600"/>
                </a:lnTo>
                <a:lnTo>
                  <a:pt x="3620" y="1798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565360"/>
            <a:ext cx="156960" cy="2257560"/>
          </a:xfrm>
          <a:custGeom>
            <a:avLst/>
            <a:gdLst>
              <a:gd name="textAreaLeft" fmla="*/ 23040 w 156960"/>
              <a:gd name="textAreaRight" fmla="*/ 133920 w 156960"/>
              <a:gd name="textAreaTop" fmla="*/ 334440 h 2257560"/>
              <a:gd name="textAreaBottom" fmla="*/ 1923120 h 225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2492280"/>
            <a:ext cx="215640" cy="2389320"/>
          </a:xfrm>
          <a:custGeom>
            <a:avLst/>
            <a:gdLst>
              <a:gd name="textAreaLeft" fmla="*/ 31680 w 215640"/>
              <a:gd name="textAreaRight" fmla="*/ 183960 w 215640"/>
              <a:gd name="textAreaTop" fmla="*/ 353880 h 2389320"/>
              <a:gd name="textAreaBottom" fmla="*/ 2035440 h 238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3673440" cy="14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5400000">
            <a:off x="-2160" y="3537720"/>
            <a:ext cx="3384360" cy="141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619280" y="5084640"/>
            <a:ext cx="3673440" cy="198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 rot="5400000">
            <a:off x="3542400" y="3521880"/>
            <a:ext cx="3336840" cy="12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724360" y="1916280"/>
            <a:ext cx="1584360" cy="142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5724360" y="5084640"/>
            <a:ext cx="1584360" cy="19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 rot="5400000">
            <a:off x="4122360" y="3517920"/>
            <a:ext cx="3346200" cy="142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 rot="5400000">
            <a:off x="5486400" y="3522960"/>
            <a:ext cx="34099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до выясни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910160" y="3642480"/>
            <a:ext cx="2300400" cy="146160"/>
          </a:xfrm>
          <a:custGeom>
            <a:avLst/>
            <a:gdLst>
              <a:gd name="textAreaLeft" fmla="*/ 374400 w 2300400"/>
              <a:gd name="textAreaRight" fmla="*/ 1926000 w 2300400"/>
              <a:gd name="textAreaTop" fmla="*/ 23760 h 146160"/>
              <a:gd name="textAreaBottom" fmla="*/ 12240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6" y="3516"/>
                </a:lnTo>
                <a:lnTo>
                  <a:pt x="10800" y="0"/>
                </a:lnTo>
                <a:lnTo>
                  <a:pt x="18084" y="3516"/>
                </a:lnTo>
                <a:lnTo>
                  <a:pt x="21600" y="10800"/>
                </a:lnTo>
                <a:lnTo>
                  <a:pt x="18084" y="18084"/>
                </a:lnTo>
                <a:lnTo>
                  <a:pt x="10800" y="21600"/>
                </a:lnTo>
                <a:lnTo>
                  <a:pt x="3516" y="18084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2548080" y="3148560"/>
            <a:ext cx="152640" cy="1001880"/>
          </a:xfrm>
          <a:custGeom>
            <a:avLst/>
            <a:gdLst>
              <a:gd name="textAreaLeft" fmla="*/ 22320 w 152640"/>
              <a:gd name="textAreaRight" fmla="*/ 130320 w 152640"/>
              <a:gd name="textAreaTop" fmla="*/ 148320 h 1001880"/>
              <a:gd name="textAreaBottom" fmla="*/ 853560 h 100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565360"/>
            <a:ext cx="220680" cy="2232000"/>
          </a:xfrm>
          <a:custGeom>
            <a:avLst/>
            <a:gdLst>
              <a:gd name="textAreaLeft" fmla="*/ 32400 w 220680"/>
              <a:gd name="textAreaRight" fmla="*/ 188280 w 220680"/>
              <a:gd name="textAreaTop" fmla="*/ 330480 h 2232000"/>
              <a:gd name="textAreaBottom" fmla="*/ 19015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3500280"/>
            <a:ext cx="1112760" cy="216000"/>
          </a:xfrm>
          <a:custGeom>
            <a:avLst/>
            <a:gdLst>
              <a:gd name="textAreaLeft" fmla="*/ 164880 w 1112760"/>
              <a:gd name="textAreaRight" fmla="*/ 947880 w 1112760"/>
              <a:gd name="textAreaTop" fmla="*/ 32040 h 216000"/>
              <a:gd name="textAreaBottom" fmla="*/ 1839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2565360"/>
            <a:ext cx="1076040" cy="144360"/>
          </a:xfrm>
          <a:custGeom>
            <a:avLst/>
            <a:gdLst>
              <a:gd name="textAreaLeft" fmla="*/ 159120 w 1076040"/>
              <a:gd name="textAreaRight" fmla="*/ 916920 w 1076040"/>
              <a:gd name="textAreaTop" fmla="*/ 21240 h 144360"/>
              <a:gd name="textAreaBottom" fmla="*/ 12312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4653000"/>
            <a:ext cx="1082520" cy="163440"/>
          </a:xfrm>
          <a:custGeom>
            <a:avLst/>
            <a:gdLst>
              <a:gd name="textAreaLeft" fmla="*/ 181440 w 1082520"/>
              <a:gd name="textAreaRight" fmla="*/ 901080 w 1082520"/>
              <a:gd name="textAreaTop" fmla="*/ 27360 h 163440"/>
              <a:gd name="textAreaBottom" fmla="*/ 1360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20" y="3620"/>
                </a:lnTo>
                <a:lnTo>
                  <a:pt x="10800" y="0"/>
                </a:lnTo>
                <a:lnTo>
                  <a:pt x="17980" y="3620"/>
                </a:lnTo>
                <a:lnTo>
                  <a:pt x="21600" y="10800"/>
                </a:lnTo>
                <a:lnTo>
                  <a:pt x="17980" y="17980"/>
                </a:lnTo>
                <a:lnTo>
                  <a:pt x="10800" y="21600"/>
                </a:lnTo>
                <a:lnTo>
                  <a:pt x="3620" y="1798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565360"/>
            <a:ext cx="156960" cy="2257560"/>
          </a:xfrm>
          <a:custGeom>
            <a:avLst/>
            <a:gdLst>
              <a:gd name="textAreaLeft" fmla="*/ 23040 w 156960"/>
              <a:gd name="textAreaRight" fmla="*/ 133920 w 156960"/>
              <a:gd name="textAreaTop" fmla="*/ 334440 h 2257560"/>
              <a:gd name="textAreaBottom" fmla="*/ 1923120 h 225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6840" y="2349360"/>
            <a:ext cx="23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Час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90800" y="328464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ристав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02680" y="4221000"/>
            <a:ext cx="31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Часть кор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23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тоги контрольной работы по теме «Причасти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59280" y="1989000"/>
            <a:ext cx="2847960" cy="2617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20205600">
            <a:off x="4067280" y="2923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3487680" cy="213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9515000">
            <a:off x="2263320" y="4868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cript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484360" y="4581360"/>
            <a:ext cx="208764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j0240743"/>
          <p:cNvPicPr/>
          <p:nvPr/>
        </p:nvPicPr>
        <p:blipFill>
          <a:blip r:embed="rId5"/>
          <a:stretch/>
        </p:blipFill>
        <p:spPr>
          <a:xfrm>
            <a:off x="6156360" y="1844640"/>
            <a:ext cx="2663640" cy="224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0905200">
            <a:off x="7518240" y="321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cript MT Bol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нимки Интерпол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765000"/>
            <a:ext cx="7767720" cy="53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e4a8"/>
                </a:solidFill>
                <a:latin typeface="Tahoma"/>
              </a:rPr>
              <a:t>Снимок №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ченная вовремя работ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e4a8"/>
                </a:solidFill>
                <a:latin typeface="Tahoma"/>
              </a:rPr>
              <a:t>Снимок №2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ченное, а только чт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атое собра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e4a8"/>
                </a:solidFill>
                <a:latin typeface="Tahoma"/>
              </a:rPr>
              <a:t>Снимок №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бран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чен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e4a8"/>
                </a:solidFill>
                <a:latin typeface="Tahoma"/>
              </a:rPr>
              <a:t>Снимок №4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ченна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e4a8"/>
                </a:solidFill>
                <a:latin typeface="Tahoma"/>
              </a:rPr>
              <a:t>Снимок №5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дующий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видящий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згля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следовал мен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084840" y="3067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13:26Z</dcterms:created>
  <dc:creator>Core2Duo</dc:creator>
  <dc:description/>
  <dc:language>en-US</dc:language>
  <cp:lastModifiedBy>Core2Duo</cp:lastModifiedBy>
  <dcterms:modified xsi:type="dcterms:W3CDTF">2010-03-20T09:38:34Z</dcterms:modified>
  <cp:revision>2</cp:revision>
  <dc:subject/>
  <dc:title>Слайд 1</dc:title>
</cp:coreProperties>
</file>