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5.png" ContentType="image/png"/>
  <Override PartName="/ppt/media/image17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1ED-9ECF-4293-BCAF-65123AF4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1CF-F569-4ACC-AA19-6ECA18C0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E10-56DD-4F6E-B4BC-FD36C615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D2B-641D-49B2-B2C2-105B90EE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AE3-F4AC-43A2-9E7C-3A31B583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E1CD-FFCC-4BA9-A533-E19C3CA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66B1-8E25-47DC-939D-F90DACE4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C59C-8191-4F15-BE55-C6846E57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FA78-DEF0-4EBF-96A3-AF7AF797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8B43-CF42-4FE3-A924-EF1B3F5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D4D8-BA76-4816-93BC-A546F214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FAD-931B-483E-9986-424C2C9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7A0-687A-42DC-AC09-60E800D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9BB-91AC-4ECD-B909-A063BF5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DC9-A13B-4BCB-9651-545827C8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D69A-44B4-4E0C-A4BA-E334B936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8B34-3366-41A3-B9A3-6D890596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2D28-70B3-4B10-8537-2418EE41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0D39-D739-41FA-8EC2-015A259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988C-E147-422F-9568-5F1F5FC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1504-3548-4D43-B7DB-33D1F18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3982-36ED-4211-A46D-87A622F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33E-27CD-4991-9E8F-A0E81BEC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F72C-FE70-431E-831F-4E37BE2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1D8B-D44C-46F6-9CE7-7859D12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C8BD-78DD-4F73-895D-BCBD640B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77EB-6266-414C-84C8-CE376EC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54DF-6EA5-48A9-B94C-6C3C01E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844E-3F74-4CED-AF91-54D475A2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41B0-5AE8-4A1A-8BE8-C13B2F7B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9B3-E4DC-4725-94CC-4A45E940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C33-CC38-46C1-93A3-FCF7AA88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422-93E8-49A8-BAD9-D5B8A832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56E-62D3-4A3D-8B2D-C00997F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2CC-45A7-4162-8860-3C61DFA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BBA-3707-473D-9D92-1DC54F5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1C6A-F1C4-411C-AC87-329520AAD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DCC-C8B0-49C6-BD60-C9192BC63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F05-C0C2-47BE-A92F-5458A2B52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-2008-03.photosight.ru/28/2612066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veplanet.ru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edu.doal.ru/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edu.doal.ru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14800" y="2286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Класс Птицы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343040" y="1905120"/>
            <a:ext cx="4800600" cy="2209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Особенности внешнего стро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птиц в связи с приспособленностью к пол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5715000"/>
            <a:ext cx="6019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биологии Лицея №408  г. Пуш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х Татьяна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666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Monotype Corsiva"/>
              </a:rPr>
              <a:t>Гл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750160" cy="384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ле зрения одним и двумя глаз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66680" y="3049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Виды перьев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(по строени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тур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хо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rcRect l="-4928" t="-4517" r="0" b="0"/>
          <a:stretch/>
        </p:blipFill>
        <p:spPr>
          <a:xfrm>
            <a:off x="3343320" y="1596960"/>
            <a:ext cx="1685880" cy="1832040"/>
          </a:xfrm>
          <a:prstGeom prst="rect">
            <a:avLst/>
          </a:prstGeom>
          <a:ln w="76320">
            <a:solidFill>
              <a:srgbClr val="3366ff">
                <a:alpha val="50000"/>
              </a:srgbClr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7086600" y="2971800"/>
            <a:ext cx="1371600" cy="1676520"/>
          </a:xfrm>
          <a:prstGeom prst="rect">
            <a:avLst/>
          </a:prstGeom>
          <a:ln w="76320">
            <a:solidFill>
              <a:srgbClr val="3366ff">
                <a:alpha val="50000"/>
              </a:srgbClr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6"/>
          <a:srcRect l="-21383" t="0" r="-21383" b="0"/>
          <a:stretch/>
        </p:blipFill>
        <p:spPr>
          <a:xfrm>
            <a:off x="5362560" y="2209680"/>
            <a:ext cx="1419120" cy="1752840"/>
          </a:xfrm>
          <a:prstGeom prst="rect">
            <a:avLst/>
          </a:prstGeom>
          <a:ln w="76320">
            <a:solidFill>
              <a:srgbClr val="3366ff">
                <a:alpha val="50000"/>
              </a:srgbClr>
            </a:solidFill>
            <a:miter/>
          </a:ln>
        </p:spPr>
      </p:pic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4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6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3049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Виды перьев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(по значени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ровные                                                    (кроющ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хо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ле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яющие                                            теп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419720" y="1981080"/>
            <a:ext cx="3429000" cy="288936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</p:spTree>
  </p:cSld>
  <p:transition spd="med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троение</a:t>
            </a:r>
            <a:r>
              <a:rPr b="0" lang="en-US" sz="36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533520" y="-380880"/>
            <a:ext cx="10287000" cy="7364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9720" y="0"/>
            <a:ext cx="74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пахало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образовано отходящими от стерж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1680" y="533520"/>
            <a:ext cx="67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бородками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ервого порядк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на котор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80" y="5029200"/>
            <a:ext cx="66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расположены бородки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торого порядк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40" y="5791320"/>
            <a:ext cx="63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цепленные между собой крючоч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907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029200" y="4647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380880" y="-47520"/>
            <a:ext cx="9524880" cy="6905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1600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9720" y="68580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46680" y="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остеп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ховые пер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58880" y="156528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ховые пер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4864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2560" y="6095880"/>
            <a:ext cx="31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льцы 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т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82680" y="5410080"/>
            <a:ext cx="155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6720" y="304812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ловищ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х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ющие пер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360" y="0"/>
            <a:ext cx="72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нешнее строение пт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2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4880" y="90504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урные перья выполняют разные функци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1160" y="1666800"/>
            <a:ext cx="75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ахов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первостепенные и второстепен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разуют плоскость крыл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3760" y="28954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улев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образуют плоскость хв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920" y="3962520"/>
            <a:ext cx="749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окровн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ридают телу обтекаемую фор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ими одето туловищ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200400" cy="240660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867280" y="1066680"/>
            <a:ext cx="2819520" cy="273852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Виды полета пти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38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шу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ви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я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rcRect l="6142" t="7087" r="63783" b="58114"/>
          <a:stretch/>
        </p:blipFill>
        <p:spPr>
          <a:xfrm>
            <a:off x="533520" y="990720"/>
            <a:ext cx="2324160" cy="2689200"/>
          </a:xfrm>
          <a:prstGeom prst="rect">
            <a:avLst/>
          </a:prstGeom>
          <a:ln w="76320">
            <a:solidFill>
              <a:srgbClr val="333399">
                <a:alpha val="49000"/>
              </a:srgbClr>
            </a:solidFill>
            <a:miter/>
          </a:ln>
        </p:spPr>
      </p:pic>
    </p:spTree>
  </p:cSld>
  <p:transition spd="med"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Подъемная сила кры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52640" y="1300320"/>
            <a:ext cx="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10010501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6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6432480" y="1300320"/>
          <a:ext cx="182520" cy="4259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ъёмная сила кры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Картинка 16 из 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икий голуб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3171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566712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Обтекаемая форма тела птицы (уменьшение трения о возду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Особенности строения крыльев в зависимости от типа полёта (несущие плоскос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аличие перьевого покрова (летательная поверхнос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Наличие хвоста, служащего птице рулё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Образование цевки как посадочного устр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тернет ресур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seveplanet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edu.doal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900igr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43400" cy="434340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3124080" y="990720"/>
            <a:ext cx="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5320" y="1219320"/>
            <a:ext cx="914400" cy="990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3124080"/>
            <a:ext cx="10666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171840" y="3886200"/>
            <a:ext cx="1143000" cy="152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3920" y="2743200"/>
            <a:ext cx="2590920" cy="6094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038480" y="4800240"/>
            <a:ext cx="0" cy="1143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6094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л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838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2514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ы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2895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улов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579132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жние конеч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3657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в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5867280" cy="5181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0666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троение голо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НАЗНАЧЕНИЕ КЛЮВ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оговые чехлы, одевающие клюв, менее тверды, чем зубы, но зато они легче, могут принимать любую форму, растут всю жизнь и самозатачиваются. Из-за того, что передние конечности птиц превратились в крылья, шея и голова с клювом отчасти взяли на себя их рабо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8600" y="1447920"/>
            <a:ext cx="8610480" cy="5181480"/>
            <a:chOff x="228600" y="1447920"/>
            <a:chExt cx="8610480" cy="51814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86104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 txBox="1"/>
            <p:nvPr/>
          </p:nvSpPr>
          <p:spPr>
            <a:xfrm>
              <a:off x="228600" y="1447920"/>
              <a:ext cx="8610480" cy="518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30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Строение нижней конеч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343400" cy="328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 flipV="1">
            <a:off x="3657240" y="3886200"/>
            <a:ext cx="228600" cy="914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648320" y="2895480"/>
            <a:ext cx="8380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47847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ль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666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86200" y="3733560"/>
            <a:ext cx="1066680" cy="1066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Monotype Corsiva"/>
              </a:rPr>
              <a:t>Строение голо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458200" cy="51562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з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2-01-18T17:17:4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