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9D53-58CD-4193-A002-BE8736FD6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B946-94F0-45EC-A9DF-7D5A5143C8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DCD0-3C7D-414C-B23C-70DB26622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8AC4-45BD-40AD-BE1E-4F9896E0C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6E8-F981-4131-9073-34F06EE4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E07-C561-4481-8C26-918C7B22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BD3-C2DF-417A-B0C2-D49952E5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919-5071-4532-8127-3F13D493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288-F867-4CC9-9222-CCCED417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DF6-B3D3-4C69-9F7A-588262F0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68D-C48A-40F4-99FB-217F499D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252-EB97-4405-A73A-6F44C259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527-67E9-4309-A76D-8654D0A0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DCE-697D-4033-B34B-B521D892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8E4-D270-4B3F-B411-F243C550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17C-DDD2-4802-A8ED-194E0406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6C99-DFD4-478F-9E9A-2E93782A6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pn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верхний ярус леса образован дерев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 ярус – это мхи и лишай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сочетании не будет происходить круговорота веществ:                                                                                            ду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гусеница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тица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кро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дереве обитают кроты и землеро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бы необходимы лесу, потому что ими питаются многие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ки-короеды приносят вред лесному сообщ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сная подстилка долгие годы сохраняется в л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животные леса делятся на 4 группы по типу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рый медведь –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ды всех кустарников употребляют в пищ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АФ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6" descr="92-3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>
            <a:hlinkClick r:id="rId2" action="ppaction://hlinksldjump"/>
          </p:cNvPr>
          <p:cNvSpPr/>
          <p:nvPr/>
        </p:nvSpPr>
        <p:spPr>
          <a:xfrm rot="16200000">
            <a:off x="687960" y="1368720"/>
            <a:ext cx="2057400" cy="2519280"/>
          </a:xfrm>
          <a:custGeom>
            <a:avLst/>
            <a:gdLst>
              <a:gd name="textAreaLeft" fmla="*/ 133200 w 2057400"/>
              <a:gd name="textAreaRight" fmla="*/ 1924200 w 2057400"/>
              <a:gd name="textAreaTop" fmla="*/ 133200 h 2519280"/>
              <a:gd name="textAreaBottom" fmla="*/ 2386080 h 2519280"/>
            </a:gdLst>
            <a:ahLst/>
            <a:rect l="textAreaLeft" t="textAreaTop" r="textAreaRight" b="textAreaBottom"/>
            <a:pathLst>
              <a:path w="21600" h="26448">
                <a:moveTo>
                  <a:pt x="0" y="0"/>
                </a:moveTo>
                <a:lnTo>
                  <a:pt x="21600" y="0"/>
                </a:lnTo>
                <a:lnTo>
                  <a:pt x="21600" y="26448"/>
                </a:lnTo>
                <a:lnTo>
                  <a:pt x="0" y="26448"/>
                </a:lnTo>
                <a:close/>
              </a:path>
              <a:path fill="lightenLess" w="21600" h="26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48">
                <a:moveTo>
                  <a:pt x="21600" y="0"/>
                </a:moveTo>
                <a:lnTo>
                  <a:pt x="21600" y="26448"/>
                </a:lnTo>
                <a:lnTo>
                  <a:pt x="20200" y="25048"/>
                </a:lnTo>
                <a:lnTo>
                  <a:pt x="20200" y="1400"/>
                </a:lnTo>
                <a:close/>
              </a:path>
              <a:path fill="darkenLess" w="21600" h="26448">
                <a:moveTo>
                  <a:pt x="21600" y="26448"/>
                </a:moveTo>
                <a:lnTo>
                  <a:pt x="0" y="26448"/>
                </a:lnTo>
                <a:lnTo>
                  <a:pt x="1400" y="25048"/>
                </a:lnTo>
                <a:lnTo>
                  <a:pt x="20200" y="25048"/>
                </a:lnTo>
                <a:close/>
              </a:path>
              <a:path fill="lighten" w="21600" h="26448">
                <a:moveTo>
                  <a:pt x="0" y="26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4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6200000">
            <a:off x="3567600" y="1308600"/>
            <a:ext cx="2089440" cy="2519640"/>
          </a:xfrm>
          <a:custGeom>
            <a:avLst/>
            <a:gdLst>
              <a:gd name="textAreaLeft" fmla="*/ 135360 w 2089440"/>
              <a:gd name="textAreaRight" fmla="*/ 1954080 w 2089440"/>
              <a:gd name="textAreaTop" fmla="*/ 135360 h 2519640"/>
              <a:gd name="textAreaBottom" fmla="*/ 2384280 h 2519640"/>
            </a:gdLst>
            <a:ahLst/>
            <a:rect l="textAreaLeft" t="textAreaTop" r="textAreaRight" b="textAreaBottom"/>
            <a:pathLst>
              <a:path w="21600" h="26047">
                <a:moveTo>
                  <a:pt x="0" y="0"/>
                </a:moveTo>
                <a:lnTo>
                  <a:pt x="21600" y="0"/>
                </a:lnTo>
                <a:lnTo>
                  <a:pt x="21600" y="26047"/>
                </a:lnTo>
                <a:lnTo>
                  <a:pt x="0" y="26047"/>
                </a:lnTo>
                <a:close/>
              </a:path>
              <a:path fill="lightenLess" w="21600" h="260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47">
                <a:moveTo>
                  <a:pt x="21600" y="0"/>
                </a:moveTo>
                <a:lnTo>
                  <a:pt x="21600" y="26047"/>
                </a:lnTo>
                <a:lnTo>
                  <a:pt x="20200" y="24647"/>
                </a:lnTo>
                <a:lnTo>
                  <a:pt x="20200" y="1400"/>
                </a:lnTo>
                <a:close/>
              </a:path>
              <a:path fill="darkenLess" w="21600" h="26047">
                <a:moveTo>
                  <a:pt x="21600" y="26047"/>
                </a:moveTo>
                <a:lnTo>
                  <a:pt x="0" y="26047"/>
                </a:lnTo>
                <a:lnTo>
                  <a:pt x="1400" y="24647"/>
                </a:lnTo>
                <a:lnTo>
                  <a:pt x="20200" y="24647"/>
                </a:lnTo>
                <a:close/>
              </a:path>
              <a:path fill="lighten" w="21600" h="26047">
                <a:moveTo>
                  <a:pt x="0" y="260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4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6347160" y="1272240"/>
            <a:ext cx="2089440" cy="2592360"/>
          </a:xfrm>
          <a:custGeom>
            <a:avLst/>
            <a:gdLst>
              <a:gd name="textAreaLeft" fmla="*/ 135360 w 2089440"/>
              <a:gd name="textAreaRight" fmla="*/ 1954080 w 2089440"/>
              <a:gd name="textAreaTop" fmla="*/ 135360 h 2592360"/>
              <a:gd name="textAreaBottom" fmla="*/ 2457000 h 2592360"/>
            </a:gdLst>
            <a:ahLst/>
            <a:rect l="textAreaLeft" t="textAreaTop" r="textAreaRight" b="textAreaBottom"/>
            <a:pathLst>
              <a:path w="21600" h="26798">
                <a:moveTo>
                  <a:pt x="0" y="0"/>
                </a:moveTo>
                <a:lnTo>
                  <a:pt x="21600" y="0"/>
                </a:lnTo>
                <a:lnTo>
                  <a:pt x="21600" y="26798"/>
                </a:lnTo>
                <a:lnTo>
                  <a:pt x="0" y="26798"/>
                </a:lnTo>
                <a:close/>
              </a:path>
              <a:path fill="lightenLess" w="21600" h="267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798">
                <a:moveTo>
                  <a:pt x="21600" y="0"/>
                </a:moveTo>
                <a:lnTo>
                  <a:pt x="21600" y="26798"/>
                </a:lnTo>
                <a:lnTo>
                  <a:pt x="20200" y="25398"/>
                </a:lnTo>
                <a:lnTo>
                  <a:pt x="20200" y="1400"/>
                </a:lnTo>
                <a:close/>
              </a:path>
              <a:path fill="darkenLess" w="21600" h="26798">
                <a:moveTo>
                  <a:pt x="21600" y="26798"/>
                </a:moveTo>
                <a:lnTo>
                  <a:pt x="0" y="26798"/>
                </a:lnTo>
                <a:lnTo>
                  <a:pt x="1400" y="25398"/>
                </a:lnTo>
                <a:lnTo>
                  <a:pt x="20200" y="25398"/>
                </a:lnTo>
                <a:close/>
              </a:path>
              <a:path fill="lighten" w="21600" h="26798">
                <a:moveTo>
                  <a:pt x="0" y="267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398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5" descr="пререпел.jpg"/>
          <p:cNvPicPr/>
          <p:nvPr/>
        </p:nvPicPr>
        <p:blipFill>
          <a:blip r:embed="rId6"/>
          <a:stretch/>
        </p:blipFill>
        <p:spPr>
          <a:xfrm>
            <a:off x="609480" y="1752480"/>
            <a:ext cx="2232000" cy="1752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6" name="AutoShape 8"/>
          <p:cNvSpPr/>
          <p:nvPr/>
        </p:nvSpPr>
        <p:spPr>
          <a:xfrm rot="16200000">
            <a:off x="708480" y="3786840"/>
            <a:ext cx="2089440" cy="2592360"/>
          </a:xfrm>
          <a:custGeom>
            <a:avLst/>
            <a:gdLst>
              <a:gd name="textAreaLeft" fmla="*/ 135360 w 2089440"/>
              <a:gd name="textAreaRight" fmla="*/ 1954080 w 2089440"/>
              <a:gd name="textAreaTop" fmla="*/ 135360 h 2592360"/>
              <a:gd name="textAreaBottom" fmla="*/ 2457000 h 2592360"/>
            </a:gdLst>
            <a:ahLst/>
            <a:rect l="textAreaLeft" t="textAreaTop" r="textAreaRight" b="textAreaBottom"/>
            <a:pathLst>
              <a:path w="21600" h="26798">
                <a:moveTo>
                  <a:pt x="0" y="0"/>
                </a:moveTo>
                <a:lnTo>
                  <a:pt x="21600" y="0"/>
                </a:lnTo>
                <a:lnTo>
                  <a:pt x="21600" y="26798"/>
                </a:lnTo>
                <a:lnTo>
                  <a:pt x="0" y="26798"/>
                </a:lnTo>
                <a:close/>
              </a:path>
              <a:path fill="lightenLess" w="21600" h="267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798">
                <a:moveTo>
                  <a:pt x="21600" y="0"/>
                </a:moveTo>
                <a:lnTo>
                  <a:pt x="21600" y="26798"/>
                </a:lnTo>
                <a:lnTo>
                  <a:pt x="20200" y="25398"/>
                </a:lnTo>
                <a:lnTo>
                  <a:pt x="20200" y="1400"/>
                </a:lnTo>
                <a:close/>
              </a:path>
              <a:path fill="darkenLess" w="21600" h="26798">
                <a:moveTo>
                  <a:pt x="21600" y="26798"/>
                </a:moveTo>
                <a:lnTo>
                  <a:pt x="0" y="26798"/>
                </a:lnTo>
                <a:lnTo>
                  <a:pt x="1400" y="25398"/>
                </a:lnTo>
                <a:lnTo>
                  <a:pt x="20200" y="25398"/>
                </a:lnTo>
                <a:close/>
              </a:path>
              <a:path fill="lighten" w="21600" h="26798">
                <a:moveTo>
                  <a:pt x="0" y="267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398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 rot="16200000">
            <a:off x="3528000" y="3786840"/>
            <a:ext cx="2089440" cy="2592360"/>
          </a:xfrm>
          <a:custGeom>
            <a:avLst/>
            <a:gdLst>
              <a:gd name="textAreaLeft" fmla="*/ 135360 w 2089440"/>
              <a:gd name="textAreaRight" fmla="*/ 1954080 w 2089440"/>
              <a:gd name="textAreaTop" fmla="*/ 135360 h 2592360"/>
              <a:gd name="textAreaBottom" fmla="*/ 2457000 h 2592360"/>
            </a:gdLst>
            <a:ahLst/>
            <a:rect l="textAreaLeft" t="textAreaTop" r="textAreaRight" b="textAreaBottom"/>
            <a:pathLst>
              <a:path w="21600" h="26798">
                <a:moveTo>
                  <a:pt x="0" y="0"/>
                </a:moveTo>
                <a:lnTo>
                  <a:pt x="21600" y="0"/>
                </a:lnTo>
                <a:lnTo>
                  <a:pt x="21600" y="26798"/>
                </a:lnTo>
                <a:lnTo>
                  <a:pt x="0" y="26798"/>
                </a:lnTo>
                <a:close/>
              </a:path>
              <a:path fill="lightenLess" w="21600" h="267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798">
                <a:moveTo>
                  <a:pt x="21600" y="0"/>
                </a:moveTo>
                <a:lnTo>
                  <a:pt x="21600" y="26798"/>
                </a:lnTo>
                <a:lnTo>
                  <a:pt x="20200" y="25398"/>
                </a:lnTo>
                <a:lnTo>
                  <a:pt x="20200" y="1400"/>
                </a:lnTo>
                <a:close/>
              </a:path>
              <a:path fill="darkenLess" w="21600" h="26798">
                <a:moveTo>
                  <a:pt x="21600" y="26798"/>
                </a:moveTo>
                <a:lnTo>
                  <a:pt x="0" y="26798"/>
                </a:lnTo>
                <a:lnTo>
                  <a:pt x="1400" y="25398"/>
                </a:lnTo>
                <a:lnTo>
                  <a:pt x="20200" y="25398"/>
                </a:lnTo>
                <a:close/>
              </a:path>
              <a:path fill="lighten" w="21600" h="26798">
                <a:moveTo>
                  <a:pt x="0" y="267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398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 rot="16200000">
            <a:off x="6347160" y="3786840"/>
            <a:ext cx="2089440" cy="2592360"/>
          </a:xfrm>
          <a:custGeom>
            <a:avLst/>
            <a:gdLst>
              <a:gd name="textAreaLeft" fmla="*/ 135360 w 2089440"/>
              <a:gd name="textAreaRight" fmla="*/ 1954080 w 2089440"/>
              <a:gd name="textAreaTop" fmla="*/ 135360 h 2592360"/>
              <a:gd name="textAreaBottom" fmla="*/ 2457000 h 2592360"/>
            </a:gdLst>
            <a:ahLst/>
            <a:rect l="textAreaLeft" t="textAreaTop" r="textAreaRight" b="textAreaBottom"/>
            <a:pathLst>
              <a:path w="21600" h="26798">
                <a:moveTo>
                  <a:pt x="0" y="0"/>
                </a:moveTo>
                <a:lnTo>
                  <a:pt x="21600" y="0"/>
                </a:lnTo>
                <a:lnTo>
                  <a:pt x="21600" y="26798"/>
                </a:lnTo>
                <a:lnTo>
                  <a:pt x="0" y="26798"/>
                </a:lnTo>
                <a:close/>
              </a:path>
              <a:path fill="lightenLess" w="21600" h="267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798">
                <a:moveTo>
                  <a:pt x="21600" y="0"/>
                </a:moveTo>
                <a:lnTo>
                  <a:pt x="21600" y="26798"/>
                </a:lnTo>
                <a:lnTo>
                  <a:pt x="20200" y="25398"/>
                </a:lnTo>
                <a:lnTo>
                  <a:pt x="20200" y="1400"/>
                </a:lnTo>
                <a:close/>
              </a:path>
              <a:path fill="darkenLess" w="21600" h="26798">
                <a:moveTo>
                  <a:pt x="21600" y="26798"/>
                </a:moveTo>
                <a:lnTo>
                  <a:pt x="0" y="26798"/>
                </a:lnTo>
                <a:lnTo>
                  <a:pt x="1400" y="25398"/>
                </a:lnTo>
                <a:lnTo>
                  <a:pt x="20200" y="25398"/>
                </a:lnTo>
                <a:close/>
              </a:path>
              <a:path fill="lighten" w="21600" h="26798">
                <a:moveTo>
                  <a:pt x="0" y="267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398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фото | Gintautas Steiblys (Gintas ) | трясогузка"/>
          <p:cNvPicPr/>
          <p:nvPr/>
        </p:nvPicPr>
        <p:blipFill>
          <a:blip r:embed="rId10"/>
          <a:srcRect l="2691" t="3941" r="10409" b="4639"/>
          <a:stretch/>
        </p:blipFill>
        <p:spPr>
          <a:xfrm>
            <a:off x="6248520" y="4191120"/>
            <a:ext cx="2305080" cy="1726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0" name="Рисунок 4" descr="picturecontent-pid-a751-et-456bec3.jpg"/>
          <p:cNvPicPr/>
          <p:nvPr/>
        </p:nvPicPr>
        <p:blipFill>
          <a:blip r:embed="rId11"/>
          <a:stretch/>
        </p:blipFill>
        <p:spPr>
          <a:xfrm>
            <a:off x="3505320" y="1676520"/>
            <a:ext cx="2232000" cy="180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1" name="Рисунок 6" descr="узнечик.gif"/>
          <p:cNvPicPr/>
          <p:nvPr/>
        </p:nvPicPr>
        <p:blipFill>
          <a:blip r:embed="rId12"/>
          <a:stretch/>
        </p:blipFill>
        <p:spPr>
          <a:xfrm>
            <a:off x="3429000" y="4267080"/>
            <a:ext cx="2293920" cy="167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2" name="Рисунок 11" descr="МАХАОН 2.jpg"/>
          <p:cNvPicPr/>
          <p:nvPr/>
        </p:nvPicPr>
        <p:blipFill>
          <a:blip r:embed="rId13"/>
          <a:stretch/>
        </p:blipFill>
        <p:spPr>
          <a:xfrm>
            <a:off x="6248520" y="1676520"/>
            <a:ext cx="2262240" cy="1785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3" name="Text Box 17"/>
          <p:cNvSpPr/>
          <p:nvPr/>
        </p:nvSpPr>
        <p:spPr>
          <a:xfrm>
            <a:off x="1219320" y="4572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Какие животные живут на луг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21" descr="krot_b.jpg"/>
          <p:cNvPicPr/>
          <p:nvPr/>
        </p:nvPicPr>
        <p:blipFill>
          <a:blip r:embed="rId14"/>
          <a:stretch/>
        </p:blipFill>
        <p:spPr>
          <a:xfrm>
            <a:off x="533520" y="4191120"/>
            <a:ext cx="23619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92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383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3733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луг12"/>
          <p:cNvPicPr/>
          <p:nvPr/>
        </p:nvPicPr>
        <p:blipFill>
          <a:blip r:embed="rId3"/>
          <a:srcRect l="0" t="41236" r="0" b="0"/>
          <a:stretch/>
        </p:blipFill>
        <p:spPr>
          <a:xfrm>
            <a:off x="304920" y="3505320"/>
            <a:ext cx="8534160" cy="3038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2819520" y="1295280"/>
            <a:ext cx="3504960" cy="8384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ЛУ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09480" y="2743200"/>
            <a:ext cx="3048120" cy="83808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410080" y="2743200"/>
            <a:ext cx="3048120" cy="83808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2285640" y="2133720"/>
            <a:ext cx="1600200" cy="6094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4800600" y="2133720"/>
            <a:ext cx="1523880" cy="60948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3657600" y="3124080"/>
            <a:ext cx="1752480" cy="0"/>
          </a:xfrm>
          <a:prstGeom prst="line">
            <a:avLst/>
          </a:prstGeom>
          <a:ln w="7632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 rot="16200000">
            <a:off x="876240" y="4762080"/>
            <a:ext cx="2438280" cy="83808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тра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 rot="16200000">
            <a:off x="3657600" y="4800240"/>
            <a:ext cx="2514600" cy="83844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насеко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 rot="16200000">
            <a:off x="4724280" y="4800240"/>
            <a:ext cx="2514600" cy="83808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смыкаю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 rot="16200000">
            <a:off x="5867280" y="4800240"/>
            <a:ext cx="2514600" cy="83808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т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 rot="16200000">
            <a:off x="6933960" y="4800240"/>
            <a:ext cx="2514600" cy="83808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в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21"/>
          <p:cNvCxnSpPr/>
          <p:nvPr/>
        </p:nvCxnSpPr>
        <p:spPr>
          <a:xfrm>
            <a:off x="4419720" y="76212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27"/>
          <p:cNvCxnSpPr/>
          <p:nvPr/>
        </p:nvCxnSpPr>
        <p:spPr>
          <a:xfrm>
            <a:off x="7086600" y="3580920"/>
            <a:ext cx="991440" cy="38196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23" name="Прямая со стрелкой 29"/>
          <p:cNvCxnSpPr>
            <a:endCxn id="117" idx="3"/>
          </p:cNvCxnSpPr>
          <p:nvPr/>
        </p:nvCxnSpPr>
        <p:spPr>
          <a:xfrm flipH="1">
            <a:off x="4915080" y="3580200"/>
            <a:ext cx="2171880" cy="38196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24" name="Прямая со стрелкой 31"/>
          <p:cNvCxnSpPr>
            <a:endCxn id="119" idx="3"/>
          </p:cNvCxnSpPr>
          <p:nvPr/>
        </p:nvCxnSpPr>
        <p:spPr>
          <a:xfrm>
            <a:off x="7086600" y="3580920"/>
            <a:ext cx="38880" cy="38196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25" name="Прямая со стрелкой 33"/>
          <p:cNvCxnSpPr>
            <a:endCxn id="118" idx="3"/>
          </p:cNvCxnSpPr>
          <p:nvPr/>
        </p:nvCxnSpPr>
        <p:spPr>
          <a:xfrm flipH="1">
            <a:off x="5981040" y="3580200"/>
            <a:ext cx="1105560" cy="38196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26" name="Прямая со стрелкой 35"/>
          <p:cNvCxnSpPr>
            <a:stCxn id="111" idx="2"/>
            <a:endCxn id="116" idx="3"/>
          </p:cNvCxnSpPr>
          <p:nvPr/>
        </p:nvCxnSpPr>
        <p:spPr>
          <a:xfrm flipH="1">
            <a:off x="2095200" y="3580920"/>
            <a:ext cx="38880" cy="381960"/>
          </a:xfrm>
          <a:prstGeom prst="straightConnector1">
            <a:avLst/>
          </a:prstGeom>
          <a:ln w="38160">
            <a:solidFill>
              <a:srgbClr val="0066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dmin.D0044EEAE7CC4EF\Рабочий стол\луг 2\0_64630_2b6eeb04_XL.jpe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994320" y="228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НАЧЕНИЕ ЛУГА ДЛ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d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РАВЬ ОШИБКИ В РАССК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ским воскресным днём мы отправились на луг.  Погода была хорошая. Как красиво кругом! Луг похож на пёстрый ковёр. Девочки нарвали большие  букеты цветов. Мальчики наловили бабочек и кузнечиков. Будет, что показать друзьям в городе. В траве  мы нашли гнездо какой-то птицы. В нём лежали маленькие голубоватые яйца. Мы подержали их в руках и положили обратно. Раздавили несколько гусениц – всё равно они вредные. Потом мы перекусили.   Пластиковые бутылки оставили – микробы их разрушат. Домой вернулись довольные. Весело прошёл  де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92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383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3733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луг12"/>
          <p:cNvPicPr/>
          <p:nvPr/>
        </p:nvPicPr>
        <p:blipFill>
          <a:blip r:embed="rId3"/>
          <a:srcRect l="0" t="41236" r="0" b="0"/>
          <a:stretch/>
        </p:blipFill>
        <p:spPr>
          <a:xfrm>
            <a:off x="304920" y="2895480"/>
            <a:ext cx="8534160" cy="36482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1461240" y="1143000"/>
            <a:ext cx="638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ЛУГ – ПРИРОДНОЕ СООБЩ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БЕРЕГИТЕ ЛУГ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Валентина Толкунова - Цветы на лугу (audiopoisk.com).mp3" descr=""/>
          <p:cNvPicPr/>
          <p:nvPr/>
        </p:nvPicPr>
        <p:blipFill>
          <a:blip r:embed="rId4"/>
          <a:stretch/>
        </p:blipFill>
        <p:spPr>
          <a:xfrm>
            <a:off x="7696080" y="52578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9925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066680" y="76212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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276720" y="-228600"/>
            <a:ext cx="2568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353040" y="2743200"/>
            <a:ext cx="30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534320" y="3733920"/>
            <a:ext cx="418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без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– 1-2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3 и более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92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383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37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луг12"/>
          <p:cNvPicPr/>
          <p:nvPr/>
        </p:nvPicPr>
        <p:blipFill>
          <a:blip r:embed="rId3"/>
          <a:srcRect l="0" t="41236" r="0" b="0"/>
          <a:stretch/>
        </p:blipFill>
        <p:spPr>
          <a:xfrm>
            <a:off x="304920" y="2362320"/>
            <a:ext cx="8534160" cy="4181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-228600" y="228600"/>
            <a:ext cx="937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Природное сообщество - луг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2952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925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715000" y="22860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ИЛ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280007-2011-06-17-0_48f3_17bb14f4_XL.jpg"/>
          <p:cNvPicPr/>
          <p:nvPr/>
        </p:nvPicPr>
        <p:blipFill>
          <a:blip r:embed="rId1"/>
          <a:stretch/>
        </p:blipFill>
        <p:spPr>
          <a:xfrm>
            <a:off x="533520" y="228600"/>
            <a:ext cx="3276360" cy="2895480"/>
          </a:xfrm>
          <a:prstGeom prst="rect">
            <a:avLst/>
          </a:prstGeom>
          <a:ln w="6480">
            <a:solidFill>
              <a:srgbClr val="7f7f7f"/>
            </a:solidFill>
            <a:miter/>
          </a:ln>
        </p:spPr>
      </p:pic>
      <p:pic>
        <p:nvPicPr>
          <p:cNvPr id="63" name="Рисунок 4" descr="paste140.jpg"/>
          <p:cNvPicPr/>
          <p:nvPr/>
        </p:nvPicPr>
        <p:blipFill>
          <a:blip r:embed="rId2"/>
          <a:stretch/>
        </p:blipFill>
        <p:spPr>
          <a:xfrm>
            <a:off x="4876920" y="990720"/>
            <a:ext cx="3886200" cy="5224320"/>
          </a:xfrm>
          <a:prstGeom prst="rect">
            <a:avLst/>
          </a:prstGeom>
          <a:ln w="6480">
            <a:solidFill>
              <a:srgbClr val="595959"/>
            </a:solidFill>
            <a:miter/>
          </a:ln>
        </p:spPr>
      </p:pic>
      <p:pic>
        <p:nvPicPr>
          <p:cNvPr id="64" name="Рисунок 3" descr="69e5ec60a6cc.jpg"/>
          <p:cNvPicPr/>
          <p:nvPr/>
        </p:nvPicPr>
        <p:blipFill>
          <a:blip r:embed="rId3"/>
          <a:stretch/>
        </p:blipFill>
        <p:spPr>
          <a:xfrm>
            <a:off x="838080" y="3352680"/>
            <a:ext cx="3657600" cy="3241800"/>
          </a:xfrm>
          <a:prstGeom prst="rect">
            <a:avLst/>
          </a:prstGeom>
          <a:ln w="648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066280" y="38088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782a5b7524c4.jpg"/>
          <p:cNvPicPr/>
          <p:nvPr/>
        </p:nvPicPr>
        <p:blipFill>
          <a:blip r:embed="rId1"/>
          <a:stretch/>
        </p:blipFill>
        <p:spPr>
          <a:xfrm>
            <a:off x="304920" y="304920"/>
            <a:ext cx="3975120" cy="2981160"/>
          </a:xfrm>
          <a:prstGeom prst="rect">
            <a:avLst/>
          </a:prstGeom>
          <a:ln w="6480">
            <a:solidFill>
              <a:srgbClr val="7f7f7f"/>
            </a:solidFill>
            <a:miter/>
          </a:ln>
        </p:spPr>
      </p:pic>
      <p:pic>
        <p:nvPicPr>
          <p:cNvPr id="67" name="Рисунок 3" descr="0005-013-TSvety-luga.jpg"/>
          <p:cNvPicPr/>
          <p:nvPr/>
        </p:nvPicPr>
        <p:blipFill>
          <a:blip r:embed="rId2"/>
          <a:stretch/>
        </p:blipFill>
        <p:spPr>
          <a:xfrm>
            <a:off x="304920" y="3581280"/>
            <a:ext cx="3936960" cy="2952720"/>
          </a:xfrm>
          <a:prstGeom prst="rect">
            <a:avLst/>
          </a:prstGeom>
          <a:ln w="6480">
            <a:solidFill>
              <a:srgbClr val="7f7f7f"/>
            </a:solidFill>
            <a:miter/>
          </a:ln>
        </p:spPr>
      </p:pic>
      <p:pic>
        <p:nvPicPr>
          <p:cNvPr id="68" name="Рисунок 4" descr="0_30658_47ceddee_XL.jpeg"/>
          <p:cNvPicPr/>
          <p:nvPr/>
        </p:nvPicPr>
        <p:blipFill>
          <a:blip r:embed="rId3"/>
          <a:stretch/>
        </p:blipFill>
        <p:spPr>
          <a:xfrm>
            <a:off x="4724280" y="1447920"/>
            <a:ext cx="4052880" cy="3809880"/>
          </a:xfrm>
          <a:prstGeom prst="rect">
            <a:avLst/>
          </a:prstGeom>
          <a:ln w="648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21840" y="60199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ЯНИК (ПОПОВН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275px-Ox-eye_daisy_01.jpg"/>
          <p:cNvPicPr/>
          <p:nvPr/>
        </p:nvPicPr>
        <p:blipFill>
          <a:blip r:embed="rId1"/>
          <a:stretch/>
        </p:blipFill>
        <p:spPr>
          <a:xfrm>
            <a:off x="1905120" y="3809880"/>
            <a:ext cx="2763720" cy="2070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200px-Chrysanthemumleucanthemum.jpg"/>
          <p:cNvPicPr/>
          <p:nvPr/>
        </p:nvPicPr>
        <p:blipFill>
          <a:blip r:embed="rId2">
            <a:lum contrast="10000"/>
          </a:blip>
          <a:srcRect l="0" t="0" r="0" b="4001"/>
          <a:stretch/>
        </p:blipFill>
        <p:spPr>
          <a:xfrm>
            <a:off x="228600" y="228600"/>
            <a:ext cx="2514600" cy="42242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2" name="TextBox 4"/>
          <p:cNvSpPr/>
          <p:nvPr/>
        </p:nvSpPr>
        <p:spPr>
          <a:xfrm>
            <a:off x="4592880" y="152280"/>
            <a:ext cx="43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КА АПТ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ромашка аптечная.jpg"/>
          <p:cNvPicPr/>
          <p:nvPr/>
        </p:nvPicPr>
        <p:blipFill>
          <a:blip r:embed="rId3"/>
          <a:stretch/>
        </p:blipFill>
        <p:spPr>
          <a:xfrm>
            <a:off x="5181480" y="762120"/>
            <a:ext cx="3492720" cy="2616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4" name="Рисунок 6" descr="452px-Koeh-091.jpg"/>
          <p:cNvPicPr/>
          <p:nvPr/>
        </p:nvPicPr>
        <p:blipFill>
          <a:blip r:embed="rId4"/>
          <a:stretch/>
        </p:blipFill>
        <p:spPr>
          <a:xfrm>
            <a:off x="5791320" y="3124080"/>
            <a:ext cx="2712960" cy="3595680"/>
          </a:xfrm>
          <a:prstGeom prst="rect">
            <a:avLst/>
          </a:prstGeom>
          <a:ln w="648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305280" y="22860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Т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882040" y="22860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ОФЕЕ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9" descr="ТИМОФЕЕВКА.jpg"/>
          <p:cNvPicPr/>
          <p:nvPr/>
        </p:nvPicPr>
        <p:blipFill>
          <a:blip r:embed="rId1"/>
          <a:stretch/>
        </p:blipFill>
        <p:spPr>
          <a:xfrm>
            <a:off x="5257800" y="685800"/>
            <a:ext cx="2209680" cy="2743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8" name="Рисунок 8" descr="ТИМОФЕЕВКА1.png"/>
          <p:cNvPicPr/>
          <p:nvPr/>
        </p:nvPicPr>
        <p:blipFill>
          <a:blip r:embed="rId2"/>
          <a:stretch/>
        </p:blipFill>
        <p:spPr>
          <a:xfrm>
            <a:off x="6781680" y="1447920"/>
            <a:ext cx="2133720" cy="2798640"/>
          </a:xfrm>
          <a:prstGeom prst="rect">
            <a:avLst/>
          </a:prstGeom>
          <a:ln w="6480">
            <a:solidFill>
              <a:srgbClr val="595959"/>
            </a:solidFill>
            <a:miter/>
          </a:ln>
        </p:spPr>
      </p:pic>
      <p:pic>
        <p:nvPicPr>
          <p:cNvPr id="79" name="Рисунок 11" descr="mjatlik1.jpg"/>
          <p:cNvPicPr/>
          <p:nvPr/>
        </p:nvPicPr>
        <p:blipFill>
          <a:blip r:embed="rId3"/>
          <a:stretch/>
        </p:blipFill>
        <p:spPr>
          <a:xfrm>
            <a:off x="2057400" y="685800"/>
            <a:ext cx="18763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Рисунок 10" descr="МЯТЛИК2.jpg"/>
          <p:cNvPicPr/>
          <p:nvPr/>
        </p:nvPicPr>
        <p:blipFill>
          <a:blip r:embed="rId4"/>
          <a:srcRect l="0" t="0" r="0" b="5557"/>
          <a:stretch/>
        </p:blipFill>
        <p:spPr>
          <a:xfrm>
            <a:off x="228600" y="914400"/>
            <a:ext cx="1981080" cy="3306600"/>
          </a:xfrm>
          <a:prstGeom prst="rect">
            <a:avLst/>
          </a:prstGeom>
          <a:ln w="6480">
            <a:solidFill>
              <a:srgbClr val="595959"/>
            </a:solidFill>
            <a:miter/>
          </a:ln>
        </p:spPr>
      </p:pic>
      <p:sp>
        <p:nvSpPr>
          <p:cNvPr id="81" name="TextBox 12"/>
          <p:cNvSpPr/>
          <p:nvPr/>
        </p:nvSpPr>
        <p:spPr>
          <a:xfrm>
            <a:off x="3214080" y="639612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А СБО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3" descr="Dactylis.jpg"/>
          <p:cNvPicPr/>
          <p:nvPr/>
        </p:nvPicPr>
        <p:blipFill>
          <a:blip r:embed="rId5"/>
          <a:stretch/>
        </p:blipFill>
        <p:spPr>
          <a:xfrm>
            <a:off x="2514600" y="3733920"/>
            <a:ext cx="1981080" cy="264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Рисунок 14" descr="get_blob.jpeg"/>
          <p:cNvPicPr/>
          <p:nvPr/>
        </p:nvPicPr>
        <p:blipFill>
          <a:blip r:embed="rId6"/>
          <a:stretch/>
        </p:blipFill>
        <p:spPr>
          <a:xfrm>
            <a:off x="4191120" y="3276720"/>
            <a:ext cx="1752480" cy="29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696600" y="22860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ВЕР ЛУ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4965840" y="2286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ИНЫЙ ГОРО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klever-500x500.jpg"/>
          <p:cNvPicPr/>
          <p:nvPr/>
        </p:nvPicPr>
        <p:blipFill>
          <a:blip r:embed="rId1"/>
          <a:srcRect l="14801" t="0" r="16403" b="0"/>
          <a:stretch/>
        </p:blipFill>
        <p:spPr>
          <a:xfrm>
            <a:off x="380880" y="762120"/>
            <a:ext cx="2362320" cy="34336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pic20.jpg"/>
          <p:cNvPicPr/>
          <p:nvPr/>
        </p:nvPicPr>
        <p:blipFill>
          <a:blip r:embed="rId2"/>
          <a:stretch/>
        </p:blipFill>
        <p:spPr>
          <a:xfrm>
            <a:off x="4191120" y="762120"/>
            <a:ext cx="3047760" cy="22860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88" name="Рисунок 6" descr="Myshinyj-goroshek-31.jpg"/>
          <p:cNvPicPr/>
          <p:nvPr/>
        </p:nvPicPr>
        <p:blipFill>
          <a:blip r:embed="rId3"/>
          <a:srcRect l="4846" t="0" r="0" b="5283"/>
          <a:stretch/>
        </p:blipFill>
        <p:spPr>
          <a:xfrm>
            <a:off x="5843520" y="2438280"/>
            <a:ext cx="2787840" cy="414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Рисунок 7" descr="fcdcb9693edd4138f7d589807cfe7170.JPG"/>
          <p:cNvPicPr/>
          <p:nvPr/>
        </p:nvPicPr>
        <p:blipFill>
          <a:blip r:embed="rId4"/>
          <a:stretch/>
        </p:blipFill>
        <p:spPr>
          <a:xfrm>
            <a:off x="2362320" y="3352680"/>
            <a:ext cx="2438280" cy="32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Box 1" descr=""/>
          <p:cNvPicPr/>
          <p:nvPr/>
        </p:nvPicPr>
        <p:blipFill>
          <a:blip r:embed="rId1"/>
          <a:stretch/>
        </p:blipFill>
        <p:spPr>
          <a:xfrm>
            <a:off x="1468440" y="1444680"/>
            <a:ext cx="61088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11T10:30:14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