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422A-B841-4B36-BBCA-478A11C03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йчас вы познакомитесь с моим друг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ой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оучаствуете в конкурс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огуляете по ле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Вспомните несколько прави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я  с незнакомыми людь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 Я вам уже сказала, что моего друга зовут,… как его зовут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ему встретилась красивая  белочка. (показ фильма) Рома быстро схватил шишку и пустил в ястреба. Птица улетела. Довольный мальчик ещё побродил по лесу и поехал до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 живёт на 9 этаже. Ему всегда приходится пользоваться лифтом. Если там находится незнакомец, как должен поступить ребёнок? (ответы дет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 пришёл домой. Тут позвонили в дверь. Он помнил, что чужим открывать нельзя. Рома посмотрел в глазок, это была мама. Мальчик обрадовался, открыл двер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 рассказал ей, как провёл день. Как вы думаете, о чём он ей рассказал? (Ответы дет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ующий раз мы вспомним, где был Рома, чем он занимался и вспомним  рассказ о белочке и берё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 живет он в городе…, как называется этот город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асноярск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 него вчера был очень насыщенный день. Он долго гулял по Краснояр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обенно ему понравилось около здания… Как называется это  здание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чной вокз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ут же на набережной он увидел клоу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роводил конкурс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решил поучаствоват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равильно ответил на все вопросы.   Думаю, что и вы справитесь со все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д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конкурсе наш Рома с удовольствием играл. Услышав в слове звук –Р- делал наклон направо, звук –Л- - налево. Сейчас мы с вами тоже подвигаемся, встаньте за стулья, делайте наклоны: если услышите звук –Р– направо, -Л- – нал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ующем конкурсе надо было назвать лишнюю картинку и объяснить, почему  она лишняя. Посмотрите внимательно и ответь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Лишняя – пирамидка, в названии остальных картинок – звук –Л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атем был конкурс  по сказкам К. Чуковского. Послушайте и скажите, какими словами заканчивается строчка, и назовите сказку. (Прослушивание строк из сказок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E4B2-1985-4D41-AB82-F277D1BE3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8FD4-72D1-48CC-9E27-8C94732CB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т Рома услышал интересное выражение: «вверх тормашками». Что же оно значит? Как вы думаете.   (Ответы детей). Он вспомнил, что ему об этом говорила бабушка: всё наоборот. всё не так, как раньше, кувыр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 поднял голову и увидел кроны берёз, они были необычайно красивы. Да, подумал Рома, правильно говорят : осень золотая.  В детском саду Роме рассказывали… (показ слай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туесок, деревце, корзинка, лапти, собачка, цветы, ваза, шкатул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0DF-D335-4085-8B5F-FFC50741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8E9-0032-49A5-A9BC-33D17ED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DCF-2D32-43A5-9247-8BCD27A8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05B-CE1B-486D-8FAC-98129F41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608-9AC8-4744-9DF0-196B0FBD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547-68FA-4839-A32C-382E9567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E0D-9696-4587-836E-0949F3AF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3CA-7214-44BD-AB39-25B6183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773-1BB5-47DE-BFA2-4AEA8777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6C8-046B-4E98-8A61-172B02DD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741-AFAF-47C8-806B-CAABE4C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86B-0B23-4074-AABB-6B14E283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CA9A-7DF4-428C-908B-A96E4954E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46c0a"/>
                </a:solidFill>
                <a:latin typeface="Arial"/>
                <a:ea typeface="Arial"/>
              </a:rPr>
              <a:t>Интересная прогулк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277120" y="293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5800" y="556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32523"/>
                </a:solidFill>
                <a:latin typeface="Arial"/>
              </a:rPr>
              <a:t>Привалихина Светлана Ильясовна</a:t>
            </a:r>
            <a:br>
              <a:rPr sz="2600"/>
            </a:br>
            <a:r>
              <a:rPr b="1" lang="ru-RU" sz="2600" spc="-1" strike="noStrike">
                <a:solidFill>
                  <a:srgbClr val="632523"/>
                </a:solidFill>
                <a:latin typeface="Arial"/>
              </a:rPr>
              <a:t>Детский сад № 197 ОАО «РЖД»</a:t>
            </a:r>
            <a:br>
              <a:rPr sz="2600"/>
            </a:br>
            <a:r>
              <a:rPr b="1" lang="ru-RU" sz="2600" spc="-1" strike="noStrike">
                <a:solidFill>
                  <a:srgbClr val="632523"/>
                </a:solidFill>
                <a:latin typeface="Arial"/>
              </a:rPr>
              <a:t>г. Красноярск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Фрагмент Белка1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90" name="~PP2497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571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C:\Documents and Settings\Administrator\My Documents\человек1.gif"/>
          <p:cNvPicPr/>
          <p:nvPr/>
        </p:nvPicPr>
        <p:blipFill>
          <a:blip r:embed="rId2"/>
          <a:stretch/>
        </p:blipFill>
        <p:spPr>
          <a:xfrm>
            <a:off x="2462040" y="1214280"/>
            <a:ext cx="4253040" cy="576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1571760" y="4614840"/>
            <a:ext cx="114300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429160" y="4572000"/>
            <a:ext cx="1104840" cy="21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mothers_day_35631-1024x7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0" y="-17640"/>
            <a:ext cx="11644200" cy="873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85840" y="214200"/>
            <a:ext cx="4000320" cy="328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4857840" y="214200"/>
            <a:ext cx="4000320" cy="328608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428760" y="5214960"/>
            <a:ext cx="755640" cy="107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2"/>
          <a:stretch/>
        </p:blipFill>
        <p:spPr>
          <a:xfrm>
            <a:off x="2357280" y="3857760"/>
            <a:ext cx="997200" cy="92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3"/>
          <a:stretch/>
        </p:blipFill>
        <p:spPr>
          <a:xfrm>
            <a:off x="3929040" y="4000680"/>
            <a:ext cx="8906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4"/>
          <a:stretch/>
        </p:blipFill>
        <p:spPr>
          <a:xfrm>
            <a:off x="7500960" y="578628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C:\Documents and Settings\Administrator\Desktop\картинки для през инт прогулка\короваjpg.jpg"/>
          <p:cNvPicPr/>
          <p:nvPr/>
        </p:nvPicPr>
        <p:blipFill>
          <a:blip r:embed="rId5"/>
          <a:stretch/>
        </p:blipFill>
        <p:spPr>
          <a:xfrm>
            <a:off x="357120" y="3786120"/>
            <a:ext cx="1349280" cy="1214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C:\Documents and Settings\Administrator\Desktop\картинки для през инт прогулка\карандаши.jpg"/>
          <p:cNvPicPr/>
          <p:nvPr/>
        </p:nvPicPr>
        <p:blipFill>
          <a:blip r:embed="rId6"/>
          <a:stretch/>
        </p:blipFill>
        <p:spPr>
          <a:xfrm>
            <a:off x="5214960" y="3786120"/>
            <a:ext cx="140652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C:\Documents and Settings\Administrator\Desktop\картинки для през инт прогулка\сковородка_f.jpg"/>
          <p:cNvPicPr/>
          <p:nvPr/>
        </p:nvPicPr>
        <p:blipFill>
          <a:blip r:embed="rId7"/>
          <a:stretch/>
        </p:blipFill>
        <p:spPr>
          <a:xfrm>
            <a:off x="7072200" y="3897360"/>
            <a:ext cx="1428840" cy="118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C:\Documents and Settings\Administrator\Desktop\картинки для през инт прогулка\помидор.jpg"/>
          <p:cNvPicPr/>
          <p:nvPr/>
        </p:nvPicPr>
        <p:blipFill>
          <a:blip r:embed="rId8"/>
          <a:stretch/>
        </p:blipFill>
        <p:spPr>
          <a:xfrm>
            <a:off x="5715000" y="5715000"/>
            <a:ext cx="936720" cy="843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C:\Documents and Settings\Administrator\My Documents\корабль_1.jpeg"/>
          <p:cNvPicPr/>
          <p:nvPr/>
        </p:nvPicPr>
        <p:blipFill>
          <a:blip r:embed="rId9"/>
          <a:stretch/>
        </p:blipFill>
        <p:spPr>
          <a:xfrm>
            <a:off x="1785960" y="5286240"/>
            <a:ext cx="1274760" cy="12398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2" descr=""/>
          <p:cNvPicPr/>
          <p:nvPr/>
        </p:nvPicPr>
        <p:blipFill>
          <a:blip r:embed="rId10"/>
          <a:stretch/>
        </p:blipFill>
        <p:spPr>
          <a:xfrm>
            <a:off x="3170160" y="12600"/>
            <a:ext cx="13953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5" descr=""/>
          <p:cNvPicPr/>
          <p:nvPr/>
        </p:nvPicPr>
        <p:blipFill>
          <a:blip r:embed="rId11"/>
          <a:stretch/>
        </p:blipFill>
        <p:spPr>
          <a:xfrm>
            <a:off x="4614840" y="12600"/>
            <a:ext cx="13716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C:\Documents and Settings\Administrator\Desktop\картинки для през инт прогулка\слон.jpg"/>
          <p:cNvPicPr/>
          <p:nvPr/>
        </p:nvPicPr>
        <p:blipFill>
          <a:blip r:embed="rId12"/>
          <a:stretch/>
        </p:blipFill>
        <p:spPr>
          <a:xfrm>
            <a:off x="3643200" y="5214960"/>
            <a:ext cx="122868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56041 -0.51852 E">
                                      <p:cBhvr>
                                        <p:cTn id="6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0.07662 L -0.21389 -0.47662 E">
                                      <p:cBhvr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-0.14375 -0.52801 E">
                                      <p:cBhvr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022E-016 L 0.08108 -0.33935 E">
                                      <p:cBhvr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02639 -0.23843 E">
                                      <p:cBhvr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1441 -0.70602 E">
                                      <p:cBhvr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1111E-006 L 0.61302 -0.7287 E">
                                      <p:cBhvr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022E-016 L -0.16215 -0.46968 E">
                                      <p:cBhvr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07813 -0.49467 E">
                                      <p:cBhvr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76875 -0.5324 E">
                                      <p:cBhvr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C:\Documents and Settings\Administrator\Desktop\картинки для през инт прогулка\колокольчик.png"/>
          <p:cNvPicPr/>
          <p:nvPr/>
        </p:nvPicPr>
        <p:blipFill>
          <a:blip r:embed="rId1"/>
          <a:stretch/>
        </p:blipFill>
        <p:spPr>
          <a:xfrm>
            <a:off x="1285920" y="714240"/>
            <a:ext cx="2185920" cy="218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Administrator\Desktop\картинки для през инт прогулка\волк.jpg"/>
          <p:cNvPicPr/>
          <p:nvPr/>
        </p:nvPicPr>
        <p:blipFill>
          <a:blip r:embed="rId2"/>
          <a:stretch/>
        </p:blipFill>
        <p:spPr>
          <a:xfrm>
            <a:off x="642960" y="2857680"/>
            <a:ext cx="3643200" cy="4000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Documents and Settings\Administrator\My Documents\iпирамидка.jpeg"/>
          <p:cNvPicPr/>
          <p:nvPr/>
        </p:nvPicPr>
        <p:blipFill>
          <a:blip r:embed="rId3"/>
          <a:stretch/>
        </p:blipFill>
        <p:spPr>
          <a:xfrm>
            <a:off x="6059520" y="4214880"/>
            <a:ext cx="1692360" cy="21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C:\Documents and Settings\Administrator\My Documents\кукла.jpg"/>
          <p:cNvPicPr/>
          <p:nvPr/>
        </p:nvPicPr>
        <p:blipFill>
          <a:blip r:embed="rId4"/>
          <a:stretch/>
        </p:blipFill>
        <p:spPr>
          <a:xfrm>
            <a:off x="5624640" y="0"/>
            <a:ext cx="2431800" cy="40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500040" y="3571920"/>
            <a:ext cx="2160720" cy="2879640"/>
          </a:xfrm>
          <a:prstGeom prst="rect">
            <a:avLst/>
          </a:prstGeom>
          <a:ln w="22320">
            <a:solidFill>
              <a:srgbClr val="77933c"/>
            </a:solidFill>
            <a:miter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6411960" y="3571920"/>
            <a:ext cx="2160720" cy="2879640"/>
          </a:xfrm>
          <a:prstGeom prst="rect">
            <a:avLst/>
          </a:prstGeom>
          <a:ln w="22320">
            <a:solidFill>
              <a:srgbClr val="77933c"/>
            </a:solidFill>
            <a:miter/>
          </a:ln>
        </p:spPr>
      </p:pic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482760" y="334800"/>
            <a:ext cx="2160360" cy="2880000"/>
          </a:xfrm>
          <a:prstGeom prst="rect">
            <a:avLst/>
          </a:prstGeom>
          <a:ln w="22320">
            <a:solidFill>
              <a:srgbClr val="77933c"/>
            </a:solidFill>
            <a:miter/>
          </a:ln>
        </p:spPr>
      </p:pic>
      <p:pic>
        <p:nvPicPr>
          <p:cNvPr id="74" name="Picture 3" descr=""/>
          <p:cNvPicPr/>
          <p:nvPr/>
        </p:nvPicPr>
        <p:blipFill>
          <a:blip r:embed="rId5"/>
          <a:stretch/>
        </p:blipFill>
        <p:spPr>
          <a:xfrm>
            <a:off x="3483000" y="334800"/>
            <a:ext cx="2160720" cy="2880000"/>
          </a:xfrm>
          <a:prstGeom prst="rect">
            <a:avLst/>
          </a:prstGeom>
          <a:ln w="22320">
            <a:solidFill>
              <a:srgbClr val="77933c"/>
            </a:solidFill>
            <a:miter/>
          </a:ln>
        </p:spPr>
      </p:pic>
      <p:pic>
        <p:nvPicPr>
          <p:cNvPr id="75" name="Picture 11" descr=""/>
          <p:cNvPicPr/>
          <p:nvPr/>
        </p:nvPicPr>
        <p:blipFill>
          <a:blip r:embed="rId6"/>
          <a:stretch/>
        </p:blipFill>
        <p:spPr>
          <a:xfrm>
            <a:off x="6429240" y="334800"/>
            <a:ext cx="2160720" cy="2880000"/>
          </a:xfrm>
          <a:prstGeom prst="rect">
            <a:avLst/>
          </a:prstGeom>
          <a:ln w="22320">
            <a:solidFill>
              <a:srgbClr val="77933c"/>
            </a:solidFill>
            <a:miter/>
          </a:ln>
        </p:spPr>
      </p:pic>
      <p:pic>
        <p:nvPicPr>
          <p:cNvPr id="76" name="Picture 12" descr=""/>
          <p:cNvPicPr/>
          <p:nvPr/>
        </p:nvPicPr>
        <p:blipFill>
          <a:blip r:embed="rId7"/>
          <a:stretch/>
        </p:blipFill>
        <p:spPr>
          <a:xfrm>
            <a:off x="3446640" y="3571920"/>
            <a:ext cx="2158920" cy="2879640"/>
          </a:xfrm>
          <a:prstGeom prst="rect">
            <a:avLst/>
          </a:prstGeom>
          <a:ln w="22320">
            <a:solidFill>
              <a:srgbClr val="77933c"/>
            </a:solidFill>
            <a:miter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беспорядок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вверх тормашками"/>
          <p:cNvPicPr/>
          <p:nvPr/>
        </p:nvPicPr>
        <p:blipFill>
          <a:blip r:embed="rId2"/>
          <a:stretch/>
        </p:blipFill>
        <p:spPr>
          <a:xfrm>
            <a:off x="5853240" y="0"/>
            <a:ext cx="3367080" cy="3733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Documents and Settings\Admin\Рабочий стол\берёза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80" name="~PP2509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C:\Documents and Settings\Admin\Рабочий стол\iберёза собака.jpeg"/>
          <p:cNvPicPr/>
          <p:nvPr/>
        </p:nvPicPr>
        <p:blipFill>
          <a:blip r:embed="rId1"/>
          <a:stretch/>
        </p:blipFill>
        <p:spPr>
          <a:xfrm>
            <a:off x="3500280" y="2571840"/>
            <a:ext cx="1962360" cy="172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:\Documents and Settings\Admin\Рабочий стол\сувенир 3.jpg"/>
          <p:cNvPicPr/>
          <p:nvPr/>
        </p:nvPicPr>
        <p:blipFill>
          <a:blip r:embed="rId2"/>
          <a:stretch/>
        </p:blipFill>
        <p:spPr>
          <a:xfrm>
            <a:off x="533520" y="380880"/>
            <a:ext cx="2286000" cy="2571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C:\Documents and Settings\Admin\Рабочий стол\iшкатулка.jpeg"/>
          <p:cNvPicPr/>
          <p:nvPr/>
        </p:nvPicPr>
        <p:blipFill>
          <a:blip r:embed="rId3"/>
          <a:stretch/>
        </p:blipFill>
        <p:spPr>
          <a:xfrm>
            <a:off x="3657600" y="4952880"/>
            <a:ext cx="17064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:\Documents and Settings\Admin\Рабочий стол\сувенир 4.jpg"/>
          <p:cNvPicPr/>
          <p:nvPr/>
        </p:nvPicPr>
        <p:blipFill>
          <a:blip r:embed="rId4"/>
          <a:stretch/>
        </p:blipFill>
        <p:spPr>
          <a:xfrm>
            <a:off x="6477120" y="3352680"/>
            <a:ext cx="2428920" cy="3071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C:\Documents and Settings\Admin\Рабочий стол\iсувенир 1.jpeg"/>
          <p:cNvPicPr/>
          <p:nvPr/>
        </p:nvPicPr>
        <p:blipFill>
          <a:blip r:embed="rId5"/>
          <a:stretch/>
        </p:blipFill>
        <p:spPr>
          <a:xfrm>
            <a:off x="609480" y="3657600"/>
            <a:ext cx="198144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C:\Documents and Settings\Admin\Рабочий стол\лаптиi.jpeg"/>
          <p:cNvPicPr/>
          <p:nvPr/>
        </p:nvPicPr>
        <p:blipFill>
          <a:blip r:embed="rId6"/>
          <a:stretch/>
        </p:blipFill>
        <p:spPr>
          <a:xfrm>
            <a:off x="6781680" y="38088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C:\Documents and Settings\Admin\Рабочий стол\iкорзинка.jpeg"/>
          <p:cNvPicPr/>
          <p:nvPr/>
        </p:nvPicPr>
        <p:blipFill>
          <a:blip r:embed="rId7"/>
          <a:stretch/>
        </p:blipFill>
        <p:spPr>
          <a:xfrm>
            <a:off x="4114800" y="457200"/>
            <a:ext cx="1347840" cy="1500120"/>
          </a:xfrm>
          <a:prstGeom prst="rect">
            <a:avLst/>
          </a:prstGeom>
          <a:ln w="0">
            <a:noFill/>
          </a:ln>
        </p:spPr>
      </p:pic>
      <p:pic>
        <p:nvPicPr>
          <p:cNvPr id="88" name="~PP1184.WAV" descr=""/>
          <p:cNvPicPr/>
          <p:nvPr/>
        </p:nvPicPr>
        <p:blipFill>
          <a:blip r:embed="rId8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2:53:13Z</dcterms:created>
  <dc:creator>Admin</dc:creator>
  <dc:description/>
  <dc:language>en-US</dc:language>
  <cp:lastModifiedBy>User</cp:lastModifiedBy>
  <dcterms:modified xsi:type="dcterms:W3CDTF">2012-03-23T05:56:04Z</dcterms:modified>
  <cp:revision>193</cp:revision>
  <dc:subject/>
  <dc:title>Слайд 1</dc:title>
</cp:coreProperties>
</file>