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97B0-0655-4D0F-BC69-155ACAD8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84A5-BE1D-4DD2-92C8-21A4A316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0398-F874-4EF9-A500-98F8EA6E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243C-D83E-4FCD-A9B5-76B17778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A7E2-CC3D-4D4F-9EE8-8A442991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27A3-9E5A-40EE-BB77-83B1EF10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42F2-9419-4E0F-B8C5-2DFFEE3C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B311-7736-48E2-95D7-1307A1F5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A930-ACD4-45C5-8A19-0978110B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EABF-9A93-401A-8663-D1EE7917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6813-E4C5-4265-9B3F-FC32BD28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1A63-A303-4F26-82D1-6758F4BE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843B-7619-4FAC-B8DB-F8B5125D6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49780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Arial"/>
              </a:rPr>
              <a:t>Турнир любознательны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6004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3280" y="1628640"/>
            <a:ext cx="450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н был задумчив и споко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гадкой круга увлеч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д ним невежественный воин, Взмахнул разбойничьим меч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9908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88000" y="404280"/>
            <a:ext cx="3898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шла столетий верениц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й подвиг не забы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кто не знает. Кто убийц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, знают вс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то был уб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213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501300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греческий ученый  - математик Архимед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атель гидростатики, создатель катапульт, кранов. Он определил приближенное значение числа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164360" y="476280"/>
            <a:ext cx="1619280" cy="1571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513160" y="0"/>
            <a:ext cx="37051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22:05:11Z</dcterms:created>
  <dc:creator>Computer</dc:creator>
  <dc:description/>
  <dc:language>en-US</dc:language>
  <cp:lastModifiedBy>Computer</cp:lastModifiedBy>
  <dcterms:modified xsi:type="dcterms:W3CDTF">2009-04-19T13:50:02Z</dcterms:modified>
  <cp:revision>5</cp:revision>
  <dc:subject/>
  <dc:title>Турнир любознательных</dc:title>
</cp:coreProperties>
</file>