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FDDB-7967-4FAC-AA04-B0270E30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778-AC5A-4030-A5AD-08708012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6FEF-4484-4AB6-AEF3-4127131E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4C32-392F-4613-A686-78D77EF4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5347-732E-4D49-A3B6-04A38B2E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3A72-4C8D-4952-81EA-A817C450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DF3B-5E7D-499F-A4EA-D369B75E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6A06-7894-4BC0-A2FA-3E62F850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8BFA-39F7-48CC-AFBD-7D1AD73B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42D0-3C5A-4F0E-B477-E9A5C976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C6C7-9306-400C-9AAD-6475FA29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2A6A-FBDA-4184-9A76-83CC981C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614E-72E8-40C7-AC15-6DB42EDC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005F-87E3-4214-84C0-10CDE6E5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5DCE-8A66-43A9-8C39-3FA6216E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EDA8-4ABB-4019-892F-0F0EA940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9C94-0584-4EBA-A69A-A24BA42C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C25-8F70-4FDA-9457-E2611E68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752-B7F3-4378-BBB2-8EC3897D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DC01-DE77-410A-B4B3-43AD1D24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DF9-6D7A-4C79-BC9D-7F1658D7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E374-221D-447F-8760-2F4326AE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A3A1-812C-4534-B440-A5A1851F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0793-B55F-407E-966A-36A5488E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C21A-C485-42C3-ACED-9836B3D1871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24B5-FD47-40CD-B0BF-8CB5200AF0D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907560"/>
            <a:ext cx="81342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Математика и афоризмы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Реклама математик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5084640"/>
            <a:ext cx="3529080" cy="1359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2038320" cy="1714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659640" y="4869000"/>
            <a:ext cx="2038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Этого ученого называл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королем математи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48000" y="2923920"/>
            <a:ext cx="353844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пробуйте назвать имя этого математик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8360" y="1746360"/>
            <a:ext cx="38844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87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59280" y="1773000"/>
            <a:ext cx="38275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Это известный немецкий математик 19 века Карл Гаус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685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Задание 3 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з полученных на карточках слов составьте самое известное высказывание Карла Гаусса и, используя его, попробуйте сделать рекламу математике в виде презентац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21:29:36Z</dcterms:created>
  <dc:creator>Computer</dc:creator>
  <dc:description/>
  <dc:language>en-US</dc:language>
  <cp:lastModifiedBy>Computer</cp:lastModifiedBy>
  <dcterms:modified xsi:type="dcterms:W3CDTF">2009-04-21T05:17:14Z</dcterms:modified>
  <cp:revision>4</cp:revision>
  <dc:subject/>
  <dc:title>Математика и афоризмы</dc:title>
</cp:coreProperties>
</file>