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782-D0EF-46E5-8829-0BC33DE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3AB-CB67-4A77-B253-3DBEF93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9A1-89FF-4823-9A19-98D3BCDB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D79-2F2A-4C9D-98D9-3403DE95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3D90-FE8E-424A-B426-04409CB7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7A7B-181E-43EF-A0E1-DD7604D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721-B5A2-458F-871D-D7201D17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DC5A-F7C3-4EB3-8B0E-3FD939CE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CEC-77E5-43BB-9449-509AA91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B93-477C-44D9-A9D4-994C542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4140-D778-43D7-AF4B-335D92D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7A3-E81F-475F-9D98-DF32094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120B-57D1-41A3-900B-8828C2F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D04-3288-4CBD-8736-1BF3FAE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977A-46A0-44A7-B4B1-B55017BA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88D-FDEA-49C4-9759-722C5D6B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653-0DCB-49C5-931C-81E5C530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5A6-7AE0-4BEE-9FCC-D2A6135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4C4-99D2-47A7-BD9D-46EE882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F78-F8EF-4989-8E58-7FD2137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6CE-64B5-4066-8086-BCE3D009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3D6-378D-4C2B-9353-400438B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5AB-3D39-40BF-9C8F-14981896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F4D-99BF-40BB-B9AF-98FAAA0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A79-9A0B-491F-ADB8-7ACB1AC3A10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8AA-1E43-4F75-BAF4-DCFABA32889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286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Математика в компьютерной графике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861080"/>
            <a:ext cx="60325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44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4248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Я видел карти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На этой карт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Стоит пирами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В песчаной пусты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2708280"/>
            <a:ext cx="41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404280"/>
            <a:ext cx="414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Все в пирамид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Необычай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Какая-то есть в н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Загадка и тай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27652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Comic Sans MS"/>
              </a:rPr>
              <a:t>Задание 2 ту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620640"/>
            <a:ext cx="7986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Используя компьютерную графику, вычертить следующие геометрические фигуры, подписать их и указать объем данной фигур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онус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Цилинд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Параллелепипе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Пирамида четырехугольная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уб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20:59:07Z</dcterms:created>
  <dc:creator>Computer</dc:creator>
  <dc:description/>
  <dc:language>en-US</dc:language>
  <cp:lastModifiedBy>Computer</cp:lastModifiedBy>
  <dcterms:modified xsi:type="dcterms:W3CDTF">2009-04-21T12:00:12Z</dcterms:modified>
  <cp:revision>6</cp:revision>
  <dc:subject/>
  <dc:title>Математика в компьютерной графике</dc:title>
</cp:coreProperties>
</file>