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wind.wav" ContentType="audio/x-wav"/>
  <Override PartName="/ppt/media/image2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6DF33-C931-46EC-986F-616BD3A84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9F987-1F55-40AE-82E9-FCF18B178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D31B6-4DD4-4FE5-813A-421FD6D9B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7C2FE-0506-4E95-AD16-4BBB125D3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65F17-B69C-4179-A033-7379B6A1D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006B9-AD7E-43A5-B847-B52526113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D1D75-15D3-4A62-B1E3-6048D45F3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9AC05-C5C0-4585-AC17-8BE2DBCAA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B3124-F6E7-4ADB-8BFA-0742B44A2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92685-B014-41A3-B96C-9D3734DE1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36598-1BC2-47FE-AD0F-5F17D5C53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DDBB5-549C-4B61-AF4B-231004160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ABF9F-7BAC-4DA2-B896-3029B54C4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481D4-FD02-4F64-828E-997CA5D2B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ABC1D-518E-4D11-BF08-7D593F58E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84926-20C5-456B-8BA0-9FCD422E3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94B5C-31EF-40DE-A994-2936BED69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DB6B5-51FB-4797-BE07-218CA0146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15F33-0628-47D9-AB13-C16999536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189F4-E424-4B22-B5F5-E36704932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EB78F-C060-43F5-B3CA-1CD71ECAA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128D2-21F3-4931-9814-483A2105F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88932-2E99-4F5F-B173-4B12ACF42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F7379-43DD-4A23-9BB8-A967EB879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454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B850C-494B-4C23-BFD0-4B0CE2FD9B8F}" type="slidenum">
              <a:rPr b="0" lang="en-US" sz="10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454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8E75A-C7D3-43E9-9B05-7FE068B98C55}" type="slidenum">
              <a:rPr b="0" lang="en-US" sz="10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wind.wav"/><Relationship Id="rId2" Type="http://schemas.openxmlformats.org/officeDocument/2006/relationships/audio" Target="../media/wind.wav"/><Relationship Id="rId3" Type="http://schemas.openxmlformats.org/officeDocument/2006/relationships/audio" Target="../media/wind.wav"/><Relationship Id="rId4" Type="http://schemas.openxmlformats.org/officeDocument/2006/relationships/audio" Target="../media/wind.wav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454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ecff"/>
                </a:solidFill>
                <a:latin typeface="Arial"/>
              </a:rPr>
              <a:t>Умеете считать?</a:t>
            </a:r>
            <a:endParaRPr b="0" lang="en-US" sz="6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3419640" y="3484440"/>
            <a:ext cx="4392360" cy="25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454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0" y="2725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ecff"/>
                </a:solidFill>
                <a:latin typeface="comic"/>
              </a:rPr>
              <a:t>Математическая эстафета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0" y="1699920"/>
            <a:ext cx="91440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Результат вычислений</a:t>
            </a:r>
            <a:endParaRPr b="0" lang="en-US" sz="6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203640" y="4149720"/>
            <a:ext cx="3251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15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4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454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ccecff"/>
                </a:solidFill>
                <a:latin typeface="Arial"/>
              </a:rPr>
              <a:t>С победой!</a:t>
            </a:r>
            <a:endParaRPr b="0" lang="en-US" sz="8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3449520" y="1889280"/>
            <a:ext cx="4578480" cy="45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454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59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Не из учебника задача,</a:t>
            </a:r>
            <a:br>
              <a:rPr sz="4400"/>
            </a:b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а потрудней открылся шифр.</a:t>
            </a:r>
            <a:br>
              <a:rPr sz="4400"/>
            </a:b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Ребята поняли, что значит</a:t>
            </a:r>
            <a:br>
              <a:rPr sz="4400"/>
            </a:b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простые с виду десять цифр.</a:t>
            </a:r>
            <a:br>
              <a:rPr sz="4400"/>
            </a:b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Да, путь познания не гладок.</a:t>
            </a:r>
            <a:br>
              <a:rPr sz="4400"/>
            </a:b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Но знайте вы со школьных лет: </a:t>
            </a:r>
            <a:br>
              <a:rPr sz="4400"/>
            </a:b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загадок больше, чем разгадок, и поискам предела нет!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120"/>
                                  </p:iterate>
                                  <p:childTnLst>
                                    <p:set>
                                      <p:cBhvr>
                                        <p:cTn id="6" dur="3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454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5400" y="272880"/>
            <a:ext cx="8226360" cy="250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cecff"/>
                </a:solidFill>
                <a:latin typeface="Lucida Console"/>
              </a:rPr>
              <a:t>Поиграем?</a:t>
            </a:r>
            <a:endParaRPr b="0" lang="en-US" sz="8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5400" y="3573000"/>
            <a:ext cx="8226360" cy="25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600" spc="-1" strike="noStrike">
                <a:solidFill>
                  <a:srgbClr val="00cc66"/>
                </a:solidFill>
                <a:latin typeface="Arial"/>
              </a:rPr>
              <a:t>Посчитаем?</a:t>
            </a:r>
            <a:endParaRPr b="0" lang="en-US" sz="6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454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ecff"/>
                </a:solidFill>
                <a:latin typeface="comic"/>
              </a:rPr>
              <a:t>Математическая эстафета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0" y="2637000"/>
            <a:ext cx="91440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8000"/>
          </a:bodyPr>
          <a:p>
            <a:pPr marL="164520" indent="0" algn="ctr">
              <a:spcBef>
                <a:spcPts val="3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0" spc="-1" strike="noStrike">
                <a:solidFill>
                  <a:srgbClr val="eaeaea"/>
                </a:solidFill>
                <a:latin typeface="Arial"/>
              </a:rPr>
              <a:t>1+</a:t>
            </a:r>
            <a:r>
              <a:rPr b="0" lang="en-US" sz="13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u-RU" sz="13000" spc="-1" strike="noStrike">
                <a:solidFill>
                  <a:srgbClr val="eaeaea"/>
                </a:solidFill>
                <a:latin typeface="Arial"/>
              </a:rPr>
              <a:t>22</a:t>
            </a:r>
            <a:r>
              <a:rPr b="0" lang="en-US" sz="13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u-RU" sz="13000" spc="-1" strike="noStrike">
                <a:solidFill>
                  <a:srgbClr val="eaeaea"/>
                </a:solidFill>
                <a:latin typeface="Arial"/>
              </a:rPr>
              <a:t>/</a:t>
            </a:r>
            <a:r>
              <a:rPr b="0" lang="en-US" sz="13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u-RU" sz="13000" spc="-1" strike="noStrike">
                <a:solidFill>
                  <a:srgbClr val="eaeaea"/>
                </a:solidFill>
                <a:latin typeface="Arial"/>
              </a:rPr>
              <a:t>2=</a:t>
            </a:r>
            <a:r>
              <a:rPr b="0" lang="en-US" sz="13000" spc="-1" strike="noStrike">
                <a:solidFill>
                  <a:srgbClr val="eaeaea"/>
                </a:solidFill>
                <a:latin typeface="Arial"/>
              </a:rPr>
              <a:t>X</a:t>
            </a:r>
            <a:endParaRPr b="0" lang="en-US" sz="13000" spc="-1" strike="noStrike">
              <a:solidFill>
                <a:srgbClr val="eaeaea"/>
              </a:solidFill>
              <a:latin typeface="Arial"/>
            </a:endParaRPr>
          </a:p>
          <a:p>
            <a:pPr marL="164520" indent="0" algn="ctr">
              <a:spcBef>
                <a:spcPts val="3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0" spc="-1" strike="noStrike">
                <a:solidFill>
                  <a:srgbClr val="eaeaea"/>
                </a:solidFill>
                <a:latin typeface="Arial"/>
              </a:rPr>
              <a:t>X ?</a:t>
            </a:r>
            <a:endParaRPr b="0" lang="en-US" sz="13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50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50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50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50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8">
                                  <p:stCondLst>
                                    <p:cond delay="0"/>
                                  </p:stCondLst>
                                  <p:iterate type="wd">
                                    <p:tmAbs val="150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5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5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ind.wav"/>
                                        </p:tgtEl>
                                      </p:cMediaNode>
                                    </p:audio>
                                    <p:animMotion origin="layout" path="M 0.02014 0.23699 C 0.09184 0.14959 0.16372 0.0622 0.27344 0.04601 C 0.38316 0.02983 0.60035 0.11815 0.6783 0.13919 C 0.7566 0.16046 0.69635 0.22774 0.74184 0.17272 C 0.78733 0.11746 0.91545 -0.1274 0.95174 -0.19168 C 0.98802 -0.25595 1.00816 -0.2178 0.96007 -0.21387 C 0.91198 -0.20994 0.82465 -0.16809 0.66337 -0.1674 C 0.50208 -0.16671 0.10382 -0.20254 -0.00816 -0.20948 E">
                                      <p:cBhvr>
                                        <p:cTn id="46" dur="20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ind.wav"/>
                                        </p:tgtEl>
                                      </p:cMediaNode>
                                    </p:audio>
                                    <p:animMotion origin="layout" path="M 0.02014 0.23699 C 0.09184 0.14959 0.16372 0.0622 0.27344 0.04601 C 0.38316 0.02983 0.60035 0.11815 0.6783 0.13919 C 0.7566 0.16046 0.69635 0.22774 0.74184 0.17272 C 0.78733 0.11746 0.91545 -0.1274 0.95174 -0.19168 C 0.98802 -0.25595 1.00816 -0.2178 0.96007 -0.21387 C 0.91198 -0.20994 0.82465 -0.16809 0.66337 -0.1674 C 0.50208 -0.16671 0.10382 -0.20254 -0.00816 -0.20948 E">
                                      <p:cBhvr>
                                        <p:cTn id="50" dur="20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54" dur="500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454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comic"/>
              </a:rPr>
              <a:t>Математическая эстафета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5400" y="1598400"/>
            <a:ext cx="8226360" cy="29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3" name=""/>
              <p:cNvSpPr txBox="1"/>
              <p:nvPr/>
            </p:nvSpPr>
            <p:spPr>
              <a:xfrm>
                <a:off x="539640" y="1700280"/>
                <a:ext cx="8209080" cy="269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4" name=""/>
          <p:cNvSpPr/>
          <p:nvPr/>
        </p:nvSpPr>
        <p:spPr>
          <a:xfrm>
            <a:off x="2050920" y="4919040"/>
            <a:ext cx="3745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600" spc="-1" strike="noStrike">
                <a:solidFill>
                  <a:srgbClr val="eaeaea"/>
                </a:solidFill>
                <a:latin typeface="Arial"/>
              </a:rPr>
              <a:t>Y ?</a:t>
            </a:r>
            <a:endParaRPr b="0" lang="en-US" sz="9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79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454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0" y="2725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ecff"/>
                </a:solidFill>
                <a:latin typeface="comic"/>
              </a:rPr>
              <a:t>Математическая эстафета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0" y="2565000"/>
            <a:ext cx="91440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0" spc="-1" strike="noStrike">
                <a:solidFill>
                  <a:srgbClr val="ff0066"/>
                </a:solidFill>
                <a:latin typeface="Arial"/>
              </a:rPr>
              <a:t>Y + 3 – 13 = Z</a:t>
            </a:r>
            <a:endParaRPr b="0" lang="en-US" sz="1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564000" y="4979520"/>
            <a:ext cx="2808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eaeaea"/>
                </a:solidFill>
                <a:latin typeface="Arial"/>
              </a:rPr>
              <a:t>Z ?</a:t>
            </a:r>
            <a:endParaRPr b="0" lang="en-US" sz="8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454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0" y="2725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ecff"/>
                </a:solidFill>
                <a:latin typeface="comic"/>
              </a:rPr>
              <a:t>Математическая эстафета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0" y="2491920"/>
            <a:ext cx="914400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1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600" spc="-1" strike="noStrike">
                <a:solidFill>
                  <a:srgbClr val="ffff99"/>
                </a:solidFill>
                <a:latin typeface="Arial"/>
              </a:rPr>
              <a:t>Z</a:t>
            </a:r>
            <a:r>
              <a:rPr b="0" lang="en-US" sz="8600" spc="-1" strike="noStrike">
                <a:solidFill>
                  <a:srgbClr val="ffff99"/>
                </a:solidFill>
                <a:latin typeface="Arial"/>
                <a:ea typeface="Arial"/>
              </a:rPr>
              <a:t>·(13 – 7 – </a:t>
            </a:r>
            <a:r>
              <a:rPr b="0" lang="ru-RU" sz="8600" spc="-1" strike="noStrike">
                <a:solidFill>
                  <a:srgbClr val="ffff99"/>
                </a:solidFill>
                <a:latin typeface="Arial"/>
                <a:ea typeface="Arial"/>
              </a:rPr>
              <a:t>4</a:t>
            </a:r>
            <a:r>
              <a:rPr b="0" lang="en-US" sz="8600" spc="-1" strike="noStrike">
                <a:solidFill>
                  <a:srgbClr val="ffff99"/>
                </a:solidFill>
                <a:latin typeface="Arial"/>
                <a:ea typeface="Arial"/>
              </a:rPr>
              <a:t>) = N</a:t>
            </a:r>
            <a:endParaRPr b="0" lang="en-US" sz="8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700360" y="5013360"/>
            <a:ext cx="4319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99"/>
                </a:solidFill>
                <a:latin typeface="Arial"/>
              </a:rPr>
              <a:t>N ?</a:t>
            </a:r>
            <a:endParaRPr b="0" lang="en-US" sz="9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2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3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454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0" y="2725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ecff"/>
                </a:solidFill>
                <a:latin typeface="comic"/>
              </a:rPr>
              <a:t>Математическая эстафета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5760" y="2708280"/>
            <a:ext cx="868824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ff"/>
                </a:solidFill>
                <a:latin typeface="Arial"/>
              </a:rPr>
              <a:t>N * 5 / 4 - 20 = K</a:t>
            </a:r>
            <a:endParaRPr b="0" lang="en-US" sz="8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979640" y="4941720"/>
            <a:ext cx="5113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ff"/>
                </a:solidFill>
                <a:latin typeface="Arial"/>
              </a:rPr>
              <a:t>K ?</a:t>
            </a:r>
            <a:endParaRPr b="0" lang="en-US" sz="9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37" dur="20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454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2725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ecff"/>
                </a:solidFill>
                <a:latin typeface="comic"/>
              </a:rPr>
              <a:t>Математическая эстафета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5400" y="2492280"/>
            <a:ext cx="82263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Arial"/>
              </a:rPr>
              <a:t>(K</a:t>
            </a:r>
            <a:r>
              <a:rPr b="0" lang="en-US" sz="8800" spc="-1" strike="noStrike" baseline="30000">
                <a:solidFill>
                  <a:srgbClr val="ffffff"/>
                </a:solidFill>
                <a:latin typeface="Arial"/>
              </a:rPr>
              <a:t>2 - </a:t>
            </a:r>
            <a:r>
              <a:rPr b="0" lang="en-US" sz="8800" spc="-1" strike="noStrike">
                <a:solidFill>
                  <a:srgbClr val="ffffff"/>
                </a:solidFill>
                <a:latin typeface="Arial"/>
              </a:rPr>
              <a:t>15) – (3 +2) = </a:t>
            </a:r>
            <a:r>
              <a:rPr b="0" lang="ru-RU" sz="8800" spc="-1" strike="noStrike">
                <a:solidFill>
                  <a:srgbClr val="ffffff"/>
                </a:solidFill>
                <a:latin typeface="Arial"/>
              </a:rPr>
              <a:t>Результат</a:t>
            </a:r>
            <a:endParaRPr b="0" lang="en-US" sz="8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4T17:41:05Z</dcterms:created>
  <dc:creator>Computer</dc:creator>
  <dc:description/>
  <dc:language>en-US</dc:language>
  <cp:lastModifiedBy>Каб-201</cp:lastModifiedBy>
  <dcterms:modified xsi:type="dcterms:W3CDTF">2009-04-21T07:23:33Z</dcterms:modified>
  <cp:revision>4</cp:revision>
  <dc:subject/>
  <dc:title>Слайд 1</dc:title>
</cp:coreProperties>
</file>