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FF2-B57E-4F1A-9B97-97ACCA9D8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52C-C859-4FB0-A77D-765340094B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931-E7BE-4726-8823-E81ADA11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806-9F8B-4C96-BC6F-32B8DE1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EA3-746E-4745-A469-987197AD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460-5AB2-45A9-8E4F-16A62A32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FEBE-845A-4489-A23C-78BF7638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650-4BFE-4758-B95B-64A35F7E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B52-019B-4196-8030-1EAD12E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022-64F1-4961-8160-9C0A0140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52F0-D605-46CE-81A0-22B6FA14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2B18-364A-4095-8A61-BECB3FD3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3E15-DDB3-4BAE-9612-B384952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A5D-0726-478F-A7E7-28A5F97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01E-D23B-4B84-BFAE-3DB1207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9D2B-C108-4FCF-9B47-C5F9335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9F0-3043-4B0D-BDDE-D97EC6B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97F-564C-4CBF-8839-223A4E8E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A74B-DF3C-4146-9A5C-0673DBAB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B38-B901-4900-A219-60413483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5F4-25D0-4C42-8CC7-E425F9C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3DE-DBA7-4B65-A1F9-63973F0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95A-73C1-4A36-AD9E-14094C39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FF3-8766-4204-B08C-C2742D2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BA3-7363-46A9-85C8-BE31AE4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896-0666-4D0D-9474-1C08D8D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414-B184-428A-96AC-E917C4BE213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DA61-80E7-4CD0-93DD-39305B7C06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over0f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pic_david"/>
          <p:cNvPicPr/>
          <p:nvPr/>
        </p:nvPicPr>
        <p:blipFill>
          <a:blip r:embed="rId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pic_china2"/>
          <p:cNvPicPr/>
          <p:nvPr/>
        </p:nvPicPr>
        <p:blipFill>
          <a:blip r:embed="rId3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pic_egipt1"/>
          <p:cNvPicPr/>
          <p:nvPr/>
        </p:nvPicPr>
        <p:blipFill>
          <a:blip r:embed="rId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pic_lopuhina"/>
          <p:cNvPicPr/>
          <p:nvPr/>
        </p:nvPicPr>
        <p:blipFill>
          <a:blip r:embed="rId5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pic_egipt"/>
          <p:cNvPicPr/>
          <p:nvPr/>
        </p:nvPicPr>
        <p:blipFill>
          <a:blip r:embed="rId6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pic_mikelandgelo"/>
          <p:cNvPicPr/>
          <p:nvPr/>
        </p:nvPicPr>
        <p:blipFill>
          <a:blip r:embed="rId7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pic_nat2"/>
          <p:cNvPicPr/>
          <p:nvPr/>
        </p:nvPicPr>
        <p:blipFill>
          <a:blip r:embed="rId8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pic_nat1"/>
          <p:cNvPicPr/>
          <p:nvPr/>
        </p:nvPicPr>
        <p:blipFill>
          <a:blip r:embed="rId9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pic_margarita"/>
          <p:cNvPicPr/>
          <p:nvPr/>
        </p:nvPicPr>
        <p:blipFill>
          <a:blip r:embed="rId10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pic_ahmatova"/>
          <p:cNvPicPr/>
          <p:nvPr/>
        </p:nvPicPr>
        <p:blipFill>
          <a:blip r:embed="rId11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ic_china"/>
          <p:cNvPicPr/>
          <p:nvPr/>
        </p:nvPicPr>
        <p:blipFill>
          <a:blip r:embed="rId1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pic_demidov"/>
          <p:cNvPicPr/>
          <p:nvPr/>
        </p:nvPicPr>
        <p:blipFill>
          <a:blip r:embed="rId13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pic_cirkul"/>
          <p:cNvPicPr/>
          <p:nvPr/>
        </p:nvPicPr>
        <p:blipFill>
          <a:blip r:embed="rId1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ackTitle4"/>
          <p:cNvPicPr/>
          <p:nvPr/>
        </p:nvPicPr>
        <p:blipFill>
          <a:blip r:embed="rId15"/>
          <a:stretch/>
        </p:blipFill>
        <p:spPr>
          <a:xfrm>
            <a:off x="3564000" y="1557360"/>
            <a:ext cx="2952720" cy="2052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250920" y="5734080"/>
            <a:ext cx="6041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 для 4 класса средней общеобразовательной школы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bangkok_golden_budda"/>
          <p:cNvPicPr/>
          <p:nvPr/>
        </p:nvPicPr>
        <p:blipFill>
          <a:blip r:embed="rId1"/>
          <a:stretch/>
        </p:blipFill>
        <p:spPr>
          <a:xfrm>
            <a:off x="4979880" y="1700280"/>
            <a:ext cx="2378160" cy="38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Rublev_Troitsa"/>
          <p:cNvPicPr/>
          <p:nvPr/>
        </p:nvPicPr>
        <p:blipFill>
          <a:blip r:embed="rId2"/>
          <a:stretch/>
        </p:blipFill>
        <p:spPr>
          <a:xfrm>
            <a:off x="4454640" y="1700280"/>
            <a:ext cx="3089160" cy="381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ndia_taj_mahal"/>
          <p:cNvPicPr/>
          <p:nvPr/>
        </p:nvPicPr>
        <p:blipFill>
          <a:blip r:embed="rId3"/>
          <a:stretch/>
        </p:blipFill>
        <p:spPr>
          <a:xfrm>
            <a:off x="3492360" y="1700280"/>
            <a:ext cx="5126040" cy="3844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лигия – источник вдохновения мастеров на создание шедевров мирового искусст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дд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истиа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л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68360" y="53758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И.Чуковский: «Невозможно понять мировое искусство, если не знать библейских предани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19000"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амостоятельная работа с книгой – хорошая возможность ответить на многие вопросы, узнать ново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3" descr="SSA54821"/>
          <p:cNvPicPr/>
          <p:nvPr/>
        </p:nvPicPr>
        <p:blipFill>
          <a:blip r:embed="rId1"/>
          <a:stretch/>
        </p:blipFill>
        <p:spPr>
          <a:xfrm>
            <a:off x="1619280" y="198900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p:transition advTm="49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ниторинг результатов деятельности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щихся в программе «Мировая художественная культура в 4 классе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341360"/>
          <a:ext cx="9144000" cy="5384880"/>
        </p:xfrm>
        <a:graphic>
          <a:graphicData uri="http://schemas.openxmlformats.org/drawingml/2006/table">
            <a:tbl>
              <a:tblPr/>
              <a:tblGrid>
                <a:gridCol w="2730600"/>
                <a:gridCol w="2041560"/>
                <a:gridCol w="2179440"/>
                <a:gridCol w="2192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к знаниям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 контр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я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жуто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редмет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постижение знаний о многообразии и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ой самобытности культу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знания об источниках информ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борка материала по теме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иды искусств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бор книг по теме «Средние века. Рыцарский мир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ение картотеки книг по теме «Музеи мир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Деятельностно-коммуникатив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умение высказывать собственное мнение, давать и обосновывать оценочные суж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формирование умения правильного общения с произведениями искус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учащихся по теме «Фразеологические оборо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зентация буклетов «Мой муз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ение кроссворда «Мифы Древней Греци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 тетрадей по МХ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инение «Что я знаю о крылатых словах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инение «Образ древнерус-ского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гатыр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Ценностно-ориентацио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выработка собственного отношения к произведениям искус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выработка собственной оценки источников информации, осознание ценности собранной информ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ение вопросника по тематике зан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 «Словарь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ая работа «Готи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ение словаря по заданной темати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инение «Глядя на портрет Мадон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ение словаря терминов и понятий по собственному выбор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over0f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pic_david"/>
          <p:cNvPicPr/>
          <p:nvPr/>
        </p:nvPicPr>
        <p:blipFill>
          <a:blip r:embed="rId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pic_china2"/>
          <p:cNvPicPr/>
          <p:nvPr/>
        </p:nvPicPr>
        <p:blipFill>
          <a:blip r:embed="rId3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ic_egipt1"/>
          <p:cNvPicPr/>
          <p:nvPr/>
        </p:nvPicPr>
        <p:blipFill>
          <a:blip r:embed="rId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ic_lopuhina"/>
          <p:cNvPicPr/>
          <p:nvPr/>
        </p:nvPicPr>
        <p:blipFill>
          <a:blip r:embed="rId5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ic_egipt"/>
          <p:cNvPicPr/>
          <p:nvPr/>
        </p:nvPicPr>
        <p:blipFill>
          <a:blip r:embed="rId6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pic_mikelandgelo"/>
          <p:cNvPicPr/>
          <p:nvPr/>
        </p:nvPicPr>
        <p:blipFill>
          <a:blip r:embed="rId7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pic_nat2"/>
          <p:cNvPicPr/>
          <p:nvPr/>
        </p:nvPicPr>
        <p:blipFill>
          <a:blip r:embed="rId8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pic_nat1"/>
          <p:cNvPicPr/>
          <p:nvPr/>
        </p:nvPicPr>
        <p:blipFill>
          <a:blip r:embed="rId9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pic_margarita"/>
          <p:cNvPicPr/>
          <p:nvPr/>
        </p:nvPicPr>
        <p:blipFill>
          <a:blip r:embed="rId10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pic_ahmatova"/>
          <p:cNvPicPr/>
          <p:nvPr/>
        </p:nvPicPr>
        <p:blipFill>
          <a:blip r:embed="rId11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pic_china"/>
          <p:cNvPicPr/>
          <p:nvPr/>
        </p:nvPicPr>
        <p:blipFill>
          <a:blip r:embed="rId1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pic_demidov"/>
          <p:cNvPicPr/>
          <p:nvPr/>
        </p:nvPicPr>
        <p:blipFill>
          <a:blip r:embed="rId13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pic_cirkul"/>
          <p:cNvPicPr/>
          <p:nvPr/>
        </p:nvPicPr>
        <p:blipFill>
          <a:blip r:embed="rId1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BackTitle4"/>
          <p:cNvPicPr/>
          <p:nvPr/>
        </p:nvPicPr>
        <p:blipFill>
          <a:blip r:embed="rId15"/>
          <a:stretch/>
        </p:blipFill>
        <p:spPr>
          <a:xfrm>
            <a:off x="3564000" y="1557360"/>
            <a:ext cx="2952720" cy="2052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7"/>
          <p:cNvSpPr/>
          <p:nvPr/>
        </p:nvSpPr>
        <p:spPr>
          <a:xfrm>
            <a:off x="250920" y="5734080"/>
            <a:ext cx="6041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 для 4 класса средней общеобразовательной школы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6000"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over0f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pic_david"/>
          <p:cNvPicPr/>
          <p:nvPr/>
        </p:nvPicPr>
        <p:blipFill>
          <a:blip r:embed="rId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pic_china2"/>
          <p:cNvPicPr/>
          <p:nvPr/>
        </p:nvPicPr>
        <p:blipFill>
          <a:blip r:embed="rId3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pic_egipt1"/>
          <p:cNvPicPr/>
          <p:nvPr/>
        </p:nvPicPr>
        <p:blipFill>
          <a:blip r:embed="rId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pic_lopuhina"/>
          <p:cNvPicPr/>
          <p:nvPr/>
        </p:nvPicPr>
        <p:blipFill>
          <a:blip r:embed="rId5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ic_egipt"/>
          <p:cNvPicPr/>
          <p:nvPr/>
        </p:nvPicPr>
        <p:blipFill>
          <a:blip r:embed="rId6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ic_mikelandgelo"/>
          <p:cNvPicPr/>
          <p:nvPr/>
        </p:nvPicPr>
        <p:blipFill>
          <a:blip r:embed="rId7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pic_nat2"/>
          <p:cNvPicPr/>
          <p:nvPr/>
        </p:nvPicPr>
        <p:blipFill>
          <a:blip r:embed="rId8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pic_nat1"/>
          <p:cNvPicPr/>
          <p:nvPr/>
        </p:nvPicPr>
        <p:blipFill>
          <a:blip r:embed="rId9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pic_margarita"/>
          <p:cNvPicPr/>
          <p:nvPr/>
        </p:nvPicPr>
        <p:blipFill>
          <a:blip r:embed="rId10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pic_ahmatova"/>
          <p:cNvPicPr/>
          <p:nvPr/>
        </p:nvPicPr>
        <p:blipFill>
          <a:blip r:embed="rId11"/>
          <a:stretch/>
        </p:blipFill>
        <p:spPr>
          <a:xfrm>
            <a:off x="6948360" y="2852640"/>
            <a:ext cx="1692360" cy="360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pic_china"/>
          <p:cNvPicPr/>
          <p:nvPr/>
        </p:nvPicPr>
        <p:blipFill>
          <a:blip r:embed="rId12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ic_demidov"/>
          <p:cNvPicPr/>
          <p:nvPr/>
        </p:nvPicPr>
        <p:blipFill>
          <a:blip r:embed="rId13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pic_cirkul"/>
          <p:cNvPicPr/>
          <p:nvPr/>
        </p:nvPicPr>
        <p:blipFill>
          <a:blip r:embed="rId14"/>
          <a:stretch/>
        </p:blipFill>
        <p:spPr>
          <a:xfrm>
            <a:off x="6948360" y="2852640"/>
            <a:ext cx="1702080" cy="362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BackTitle4"/>
          <p:cNvPicPr/>
          <p:nvPr/>
        </p:nvPicPr>
        <p:blipFill>
          <a:blip r:embed="rId15"/>
          <a:stretch/>
        </p:blipFill>
        <p:spPr>
          <a:xfrm>
            <a:off x="3564000" y="1557360"/>
            <a:ext cx="2952720" cy="2052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7"/>
          <p:cNvSpPr/>
          <p:nvPr/>
        </p:nvSpPr>
        <p:spPr>
          <a:xfrm>
            <a:off x="250920" y="5734080"/>
            <a:ext cx="6041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 для 4 класса средней общеобразовательной школы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дпосылки создания програм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общение школьников к шедеврам мировой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общения ребенка с произведениями 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одоление трудностей  адаптации учащихся в 5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сть различия истинного искусств от псевдо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 программ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ение шедевров мирового искусства, созданных в различные художественно-исторические эпох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понятий о художественно-исторической эпохе, стилях, направлени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итание художественного вкуса, развитие умения отличать истинные ценности от подделок и суррогатов массовой культу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ка компетентного читателя, слушателя и зрителя, готового к заинтересованному диалогу с произведениями искус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ы программ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сство Древнего ми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сство средних ве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поха Возро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Золотой век»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усского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с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17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матика заняти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ство Древнего Егип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царский м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лигии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 чудес с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ство Япо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кие художники Возр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улка по Московскому Крем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коно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анятия по обобщению изученного материал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идактические игр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Найди лишне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Шифровальщи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ерю – не вер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ернисаж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4000" y="429264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дактическая игра развивает интерес к изучению мировой художественной культуры, активизирует познавательную деятельность учащих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88000" y="2421000"/>
            <a:ext cx="2798640" cy="3529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5499000" y="2421000"/>
            <a:ext cx="3102120" cy="3529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остребованность программы всеми участниками образовательного процесса: учителем, учениками, их родителям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царский турни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ллектуальный мараф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SSA54811"/>
          <p:cNvPicPr/>
          <p:nvPr/>
        </p:nvPicPr>
        <p:blipFill>
          <a:blip r:embed="rId3"/>
          <a:stretch/>
        </p:blipFill>
        <p:spPr>
          <a:xfrm>
            <a:off x="4211640" y="242100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SA54814"/>
          <p:cNvPicPr/>
          <p:nvPr/>
        </p:nvPicPr>
        <p:blipFill>
          <a:blip r:embed="rId4"/>
          <a:stretch/>
        </p:blipFill>
        <p:spPr>
          <a:xfrm>
            <a:off x="4211640" y="242100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p:transition advTm="73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боты учащихся в тетрадях по МХ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3" descr="ScanImage001"/>
          <p:cNvPicPr/>
          <p:nvPr/>
        </p:nvPicPr>
        <p:blipFill>
          <a:blip r:embed="rId1"/>
          <a:stretch/>
        </p:blipFill>
        <p:spPr>
          <a:xfrm>
            <a:off x="395280" y="1197000"/>
            <a:ext cx="3013200" cy="37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ScanImage002"/>
          <p:cNvPicPr/>
          <p:nvPr/>
        </p:nvPicPr>
        <p:blipFill>
          <a:blip r:embed="rId2"/>
          <a:stretch/>
        </p:blipFill>
        <p:spPr>
          <a:xfrm>
            <a:off x="6454800" y="1197000"/>
            <a:ext cx="2689200" cy="217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canImage003"/>
          <p:cNvPicPr/>
          <p:nvPr/>
        </p:nvPicPr>
        <p:blipFill>
          <a:blip r:embed="rId3"/>
          <a:stretch/>
        </p:blipFill>
        <p:spPr>
          <a:xfrm>
            <a:off x="3924360" y="2060640"/>
            <a:ext cx="2141640" cy="2171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82400" y="5100480"/>
            <a:ext cx="28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: «Виды искусств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лкозерова Кат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6-2007 уч.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39120" y="4365720"/>
            <a:ext cx="22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: «Искус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евней Грец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утина Ма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99-2000 уч.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29400" y="364500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: «Семь чуде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а Же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99-2000 уч.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1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деал человека – его духовное и физическое совершенство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greece_diskobol"/>
          <p:cNvPicPr/>
          <p:nvPr/>
        </p:nvPicPr>
        <p:blipFill>
          <a:blip r:embed="rId1"/>
          <a:stretch/>
        </p:blipFill>
        <p:spPr>
          <a:xfrm>
            <a:off x="2689200" y="1341360"/>
            <a:ext cx="3611520" cy="5327640"/>
          </a:xfrm>
          <a:prstGeom prst="rect">
            <a:avLst/>
          </a:prstGeom>
          <a:ln w="0">
            <a:noFill/>
          </a:ln>
        </p:spPr>
      </p:pic>
    </p:spTree>
  </p:cSld>
  <p:transition advTm="28000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5:36:46Z</dcterms:created>
  <dc:creator>mars</dc:creator>
  <dc:description/>
  <dc:language>en-US</dc:language>
  <cp:lastModifiedBy>User</cp:lastModifiedBy>
  <dcterms:modified xsi:type="dcterms:W3CDTF">2012-02-19T17:53:31Z</dcterms:modified>
  <cp:revision>77</cp:revision>
  <dc:subject/>
  <dc:title>Мировая    художественная     культура</dc:title>
</cp:coreProperties>
</file>