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7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AF6-9959-4D2A-9F8F-1406184E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2B3-13AF-4A13-8AF1-37B5250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622-3F38-4C36-86CE-FCD99196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CA0-EC13-4CE6-B64C-88A20E41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4EDC-E1A9-45AA-8BA5-4178D1FE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84D00-B39D-4E3F-99D9-D2D5CB6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ACD2D-A860-41DB-AF97-605F5501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57200-BBE9-4F83-BC92-EE1B692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80EE0-DFF5-4E9C-AFAF-A34ED2C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81C21-5B23-47B6-9FE1-548AD277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2AB8B-CBC3-4856-AFCE-0EAC35D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4DD-EB65-4140-A09A-59FF5E86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546F-C7BF-4915-812E-FCD0403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9B1DD-90DC-4073-9FBA-C4ED00F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01ED1-1BFA-4529-AE06-3F5AFA6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68F7A-FECF-4D57-94EE-682F7114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0A152-3B3C-44D9-BC5B-4BBC46C7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D59-A2C8-41D5-B3CD-3086194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133-6F4C-47CC-B7F7-D39B9B7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C92-8FD2-47A4-BBD3-A1D0A80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ACE-DF2C-43BB-899E-CCB23FEB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951-FC06-4C63-8435-3858BEB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BD4-47D2-4A80-B700-7531FC8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216-C475-4785-90C7-B7FE847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6046-5CF3-43E8-8BAA-B248D06AE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2EC-89EB-466C-AF0B-90293EEFB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95640" y="5444640"/>
            <a:ext cx="489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ahoma"/>
              </a:rPr>
              <a:t>учитель МОУ СОШ №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ahoma"/>
              </a:rPr>
              <a:t>п.г.т.Сафон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ahoma"/>
              </a:rPr>
              <a:t>Мороз Анна Александ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844640"/>
            <a:ext cx="849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Т И Ц Ы   С Е В Е Р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311640" cy="21603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826920" y="404640"/>
            <a:ext cx="76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a6d00"/>
                    </a:gs>
                    <a:gs pos="50000">
                      <a:srgbClr val="e3de00"/>
                    </a:gs>
                    <a:gs pos="100000">
                      <a:srgbClr val="da6d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ИЩНЫЕ   ПТИЦЫ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a6d00"/>
                  </a:gs>
                  <a:gs pos="50000">
                    <a:srgbClr val="e3de00"/>
                  </a:gs>
                  <a:gs pos="100000">
                    <a:srgbClr val="da6d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916280"/>
            <a:ext cx="34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Дневные  хищни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32360" y="1916280"/>
            <a:ext cx="3762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очные  хищники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3311640" cy="21747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35" name=""/>
          <p:cNvSpPr txBox="1"/>
          <p:nvPr/>
        </p:nvSpPr>
        <p:spPr>
          <a:xfrm>
            <a:off x="1258920" y="580536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кут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300720" y="5805360"/>
            <a:ext cx="165600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ин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3852720" cy="244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2235240" cy="30942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755640" y="573408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ёст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24360" y="515772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тере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47628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a6d00"/>
                    </a:gs>
                    <a:gs pos="50000">
                      <a:srgbClr val="e3de00"/>
                    </a:gs>
                    <a:gs pos="100000">
                      <a:srgbClr val="da6d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ОЯДНЫЕ   ПТИЦЫ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a6d00"/>
                  </a:gs>
                  <a:gs pos="50000">
                    <a:srgbClr val="e3de00"/>
                  </a:gs>
                  <a:gs pos="100000">
                    <a:srgbClr val="da6d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313080" cy="2484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3313440" cy="2521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44" name=""/>
          <p:cNvSpPr txBox="1"/>
          <p:nvPr/>
        </p:nvSpPr>
        <p:spPr>
          <a:xfrm>
            <a:off x="539640" y="476280"/>
            <a:ext cx="806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a6d00"/>
                    </a:gs>
                    <a:gs pos="50000">
                      <a:srgbClr val="e3de00"/>
                    </a:gs>
                    <a:gs pos="100000">
                      <a:srgbClr val="da6d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ЯДНЫЕ   ПТИЦЫ</a:t>
            </a:r>
            <a:endParaRPr b="0" lang="en-US" sz="1800" spc="1" strike="noStrike">
              <a:ln w="255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a6d00"/>
                  </a:gs>
                  <a:gs pos="50000">
                    <a:srgbClr val="e3de00"/>
                  </a:gs>
                  <a:gs pos="100000">
                    <a:srgbClr val="da6d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00000" y="458136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ворец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2997360"/>
            <a:ext cx="1944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ица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788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4937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115920"/>
            <a:ext cx="3097080" cy="2879640"/>
          </a:xfrm>
          <a:prstGeom prst="sun">
            <a:avLst>
              <a:gd name="adj" fmla="val 14453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Cloud"/>
          <p:cNvSpPr/>
          <p:nvPr/>
        </p:nvSpPr>
        <p:spPr>
          <a:xfrm rot="331800">
            <a:off x="3203280" y="2133720"/>
            <a:ext cx="3095640" cy="199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06560" y="665280"/>
            <a:ext cx="158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Кто</a:t>
            </a:r>
            <a:endParaRPr b="0" lang="en-US" sz="1800" spc="1" strike="noStrike">
              <a:ln w="1584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где</a:t>
            </a:r>
            <a:endParaRPr b="0" lang="en-US" sz="1800" spc="1" strike="noStrike">
              <a:ln w="1584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живёт?</a:t>
            </a:r>
            <a:endParaRPr b="0" lang="en-US" sz="1800" spc="1" strike="noStrike">
              <a:ln w="1584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151" name="Cloud"/>
          <p:cNvSpPr/>
          <p:nvPr/>
        </p:nvSpPr>
        <p:spPr>
          <a:xfrm rot="327000">
            <a:off x="5724000" y="4005000"/>
            <a:ext cx="309564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Cloud"/>
          <p:cNvSpPr/>
          <p:nvPr/>
        </p:nvSpPr>
        <p:spPr>
          <a:xfrm rot="354600">
            <a:off x="468360" y="4365720"/>
            <a:ext cx="309564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Cloud"/>
          <p:cNvSpPr/>
          <p:nvPr/>
        </p:nvSpPr>
        <p:spPr>
          <a:xfrm rot="240000">
            <a:off x="5795640" y="189000"/>
            <a:ext cx="309564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80000" y="2781360"/>
            <a:ext cx="20779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олото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57800" y="472428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оём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21456000">
            <a:off x="755640" y="5083200"/>
            <a:ext cx="244800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бережь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443640" y="907920"/>
            <a:ext cx="1970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ес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500"/>
                            </p:stCondLst>
                            <p:childTnLst>
                              <p:par>
                                <p:cTn id="3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536560" cy="3600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521080" cy="35272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60" name=""/>
          <p:cNvSpPr txBox="1"/>
          <p:nvPr/>
        </p:nvSpPr>
        <p:spPr>
          <a:xfrm>
            <a:off x="684360" y="333360"/>
            <a:ext cx="77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50000">
                      <a:srgbClr val="dcebf5"/>
                    </a:gs>
                    <a:gs pos="100000">
                      <a:srgbClr val="55261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ТЕЛИ  БОЛОТ</a:t>
            </a:r>
            <a:endParaRPr b="0" lang="en-US" sz="1800" spc="1" strike="noStrike">
              <a:ln w="3492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50000">
                    <a:srgbClr val="dcebf5"/>
                  </a:gs>
                  <a:gs pos="100000">
                    <a:srgbClr val="55261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558972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серый 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журавль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796000" y="5661000"/>
            <a:ext cx="25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болотная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сов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383280" cy="2448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3382920" cy="2435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755640" y="404640"/>
            <a:ext cx="770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50000">
                      <a:srgbClr val="dcebf5"/>
                    </a:gs>
                    <a:gs pos="100000">
                      <a:srgbClr val="55261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ОПЛАВАЮЩИЕ  ПТИЦЫ</a:t>
            </a:r>
            <a:endParaRPr b="0" lang="en-US" sz="1800" spc="1" strike="noStrike">
              <a:ln w="3492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50000">
                    <a:srgbClr val="dcebf5"/>
                  </a:gs>
                  <a:gs pos="100000">
                    <a:srgbClr val="55261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51640" y="2708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краснозобая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гагар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71640" y="4724280"/>
            <a:ext cx="216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крякв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3527280" cy="27972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2763720" cy="3240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0" name=""/>
          <p:cNvSpPr txBox="1"/>
          <p:nvPr/>
        </p:nvSpPr>
        <p:spPr>
          <a:xfrm>
            <a:off x="826920" y="333360"/>
            <a:ext cx="770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50000">
                      <a:srgbClr val="dcebf5"/>
                    </a:gs>
                    <a:gs pos="100000">
                      <a:srgbClr val="55261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СНЫЕ  ЖИТЕЛИ</a:t>
            </a:r>
            <a:endParaRPr b="0" lang="en-US" sz="1800" spc="1" strike="noStrike">
              <a:ln w="3492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50000">
                    <a:srgbClr val="dcebf5"/>
                  </a:gs>
                  <a:gs pos="100000">
                    <a:srgbClr val="55261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2421000"/>
            <a:ext cx="251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пеночка-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весничк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0360" y="5084640"/>
            <a:ext cx="194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рябчик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4000" y="189000"/>
            <a:ext cx="84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50000">
                      <a:srgbClr val="dcebf5"/>
                    </a:gs>
                    <a:gs pos="100000">
                      <a:srgbClr val="55261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ИЦЫ  МОРСКИХ  ПОБЕРЕЖИЙ</a:t>
            </a:r>
            <a:endParaRPr b="0" lang="en-US" sz="1800" spc="1" strike="noStrike">
              <a:ln w="3492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50000">
                    <a:srgbClr val="dcebf5"/>
                  </a:gs>
                  <a:gs pos="100000">
                    <a:srgbClr val="55261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4000" y="3645000"/>
            <a:ext cx="22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чайк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моевк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246400" cy="2808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659640" y="1557360"/>
            <a:ext cx="2109600" cy="2736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348000" y="4508640"/>
            <a:ext cx="2652840" cy="1981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8" name=""/>
          <p:cNvSpPr txBox="1"/>
          <p:nvPr/>
        </p:nvSpPr>
        <p:spPr>
          <a:xfrm>
            <a:off x="684360" y="4653000"/>
            <a:ext cx="165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тупик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43640" y="4581360"/>
            <a:ext cx="25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тонкоклювая 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822b00"/>
                    </a:gs>
                    <a:gs pos="50000">
                      <a:srgbClr val="993300"/>
                    </a:gs>
                    <a:gs pos="100000">
                      <a:srgbClr val="822b00"/>
                    </a:gs>
                  </a:gsLst>
                  <a:lin ang="13500000"/>
                </a:gradFill>
                <a:latin typeface="Impact"/>
              </a:rPr>
              <a:t>кайра</a:t>
            </a:r>
            <a:endParaRPr b="0" lang="en-US" sz="1800" spc="1" strike="noStrike">
              <a:ln w="1908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822b00"/>
                  </a:gs>
                  <a:gs pos="50000">
                    <a:srgbClr val="993300"/>
                  </a:gs>
                  <a:gs pos="100000">
                    <a:srgbClr val="822b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144000" cy="86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поведники Кольского полуостр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490160" cy="442764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graphicFrame>
        <p:nvGraphicFramePr>
          <p:cNvPr id="182" name=""/>
          <p:cNvGraphicFramePr/>
          <p:nvPr/>
        </p:nvGraphicFramePr>
        <p:xfrm>
          <a:off x="2124000" y="5661000"/>
          <a:ext cx="4537080" cy="1079640"/>
        </p:xfrm>
        <a:graphic>
          <a:graphicData uri="http://schemas.openxmlformats.org/drawingml/2006/table">
            <a:tbl>
              <a:tblPr/>
              <a:tblGrid>
                <a:gridCol w="920880"/>
                <a:gridCol w="361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пландский  заповед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далакшский  заповед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ведник  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свик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2268360" y="5734080"/>
            <a:ext cx="648000" cy="574560"/>
            <a:chOff x="2268360" y="5734080"/>
            <a:chExt cx="648000" cy="574560"/>
          </a:xfrm>
        </p:grpSpPr>
        <p:sp>
          <p:nvSpPr>
            <p:cNvPr id="184" name=""/>
            <p:cNvSpPr/>
            <p:nvPr/>
          </p:nvSpPr>
          <p:spPr>
            <a:xfrm>
              <a:off x="2268360" y="5734080"/>
              <a:ext cx="648000" cy="2152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68360" y="6093360"/>
              <a:ext cx="648000" cy="215280"/>
            </a:xfrm>
            <a:prstGeom prst="ellipse">
              <a:avLst/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68360" y="6453360"/>
            <a:ext cx="648000" cy="2174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68360" y="5734080"/>
            <a:ext cx="648000" cy="574560"/>
            <a:chOff x="2268360" y="5734080"/>
            <a:chExt cx="648000" cy="574560"/>
          </a:xfrm>
        </p:grpSpPr>
        <p:sp>
          <p:nvSpPr>
            <p:cNvPr id="188" name=""/>
            <p:cNvSpPr/>
            <p:nvPr/>
          </p:nvSpPr>
          <p:spPr>
            <a:xfrm>
              <a:off x="2268360" y="5734080"/>
              <a:ext cx="648000" cy="2152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8360" y="6093360"/>
              <a:ext cx="648000" cy="215280"/>
            </a:xfrm>
            <a:prstGeom prst="ellipse">
              <a:avLst/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745164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апландский заповед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368360" cy="833400"/>
          </a:xfrm>
          <a:prstGeom prst="rect">
            <a:avLst/>
          </a:prstGeom>
          <a:ln w="12600">
            <a:solidFill>
              <a:srgbClr val="010199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3744720" cy="244764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96000" y="1989000"/>
            <a:ext cx="2631960" cy="28083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sp>
        <p:nvSpPr>
          <p:cNvPr id="194" name=""/>
          <p:cNvSpPr txBox="1"/>
          <p:nvPr/>
        </p:nvSpPr>
        <p:spPr>
          <a:xfrm>
            <a:off x="6300720" y="530064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окующий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глухар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79280" y="692280"/>
          <a:ext cx="8820360" cy="60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92280"/>
                    <a:ext cx="88203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2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колько их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596360" cy="93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ндалакшский заповед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224000" cy="792360"/>
          </a:xfrm>
          <a:prstGeom prst="rect">
            <a:avLst/>
          </a:prstGeom>
          <a:ln w="12600">
            <a:solidFill>
              <a:srgbClr val="010199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268360" y="1413000"/>
            <a:ext cx="3527640" cy="205740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2941560" cy="198108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372360" y="2492280"/>
            <a:ext cx="2374920" cy="338472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sp>
        <p:nvSpPr>
          <p:cNvPr id="200" name=""/>
          <p:cNvSpPr txBox="1"/>
          <p:nvPr/>
        </p:nvSpPr>
        <p:spPr>
          <a:xfrm>
            <a:off x="1042920" y="6165720"/>
            <a:ext cx="18003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гага (самец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04000" y="6165720"/>
            <a:ext cx="1513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кайр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52360" cy="792360"/>
          </a:xfrm>
          <a:prstGeom prst="rect">
            <a:avLst/>
          </a:prstGeom>
          <a:ln w="12600">
            <a:solidFill>
              <a:srgbClr val="010199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2089080" cy="284508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203640" y="1197000"/>
            <a:ext cx="3672000" cy="194472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364000" y="3716280"/>
            <a:ext cx="2870280" cy="198108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195640" y="115920"/>
            <a:ext cx="67672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оведник Пасв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56360" y="6021360"/>
            <a:ext cx="1295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скоп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5516640"/>
            <a:ext cx="165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ыш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рнитолог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3320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тицы важное звено в цепи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Распространяют семена раст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ничтожают вредных насеком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Хищники поедают грызу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Ценится гагачий пу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тичий помёт - гуано – цен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добр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89000"/>
            <a:ext cx="8713800" cy="1727280"/>
          </a:xfrm>
          <a:prstGeom prst="sun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763640" y="76500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ЗАЧЕМ   НУЖНЫ   ПТИЦЫ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50920" y="2133720"/>
          <a:ext cx="8559720" cy="44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55972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2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ого больше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2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едставители отряд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700280"/>
          <a:ext cx="7703640" cy="4771440"/>
        </p:xfrm>
        <a:graphic>
          <a:graphicData uri="http://schemas.openxmlformats.org/drawingml/2006/table">
            <a:tbl>
              <a:tblPr/>
              <a:tblGrid>
                <a:gridCol w="1926000"/>
                <a:gridCol w="1925640"/>
                <a:gridCol w="1926360"/>
                <a:gridCol w="1925640"/>
              </a:tblGrid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анк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еобраз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щ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ябл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л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бедь-клику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к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ю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ай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а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ястр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лё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м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ряк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рб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ляп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ист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ус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ястребиная с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уп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г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робьиный сы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54296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87640" y="0"/>
            <a:ext cx="3384720" cy="3141720"/>
          </a:xfrm>
          <a:prstGeom prst="sun">
            <a:avLst>
              <a:gd name="adj" fmla="val 14453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80000" y="692280"/>
            <a:ext cx="17985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Птиц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деляют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 3 группы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95" name="Cloud"/>
          <p:cNvSpPr/>
          <p:nvPr/>
        </p:nvSpPr>
        <p:spPr>
          <a:xfrm rot="1239600">
            <a:off x="6156360" y="2637000"/>
            <a:ext cx="2527200" cy="169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 rot="761400">
            <a:off x="6514920" y="3139920"/>
            <a:ext cx="19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ерелётны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7" name="Cloud"/>
          <p:cNvSpPr/>
          <p:nvPr/>
        </p:nvSpPr>
        <p:spPr>
          <a:xfrm rot="21309600">
            <a:off x="394920" y="2708280"/>
            <a:ext cx="2527200" cy="169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 rot="276000">
            <a:off x="3348000" y="4508280"/>
            <a:ext cx="2527200" cy="169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21353400">
            <a:off x="3564000" y="5084280"/>
            <a:ext cx="2152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чующ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20080200">
            <a:off x="684360" y="3212640"/>
            <a:ext cx="1866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седлы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333360"/>
            <a:ext cx="79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2bafdb"/>
                    </a:gs>
                    <a:gs pos="50000">
                      <a:srgbClr val="33ccff"/>
                    </a:gs>
                    <a:gs pos="100000">
                      <a:srgbClr val="2bafd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99">
                      <a:alpha val="80000"/>
                    </a:srgbClr>
                  </a:outerShdw>
                </a:effectLst>
                <a:latin typeface="Impact"/>
              </a:rPr>
              <a:t>ОСЕДЛЫЕ   ПТИЦЫ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2bafdb"/>
                  </a:gs>
                  <a:gs pos="50000">
                    <a:srgbClr val="33ccff"/>
                  </a:gs>
                  <a:gs pos="100000">
                    <a:srgbClr val="2bafdb"/>
                  </a:gs>
                </a:gsLst>
                <a:lin ang="5400000"/>
              </a:gradFill>
              <a:effectLst>
                <a:outerShdw dist="17819" dir="2700000" blurRad="0" rotWithShape="0">
                  <a:srgbClr val="0000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69920" cy="1981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03640" y="4653000"/>
            <a:ext cx="2697120" cy="1981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2879640" cy="1973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826920" y="3933720"/>
            <a:ext cx="1692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ворон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16720" y="3860640"/>
            <a:ext cx="2016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воробей</a:t>
            </a:r>
            <a:endParaRPr b="0" lang="en-US" sz="18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80000" y="4076640"/>
            <a:ext cx="169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сорока</a:t>
            </a:r>
            <a:endParaRPr b="0" lang="en-US" sz="18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292720" y="1700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757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944720" cy="2232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20000" y="4076640"/>
            <a:ext cx="1832040" cy="2270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916360" y="1916280"/>
            <a:ext cx="3378240" cy="18064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11280" y="189000"/>
            <a:ext cx="82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279ec6"/>
                    </a:gs>
                    <a:gs pos="50000">
                      <a:srgbClr val="33ccff"/>
                    </a:gs>
                    <a:gs pos="100000">
                      <a:srgbClr val="279ec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99">
                      <a:alpha val="80000"/>
                    </a:srgbClr>
                  </a:outerShdw>
                </a:effectLst>
                <a:latin typeface="Impact"/>
              </a:rPr>
              <a:t>ПЕРЕЛЁТНЫЕ   ПТИЦЫ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279ec6"/>
                  </a:gs>
                  <a:gs pos="50000">
                    <a:srgbClr val="33ccff"/>
                  </a:gs>
                  <a:gs pos="100000">
                    <a:srgbClr val="279ec6"/>
                  </a:gs>
                </a:gsLst>
                <a:lin ang="5400000"/>
              </a:gradFill>
              <a:effectLst>
                <a:outerShdw dist="17819" dir="2700000" blurRad="0" rotWithShape="0">
                  <a:srgbClr val="0000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59280" y="400536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чирок-</a:t>
            </a:r>
            <a:endParaRPr b="0" lang="en-US" sz="18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свистунок</a:t>
            </a:r>
            <a:endParaRPr b="0" lang="en-US" sz="18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3429000"/>
            <a:ext cx="20160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гуменник</a:t>
            </a:r>
            <a:endParaRPr b="0" lang="en-US" sz="18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93080" y="3500280"/>
            <a:ext cx="172872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гоголь</a:t>
            </a:r>
            <a:endParaRPr b="0" lang="en-US" sz="18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2305080" cy="2953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2737080" cy="2476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684360" y="333360"/>
            <a:ext cx="79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2baeda"/>
                    </a:gs>
                    <a:gs pos="50000">
                      <a:srgbClr val="33ccff"/>
                    </a:gs>
                    <a:gs pos="100000">
                      <a:srgbClr val="2baed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99">
                      <a:alpha val="80000"/>
                    </a:srgbClr>
                  </a:outerShdw>
                </a:effectLst>
                <a:latin typeface="Impact"/>
              </a:rPr>
              <a:t>КОЧУЮЩИЕ  ПТИЦЫ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2baeda"/>
                  </a:gs>
                  <a:gs pos="50000">
                    <a:srgbClr val="33ccff"/>
                  </a:gs>
                  <a:gs pos="100000">
                    <a:srgbClr val="2baeda"/>
                  </a:gs>
                </a:gsLst>
                <a:lin ang="5400000"/>
              </a:gradFill>
              <a:effectLst>
                <a:outerShdw dist="17819" dir="2700000" blurRad="0" rotWithShape="0">
                  <a:srgbClr val="00009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58920" y="4508640"/>
            <a:ext cx="187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снегирь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12000" y="2637000"/>
            <a:ext cx="21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свиристель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70836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75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80000" y="189000"/>
            <a:ext cx="3313080" cy="3168720"/>
          </a:xfrm>
          <a:prstGeom prst="sun">
            <a:avLst>
              <a:gd name="adj" fmla="val 14453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43640" y="907920"/>
            <a:ext cx="158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Кто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чем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питается?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124" name="Cloud"/>
          <p:cNvSpPr/>
          <p:nvPr/>
        </p:nvSpPr>
        <p:spPr>
          <a:xfrm>
            <a:off x="1619280" y="404640"/>
            <a:ext cx="309564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loud"/>
          <p:cNvSpPr/>
          <p:nvPr/>
        </p:nvSpPr>
        <p:spPr>
          <a:xfrm>
            <a:off x="395280" y="3429000"/>
            <a:ext cx="3319560" cy="20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20706600">
            <a:off x="2128680" y="982440"/>
            <a:ext cx="2078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ищны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4149720"/>
            <a:ext cx="2733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секомоядные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тицы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8" name="Cloud"/>
          <p:cNvSpPr/>
          <p:nvPr/>
        </p:nvSpPr>
        <p:spPr>
          <a:xfrm rot="1192800">
            <a:off x="5292360" y="4292640"/>
            <a:ext cx="309564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615000">
            <a:off x="5508360" y="4869000"/>
            <a:ext cx="266220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стительноядные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тицы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7:24:34Z</dcterms:created>
  <dc:creator>User</dc:creator>
  <dc:description/>
  <dc:language>en-US</dc:language>
  <cp:lastModifiedBy>Vlad</cp:lastModifiedBy>
  <dcterms:modified xsi:type="dcterms:W3CDTF">2012-04-05T19:01:19Z</dcterms:modified>
  <cp:revision>108</cp:revision>
  <dc:subject/>
  <dc:title>Слайд 1</dc:title>
</cp:coreProperties>
</file>