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9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30C1-5A3A-441F-B353-75A2A2185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ADE9-7F82-4123-A599-BA74C7813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A5AE6E-242F-4A4A-A349-8BD59615C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67FB4D-DD44-4AE8-BC90-2C5C1DC1A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2286DA-70A6-493B-8183-29DD3D49B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1787DF-B142-4D86-A7FC-C8AA2B51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4AA0C0-67DA-4F14-BE26-CCB2CAC2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A591AE-4276-4624-930B-67239BE0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EFBC5C-230A-4B27-B38C-0AEE575B8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9E6B5A-E129-45F8-B0A0-05F962754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CB9D62-B618-4B8B-8A91-D021EF1E0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B8D0-04CD-4D46-B922-AB52AF605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9D04-D5C5-458E-A6AE-BE11B6ECC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B39ED-CCA0-4EA4-874C-9E2B00093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C2D6A-8D96-45AC-BF99-86D6E730D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EF5DC-382D-48EC-8F04-01E464810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E5304-F360-457A-AC49-DCD0BFA82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E4355-F4FD-4841-A596-FC202512F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7B227-E923-40D3-834B-2D31B2E88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62F26-A39B-4A2F-B78A-284A3623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00AC-1555-416C-9096-7D3D4CB77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D83FC-D47C-46E7-B46D-9F80B28F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EFF52-6A90-47CF-943F-1B7EDB13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9020A-0123-452F-8B8C-B49024E19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C9928-47FD-4291-A792-EC684EECC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74C0E-66B6-4B6B-8A2A-954FC0BF0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99F33-0E61-4611-A712-2EC04F486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6D0D0-E0D8-4A7F-BA45-F7E1476A4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BEB2D-3996-48D3-8DE6-6587D8D43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337C9-E517-4249-959B-6FDAFEAA1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22479-AD34-4C75-B5F5-F21390E4C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E867-FD71-4A6A-A3FF-C56B4C1AA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F9F55-B5C9-40D0-9C94-6B7C5A0E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C4F12-B623-4AB8-A290-B3071E02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10E7D-F11A-4D16-97F2-AE2C7E1D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9AC7E-087E-4712-8F13-74BF19EB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9F847-EC50-44D3-A552-3C16281B6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AB7A5-B667-466C-99BA-1731BE600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0A599-9CB1-4001-8ED9-6D6256E3B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AF7DE-FB06-447D-B018-E19942991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ABDDB-A06C-48B6-A8A5-C81313475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90273-0864-4DB6-8A88-BA833DB0E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9900-C6DD-469D-B148-C17E9936B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7D275-70B6-4FAB-819D-DF84A2B13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55EC7-3274-4B85-B221-3BCA956C8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6DD2E-AF91-490D-9C22-6A7D81D8B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7E934-04C2-4136-A3D4-047C32D7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54955-6203-4D18-9AA9-BDE9A54E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0734B-753C-4780-963B-2EC1BD6C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077AB-EAFC-4361-84CB-655C3F625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C3968-C375-4DAD-ACC6-066C50840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36828-6E2C-4BE9-9946-35D378D10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CC4EF-A6FB-4739-ABD3-67052F689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A978-7A3D-418B-849C-FD57687DA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7686D-F624-49A4-AEA8-7F159DFF6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48E39-7055-4FAD-AC61-728C8B336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1AE86-980A-4704-B7C4-CC3A72598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8BD02-FDC2-4FE3-9443-847826D33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0F750-F87D-4C6E-8C74-C17B59FC1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B82AA-B4FE-42E1-8C10-E56D73B0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FCD9B-1E32-49F2-8F51-8681699A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B3875-9FFA-4EEB-9859-88B2102A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078C1-46B8-4505-87C8-E0426243D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A54FD-4492-4417-A23F-6776D8B12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5B88-1430-4B6E-A9B6-28FF295A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40850-F4BC-4543-9E5B-E5E4A9F83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AC251-92B5-42BD-A56B-75C70CE85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E7C30E-0529-4594-AB6C-4103AF0B8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FB40B-5848-4508-9154-BAE76FECA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E419D-8C9E-458A-A263-057E97B4A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12FBE-1B3D-4E8A-98B7-08FC1378F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30AC0-F9AD-4BBF-810E-0CC50FB35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634EB-23C5-47CC-AEC9-49906EEA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3ABCD-9B8B-4834-ABAD-7A8B4E26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2E438-910E-41C7-A5B4-BD8DB4D1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0974-D3F0-4952-BE21-37663F72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54F19-AE1D-4D95-846C-4638B1B2E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95394-239A-4082-A478-629686913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0DF82-E067-4550-BA2D-537DF8938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3BF4A-4E16-4BD0-8C8B-2B96FBE01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EB89E-610B-4141-8626-F7CAEED7F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D68CA-4FF0-4E24-87AC-338943594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33FDA-E850-495C-8641-7EDF8E7B7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4EFA5-7A17-4735-B73B-E91844855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D2423-4E23-4FA7-949C-067D5108F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EF87D4-66EF-472E-9BE1-F8877451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644A-F1A0-40DA-BD67-0695ACEA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7D426-59E3-49DD-A311-7AC20821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C10A6-9965-46B5-9A18-A7C32E59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859CE-FA59-4D12-96BC-17A267461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E05A1-E823-47BD-B437-C8B8F0997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7EFCD-1469-4045-AC92-14E90C8B5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0B4B22-9AEF-44CA-A9E6-91EFDC89E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769501-3095-4EED-9D22-B4BA03FC4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B3778A-EA71-4C5B-98C6-12BB371E6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93AE63-E8EA-4CCF-A751-82F5FBBFD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109C99-D3A1-4924-836D-E3C91DA49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6D2D-7634-442B-B8EE-0AFDF90C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C3CAE0-0176-4503-A449-B9FE78F26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A761BB-A553-4AE6-9243-891F1E8C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D2E5DE-BD70-4C2E-995C-F0AEB424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341BF-669F-464B-9066-8F1D4DF5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8EB921-9BCA-4B6F-9A72-184B6960C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B54BAF-43C6-4946-971F-B0D299D30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15BBD2-23FF-4F36-A8C3-713496680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38F024-FE3B-48FD-9072-7591511DD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E7EB11-C2AD-49F7-B1D6-9344D9F60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801F2D-6A3B-4EB7-8647-FC7A1B6CF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19f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7A5E9-C168-4614-8D2A-54115B006EDE}" type="slidenum">
              <a:rPr b="0" lang="en-US" sz="1200" spc="-1" strike="noStrike">
                <a:solidFill>
                  <a:srgbClr val="919f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19f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833FC-CA02-4B4A-8EA7-18505A90C4C9}" type="slidenum">
              <a:rPr b="0" lang="en-US" sz="1200" spc="-1" strike="noStrike">
                <a:solidFill>
                  <a:srgbClr val="919f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19f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B8FC1-8414-4607-89A8-3C9A71D37C53}" type="slidenum">
              <a:rPr b="0" lang="en-US" sz="1200" spc="-1" strike="noStrike">
                <a:solidFill>
                  <a:srgbClr val="919f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efa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efa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efa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efa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efa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efa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efa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fa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efa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19f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B7913-E71C-409A-AC3F-2183F4572E4E}" type="slidenum">
              <a:rPr b="0" lang="en-US" sz="1200" spc="-1" strike="noStrike">
                <a:solidFill>
                  <a:srgbClr val="919f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19f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36636-4C46-42F7-8103-B472E7CDDA6D}" type="slidenum">
              <a:rPr b="0" lang="en-US" sz="1200" spc="-1" strike="noStrike">
                <a:solidFill>
                  <a:srgbClr val="919f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19f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5ACB3-FFA1-4803-9DC2-411268050619}" type="slidenum">
              <a:rPr b="0" lang="en-US" sz="1200" spc="-1" strike="noStrike">
                <a:solidFill>
                  <a:srgbClr val="919f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19f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862BD-DC3D-4EC4-B07D-25F7E42BEECB}" type="slidenum">
              <a:rPr b="0" lang="en-US" sz="1200" spc="-1" strike="noStrike">
                <a:solidFill>
                  <a:srgbClr val="919f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19f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8B822-A77C-4396-92CF-19F7BF02248A}" type="slidenum">
              <a:rPr b="0" lang="en-US" sz="1200" spc="-1" strike="noStrike">
                <a:solidFill>
                  <a:srgbClr val="919f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19f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4F6F0-0350-4A31-8CC8-462B2584F246}" type="slidenum">
              <a:rPr b="0" lang="en-US" sz="1200" spc="-1" strike="noStrike">
                <a:solidFill>
                  <a:srgbClr val="919f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hyperlink" Target="http:/&#1082;&#1085;&#1080;&#1075;&#1091;&#1088;&#1091;.&#1088;&#1092;/" TargetMode="External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Картинка 52 из 13600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0" name="Заголовок 1" descr=""/>
          <p:cNvPicPr/>
          <p:nvPr/>
        </p:nvPicPr>
        <p:blipFill>
          <a:blip r:embed="rId3"/>
          <a:stretch/>
        </p:blipFill>
        <p:spPr>
          <a:xfrm>
            <a:off x="66600" y="2157480"/>
            <a:ext cx="8717040" cy="134136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3456000" y="3716280"/>
            <a:ext cx="56880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Исполнитель: </a:t>
            </a:r>
            <a:endParaRPr b="0" lang="en-US" sz="2400" spc="-1" strike="noStrike">
              <a:solidFill>
                <a:srgbClr val="444d26"/>
              </a:solidFill>
              <a:latin typeface="Franklin Gothic Book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Звездкина Ксения,</a:t>
            </a:r>
            <a:endParaRPr b="0" lang="en-US" sz="2400" spc="-1" strike="noStrike">
              <a:solidFill>
                <a:srgbClr val="444d26"/>
              </a:solidFill>
              <a:latin typeface="Franklin Gothic Book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            </a:t>
            </a: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учащаяся 7 «Г» класса.</a:t>
            </a:r>
            <a:endParaRPr b="0" lang="en-US" sz="2400" spc="-1" strike="noStrike">
              <a:solidFill>
                <a:srgbClr val="444d26"/>
              </a:solidFill>
              <a:latin typeface="Franklin Gothic Book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Руководители: </a:t>
            </a: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Ефимова Н.Б., </a:t>
            </a:r>
            <a:endParaRPr b="0" lang="en-US" sz="2400" spc="-1" strike="noStrike">
              <a:solidFill>
                <a:srgbClr val="444d26"/>
              </a:solidFill>
              <a:latin typeface="Franklin Gothic Book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Еремина Е.А.</a:t>
            </a:r>
            <a:endParaRPr b="0" lang="en-US" sz="2400" spc="-1" strike="noStrike">
              <a:solidFill>
                <a:srgbClr val="444d26"/>
              </a:solidFill>
              <a:latin typeface="Franklin Gothic Book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4d26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02" name=""/>
          <p:cNvSpPr/>
          <p:nvPr/>
        </p:nvSpPr>
        <p:spPr>
          <a:xfrm>
            <a:off x="2484360" y="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Franklin Gothic Book"/>
              </a:rPr>
              <a:t>ГОУ СОШ № 717 САО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3" name=""/>
          <p:cNvSpPr/>
          <p:nvPr/>
        </p:nvSpPr>
        <p:spPr>
          <a:xfrm>
            <a:off x="3635280" y="6165720"/>
            <a:ext cx="16002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Book"/>
              </a:rPr>
              <a:t>Москва, 2011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"/>
          <p:cNvPicPr/>
          <p:nvPr/>
        </p:nvPicPr>
        <p:blipFill>
          <a:blip r:embed="rId2"/>
          <a:srcRect l="18974" t="3411" r="18454" b="2608"/>
          <a:stretch/>
        </p:blipFill>
        <p:spPr>
          <a:xfrm>
            <a:off x="150840" y="0"/>
            <a:ext cx="4925880" cy="685800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5148360" y="0"/>
            <a:ext cx="39956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Роман «Время всегда хорошее»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Авторы: Андрей Жвалевский 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и Евгения Пастернак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2" descr=""/>
          <p:cNvPicPr/>
          <p:nvPr/>
        </p:nvPicPr>
        <p:blipFill>
          <a:blip r:embed="rId2"/>
          <a:stretch/>
        </p:blipFill>
        <p:spPr>
          <a:xfrm>
            <a:off x="506520" y="4870440"/>
            <a:ext cx="5900760" cy="198756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3276720" y="691920"/>
            <a:ext cx="5867280" cy="3889080"/>
          </a:xfrm>
          <a:prstGeom prst="rect">
            <a:avLst/>
          </a:prstGeom>
          <a:noFill/>
          <a:ln w="0">
            <a:noFill/>
          </a:ln>
        </p:spPr>
        <p:txBody>
          <a:bodyPr lIns="109800" rIns="90000" tIns="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Franklin Gothic Book"/>
              </a:rPr>
              <a:t>Что будет, если девчонка из 2018 года вдруг окажется в 1980 году? А мальчик из 1980 года перенесется на ее место? Где лучше? И что такое "лучше"? Где интереснее играть: на компьютере или во дворе? Что важнее: свобода и раскованность в чате или умение разговаривать, глядя в глаза друг другу? И самое главное — правда ли, что "время тогда было другое"?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Franklin Gothic Book"/>
              </a:rPr>
              <a:t>А может быть, время всегда хорошее, и вообще, все зависит только от тебя..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444d26"/>
              </a:solidFill>
              <a:latin typeface="Franklin Gothic Book"/>
            </a:endParaRPr>
          </a:p>
        </p:txBody>
      </p:sp>
      <p:pic>
        <p:nvPicPr>
          <p:cNvPr id="408" name="Picture 2" descr=""/>
          <p:cNvPicPr/>
          <p:nvPr/>
        </p:nvPicPr>
        <p:blipFill>
          <a:blip r:embed="rId3"/>
          <a:srcRect l="18974" t="3411" r="18454" b="2608"/>
          <a:stretch/>
        </p:blipFill>
        <p:spPr>
          <a:xfrm>
            <a:off x="468360" y="476280"/>
            <a:ext cx="2519280" cy="378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2" descr=""/>
          <p:cNvPicPr/>
          <p:nvPr/>
        </p:nvPicPr>
        <p:blipFill>
          <a:blip r:embed="rId2"/>
          <a:stretch/>
        </p:blipFill>
        <p:spPr>
          <a:xfrm>
            <a:off x="1712880" y="371520"/>
            <a:ext cx="5583240" cy="49356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3419280" y="836280"/>
            <a:ext cx="5724360" cy="5977080"/>
          </a:xfrm>
          <a:prstGeom prst="rect">
            <a:avLst/>
          </a:prstGeom>
          <a:noFill/>
          <a:ln w="0">
            <a:noFill/>
          </a:ln>
        </p:spPr>
        <p:txBody>
          <a:bodyPr lIns="109800" rIns="90000" tIns="0" bIns="46800" anchor="t">
            <a:normAutofit fontScale="9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44d26"/>
                </a:solidFill>
                <a:latin typeface="Franklin Gothic Book"/>
              </a:rPr>
              <a:t>Эту книжку мы с Женей Пастернак написали как-то внезапно для себя. Очень смешно сейчас читать в обсуждениях: «Авторы хотели сказать то…», «Авторы хотели сказать это…», потому что авторы просто хотели написать фантастическую повесть. Про приключения. Про путешествия во времени. А началось все с того, что Евгения Борисовна Пастернак пыталась рассказать своей дочке Сашке (которой тогда было 12 лет), что такое пионерский галстук, какая была школьная форма и пр.</a:t>
            </a:r>
            <a:endParaRPr b="0" lang="en-US" sz="1600" spc="-1" strike="noStrike">
              <a:solidFill>
                <a:srgbClr val="444d26"/>
              </a:solidFill>
              <a:latin typeface="Franklin Gothic Book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44d26"/>
                </a:solidFill>
                <a:latin typeface="Franklin Gothic Book"/>
              </a:rPr>
              <a:t>Писали долго, больше полугода. Буксовали в начале, но затем, зимой 2008-2009 года произошло два знаменательных события: я решил отдохнуть от работы и мы придумали название. Второй фактор оказался определяющим. Мы ведь давно знали, что название книги определяет ее судьбу, и решили сначала схитрить, стали писать повесть с названием «Быстрая книга». Но халява не прокатила. Пришлось давать рукописи нормальное имя. И как только написали в начале файла «Время всегда хорошее» — книжка как будто сама написалась!</a:t>
            </a:r>
            <a:endParaRPr b="0" lang="en-US" sz="1600" spc="-1" strike="noStrike">
              <a:solidFill>
                <a:srgbClr val="444d26"/>
              </a:solidFill>
              <a:latin typeface="Franklin Gothic Book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44d26"/>
                </a:solidFill>
                <a:latin typeface="Franklin Gothic Book"/>
              </a:rPr>
              <a:t>Правда, поначалу продавалась она ни шатко ни валко, а потом ничего, раскочегарилось, уже второй тираж уходит. Причем без особых усилий по раскрутке..</a:t>
            </a:r>
            <a:endParaRPr b="0" lang="en-US" sz="1600" spc="-1" strike="noStrike">
              <a:solidFill>
                <a:srgbClr val="444d26"/>
              </a:solidFill>
              <a:latin typeface="Franklin Gothic Book"/>
            </a:endParaRPr>
          </a:p>
        </p:txBody>
      </p:sp>
      <p:pic>
        <p:nvPicPr>
          <p:cNvPr id="411" name="Picture 2" descr="http://books.vremya.ru/uploads/1270470305_s-alisoj-i-mielofonom.jpg"/>
          <p:cNvPicPr/>
          <p:nvPr/>
        </p:nvPicPr>
        <p:blipFill>
          <a:blip r:embed="rId3"/>
          <a:stretch/>
        </p:blipFill>
        <p:spPr>
          <a:xfrm>
            <a:off x="31680" y="1197000"/>
            <a:ext cx="3408480" cy="331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2" descr=""/>
          <p:cNvPicPr/>
          <p:nvPr/>
        </p:nvPicPr>
        <p:blipFill>
          <a:blip r:embed="rId2"/>
          <a:stretch/>
        </p:blipFill>
        <p:spPr>
          <a:xfrm>
            <a:off x="2610000" y="115920"/>
            <a:ext cx="5894280" cy="403524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539280" y="4436640"/>
            <a:ext cx="5867640" cy="1273320"/>
          </a:xfrm>
          <a:prstGeom prst="rect">
            <a:avLst/>
          </a:prstGeom>
          <a:noFill/>
          <a:ln w="0">
            <a:noFill/>
          </a:ln>
        </p:spPr>
        <p:txBody>
          <a:bodyPr lIns="109800" rIns="90000" tIns="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444d26"/>
                </a:solidFill>
                <a:latin typeface="Franklin Gothic Book"/>
              </a:rPr>
              <a:t>1 июня 2011 года «Время всегда хорошее» вошло в тройку призёров Всероссийского  конкурса  на лучшее литературное произведение для детей и подростков.</a:t>
            </a:r>
            <a:endParaRPr b="0" lang="en-US" sz="1400" spc="-1" strike="noStrike">
              <a:solidFill>
                <a:srgbClr val="444d26"/>
              </a:solidFill>
              <a:latin typeface="Franklin Gothic Book"/>
            </a:endParaRPr>
          </a:p>
        </p:txBody>
      </p:sp>
      <p:pic>
        <p:nvPicPr>
          <p:cNvPr id="414" name="Рисунок 4" descr="gaid znak Время всегда хорошее"/>
          <p:cNvPicPr/>
          <p:nvPr/>
        </p:nvPicPr>
        <p:blipFill>
          <a:blip r:embed="rId3"/>
          <a:stretch/>
        </p:blipFill>
        <p:spPr>
          <a:xfrm>
            <a:off x="324000" y="692280"/>
            <a:ext cx="1928520" cy="2243160"/>
          </a:xfrm>
          <a:prstGeom prst="rect">
            <a:avLst/>
          </a:prstGeom>
          <a:ln w="0">
            <a:noFill/>
          </a:ln>
        </p:spPr>
      </p:pic>
      <p:pic>
        <p:nvPicPr>
          <p:cNvPr id="415" name="Рисунок 6" descr="title_photo_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443640" y="3932280"/>
            <a:ext cx="2303640" cy="282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8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2" descr=""/>
          <p:cNvPicPr/>
          <p:nvPr/>
        </p:nvPicPr>
        <p:blipFill>
          <a:blip r:embed="rId2"/>
          <a:stretch/>
        </p:blipFill>
        <p:spPr>
          <a:xfrm>
            <a:off x="1547640" y="115920"/>
            <a:ext cx="5864400" cy="57924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3257640" y="620640"/>
            <a:ext cx="5867280" cy="6121440"/>
          </a:xfrm>
          <a:prstGeom prst="rect">
            <a:avLst/>
          </a:prstGeom>
          <a:noFill/>
          <a:ln w="0">
            <a:noFill/>
          </a:ln>
        </p:spPr>
        <p:txBody>
          <a:bodyPr lIns="109800" rIns="90000" tIns="0" bIns="46800" anchor="t">
            <a:normAutofit/>
          </a:bodyPr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44d26"/>
                </a:solidFill>
                <a:latin typeface="Franklin Gothic Book"/>
              </a:rPr>
              <a:t>Родился в городе Гродно Белорусской ССР в 1967 году. Учился сначала в школе, потом на физфаке Белгосуниверситета, закончил его в 1991 году с красным дипломом, но тут, как пишут начинающие литераторы, «вдруг случилась внезапная неожиданность» — кончился Советский Союз. Заниматься физикой лазеров стало бессмысленно, хотя еще полтора года провел в фундаментальной науке, даже начал сдавать кандидатский минимум — по философии получил «хорошо». Но в 1993 году здравый смысл и чувство голода взяли верх. Пошел заниматься дизайном ценных и защищенных бумаг. Прозанимался до осени 2000 года. Понял, что уперся в потолок (должность начальника репроцентра — не бог весть что), и ушел в журналистику, около года был заместителем редактора журнала «Полиграфический экспресс». Оттуда в 2001 перекочевал в книжное издательство, которое занимается деловой литературой. Руководил в нем направлением компьютерной литературы. Увидел, какие тексты приносят в издательство молодые (и не очень) авторы, и понял, что уж лучше писать самому. В 2002 году вышла первая компьютерная книжка, среди соавторов которой значилась фамилия «Жвалевский». Параллельно, используя электронную почту, тормошил с предложениями литературного характера давнего товарища Мытько (к тому времени тот перебрался в Москву). За год по переписке написали с ним книжку юмористических миниатюр. Поняли, что книжка смешная, но c её изданием не спешили (сборник «Дураки и дороги», в который вошли также стихи Александра Мурашко, был издан в 2006 году). После этого написали пародию «Порри Гаттер и Каменный философ», которая неожиданно для всех стала бестселлером. Пользовались заметным успехом и остальные тома серии «Порри Гаттер и его друзья», хотя они уже не являлись пародийными.</a:t>
            </a:r>
            <a:endParaRPr b="0" lang="en-US" sz="1300" spc="-1" strike="noStrike">
              <a:solidFill>
                <a:srgbClr val="444d26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44d26"/>
                </a:solidFill>
                <a:latin typeface="Franklin Gothic Book"/>
              </a:rPr>
              <a:t>В феврале 2005 окончательно ушел в писатели. В большинстве случаев пишет книги в компании с соавторами. В мае 2005 вышла первая «сольная» книга — «Мастер сглаза».</a:t>
            </a:r>
            <a:endParaRPr b="0" lang="en-US" sz="1300" spc="-1" strike="noStrike">
              <a:solidFill>
                <a:srgbClr val="444d26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44d26"/>
              </a:solidFill>
              <a:latin typeface="Franklin Gothic Book"/>
            </a:endParaRPr>
          </a:p>
        </p:txBody>
      </p:sp>
      <p:pic>
        <p:nvPicPr>
          <p:cNvPr id="418" name="Picture 2" descr="Андрей Жвалевский"/>
          <p:cNvPicPr/>
          <p:nvPr/>
        </p:nvPicPr>
        <p:blipFill>
          <a:blip r:embed="rId3"/>
          <a:stretch/>
        </p:blipFill>
        <p:spPr>
          <a:xfrm>
            <a:off x="244440" y="1341360"/>
            <a:ext cx="2998800" cy="698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2" descr=""/>
          <p:cNvPicPr/>
          <p:nvPr/>
        </p:nvPicPr>
        <p:blipFill>
          <a:blip r:embed="rId2"/>
          <a:stretch/>
        </p:blipFill>
        <p:spPr>
          <a:xfrm>
            <a:off x="682560" y="23760"/>
            <a:ext cx="5870520" cy="61596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3276720" y="476280"/>
            <a:ext cx="5867280" cy="6237360"/>
          </a:xfrm>
          <a:prstGeom prst="rect">
            <a:avLst/>
          </a:prstGeom>
          <a:noFill/>
          <a:ln w="0">
            <a:noFill/>
          </a:ln>
        </p:spPr>
        <p:txBody>
          <a:bodyPr lIns="109800" rIns="90000" tIns="0" bIns="468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44d26"/>
                </a:solidFill>
                <a:latin typeface="Franklin Gothic Book"/>
              </a:rPr>
              <a:t>Я родилась и живу в городе Минске.</a:t>
            </a:r>
            <a:endParaRPr b="0" lang="en-US" sz="1300" spc="-1" strike="noStrike">
              <a:solidFill>
                <a:srgbClr val="444d26"/>
              </a:solidFill>
              <a:latin typeface="Franklin Gothic Book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44d26"/>
                </a:solidFill>
                <a:latin typeface="Franklin Gothic Book"/>
              </a:rPr>
              <a:t>В школе у меня было два любимых предмета – физика и русская литература, поэтому поступила я на физический факультет БГУ. Я замужем, у меня двое детей.</a:t>
            </a:r>
            <a:endParaRPr b="0" lang="en-US" sz="1300" spc="-1" strike="noStrike">
              <a:solidFill>
                <a:srgbClr val="444d26"/>
              </a:solidFill>
              <a:latin typeface="Franklin Gothic Book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44d26"/>
                </a:solidFill>
                <a:latin typeface="Franklin Gothic Book"/>
              </a:rPr>
              <a:t>Книги я начала писать благодаря бесконечному нытью Андрея Жвалевского.</a:t>
            </a:r>
            <a:endParaRPr b="0" lang="en-US" sz="1300" spc="-1" strike="noStrike">
              <a:solidFill>
                <a:srgbClr val="444d26"/>
              </a:solidFill>
              <a:latin typeface="Franklin Gothic Book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44d26"/>
                </a:solidFill>
                <a:latin typeface="Franklin Gothic Book"/>
              </a:rPr>
              <a:t>Дело было так: после большого перерыва я решила освоить компьютер. Включаю  его, а там все так изменилось! Учитывая то, что последний раз я писала дипломную работу на 386 РС… От избытка чувств я принялась названивать всем знакомым и делиться впечатлениями, а Жвалевский как закричит: «Записывай, записывай, ты же потом все это забудешь!»</a:t>
            </a:r>
            <a:endParaRPr b="0" lang="en-US" sz="1300" spc="-1" strike="noStrike">
              <a:solidFill>
                <a:srgbClr val="444d26"/>
              </a:solidFill>
              <a:latin typeface="Franklin Gothic Book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44d26"/>
                </a:solidFill>
                <a:latin typeface="Franklin Gothic Book"/>
              </a:rPr>
              <a:t>Так и появилась моя первая книга «Компьютер для женщин». А потом в соавторстве с все тем же Андреем Жвалевским написалась серия «М+Ж». Милая и простая история любви, рассказанная и от лица мужчины и от лица женщины. Наверное, многие посмотрели и фильм «М+Ж», снятый по мотивам нашей книжки, с Нелли Уваровой и Григорием Антипенко в главных ролях.</a:t>
            </a:r>
            <a:endParaRPr b="0" lang="en-US" sz="1300" spc="-1" strike="noStrike">
              <a:solidFill>
                <a:srgbClr val="444d26"/>
              </a:solidFill>
              <a:latin typeface="Franklin Gothic Book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44d26"/>
                </a:solidFill>
                <a:latin typeface="Franklin Gothic Book"/>
              </a:rPr>
              <a:t>У меня масса творческих планов. Продолжила компьютерную серию, написала «Интернет для женщин». «Компьютер…» постоянно обновляется и вышел уже несколькими изданиями. Вместе с Андреем Жвалевским написала две книжки для детей – «Правдивая история Деда Мороза» и «Время всегда хорошее». За «Деда Мороза» мы получили две литературных премии – «Заветная мечта» и «Алые паруса». А издательство «Лабиринт» вслед за «Временем» выпустило эту книгу в роскошном подарочном исполнении. Сейчас дописываем еще одну детскую книжку – по-моему, самую лучшую. Есть несколько уже готовых идей для взрослых книг и даже одна уже готовая рукопись, которая дожидается своей очереди в издательстве «Время».</a:t>
            </a:r>
            <a:endParaRPr b="0" lang="en-US" sz="1300" spc="-1" strike="noStrike">
              <a:solidFill>
                <a:srgbClr val="444d26"/>
              </a:solidFill>
              <a:latin typeface="Franklin Gothic Book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44d26"/>
              </a:solidFill>
              <a:latin typeface="Franklin Gothic Book"/>
            </a:endParaRPr>
          </a:p>
        </p:txBody>
      </p:sp>
      <p:pic>
        <p:nvPicPr>
          <p:cNvPr id="421" name="Picture 2" descr="C:\Documents and Settings\Admin\Рабочий стол\photo_e_past.jpg"/>
          <p:cNvPicPr/>
          <p:nvPr/>
        </p:nvPicPr>
        <p:blipFill>
          <a:blip r:embed="rId3"/>
          <a:stretch/>
        </p:blipFill>
        <p:spPr>
          <a:xfrm>
            <a:off x="108000" y="1341360"/>
            <a:ext cx="3166920" cy="30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Заголовок 2" descr=""/>
          <p:cNvPicPr/>
          <p:nvPr/>
        </p:nvPicPr>
        <p:blipFill>
          <a:blip r:embed="rId2"/>
          <a:stretch/>
        </p:blipFill>
        <p:spPr>
          <a:xfrm>
            <a:off x="542880" y="324000"/>
            <a:ext cx="5145120" cy="54108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3492000" y="765000"/>
            <a:ext cx="5651640" cy="5400720"/>
          </a:xfrm>
          <a:prstGeom prst="rect">
            <a:avLst/>
          </a:prstGeom>
          <a:noFill/>
          <a:ln w="0">
            <a:noFill/>
          </a:ln>
        </p:spPr>
        <p:txBody>
          <a:bodyPr lIns="109800" rIns="90000" tIns="0" bIns="46800" anchor="t">
            <a:normAutofit fontScale="94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44d26"/>
                </a:solidFill>
                <a:latin typeface="Franklin Gothic Book"/>
              </a:rPr>
              <a:t>Цитаты:</a:t>
            </a:r>
            <a:endParaRPr b="0" lang="en-US" sz="1400" spc="-1" strike="noStrike">
              <a:solidFill>
                <a:srgbClr val="444d26"/>
              </a:solidFill>
              <a:latin typeface="Franklin Gothic Book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444d26"/>
                </a:solidFill>
                <a:latin typeface="Franklin Gothic Book"/>
              </a:rPr>
              <a:t>— </a:t>
            </a:r>
            <a:r>
              <a:rPr b="1" i="1" lang="ru-RU" sz="1300" spc="-1" strike="noStrike">
                <a:solidFill>
                  <a:srgbClr val="444d26"/>
                </a:solidFill>
                <a:latin typeface="Franklin Gothic Book"/>
              </a:rPr>
              <a:t>Садись, Витя, — строго сказала Тамара Васильевна, наш завуч по прозвищу «Васса», — у нас с Таней к тебе разговор как к председателю совета отряда!</a:t>
            </a:r>
            <a:endParaRPr b="0" lang="en-US" sz="1300" spc="-1" strike="noStrike">
              <a:solidFill>
                <a:srgbClr val="444d26"/>
              </a:solidFill>
              <a:latin typeface="Franklin Gothic Book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444d26"/>
                </a:solidFill>
                <a:latin typeface="Franklin Gothic Book"/>
              </a:rPr>
              <a:t>Я сел, автоматически подумав: «Перед «как» запятая не нужна, потому что тут оно в значении «в качестве»».</a:t>
            </a:r>
            <a:endParaRPr b="0" lang="en-US" sz="1300" spc="-1" strike="noStrike">
              <a:solidFill>
                <a:srgbClr val="444d26"/>
              </a:solidFill>
              <a:latin typeface="Franklin Gothic Book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444d26"/>
                </a:solidFill>
                <a:latin typeface="Franklin Gothic Book"/>
              </a:rPr>
              <a:t>Танечка и Васса смотрели на меня строго. Теперь было видно,что речь пойдет о каком-то важном, но не очень приятном деле. Возможно, о внеплановом сборе металлолома в честь открытия новой комсомольской стройки.</a:t>
            </a:r>
            <a:endParaRPr b="0" lang="en-US" sz="1300" spc="-1" strike="noStrike">
              <a:solidFill>
                <a:srgbClr val="444d26"/>
              </a:solidFill>
              <a:latin typeface="Franklin Gothic Book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444d26"/>
                </a:solidFill>
                <a:latin typeface="Franklin Gothic Book"/>
              </a:rPr>
              <a:t>— </a:t>
            </a:r>
            <a:r>
              <a:rPr b="1" i="1" lang="ru-RU" sz="1300" spc="-1" strike="noStrike">
                <a:solidFill>
                  <a:srgbClr val="444d26"/>
                </a:solidFill>
                <a:latin typeface="Franklin Gothic Book"/>
              </a:rPr>
              <a:t>Помнишь, Витя, — продолжила завуч, — Женя Архипов приносил в понедельник в школу кулич?</a:t>
            </a:r>
            <a:endParaRPr b="0" lang="en-US" sz="1300" spc="-1" strike="noStrike">
              <a:solidFill>
                <a:srgbClr val="444d26"/>
              </a:solidFill>
              <a:latin typeface="Franklin Gothic Book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444d26"/>
                </a:solidFill>
                <a:latin typeface="Franklin Gothic Book"/>
              </a:rPr>
              <a:t>Я удивился. Какой-то неожиданный вопрос.</a:t>
            </a:r>
            <a:endParaRPr b="0" lang="en-US" sz="1300" spc="-1" strike="noStrike">
              <a:solidFill>
                <a:srgbClr val="444d26"/>
              </a:solidFill>
              <a:latin typeface="Franklin Gothic Book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444d26"/>
                </a:solidFill>
                <a:latin typeface="Franklin Gothic Book"/>
              </a:rPr>
              <a:t>— </a:t>
            </a:r>
            <a:r>
              <a:rPr b="1" i="1" lang="ru-RU" sz="1300" spc="-1" strike="noStrike">
                <a:solidFill>
                  <a:srgbClr val="444d26"/>
                </a:solidFill>
                <a:latin typeface="Franklin Gothic Book"/>
              </a:rPr>
              <a:t>Булку? — уточнил я.</a:t>
            </a:r>
            <a:endParaRPr b="0" lang="en-US" sz="1300" spc="-1" strike="noStrike">
              <a:solidFill>
                <a:srgbClr val="444d26"/>
              </a:solidFill>
              <a:latin typeface="Franklin Gothic Book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444d26"/>
                </a:solidFill>
                <a:latin typeface="Franklin Gothic Book"/>
              </a:rPr>
              <a:t>— </a:t>
            </a:r>
            <a:r>
              <a:rPr b="1" i="1" lang="ru-RU" sz="1300" spc="-1" strike="noStrike">
                <a:solidFill>
                  <a:srgbClr val="444d26"/>
                </a:solidFill>
                <a:latin typeface="Franklin Gothic Book"/>
              </a:rPr>
              <a:t>Кулич! — Танечка поправила меня таким противным голосом,что стало понятно, именно в этом куличе все и дело.</a:t>
            </a:r>
            <a:endParaRPr b="0" lang="en-US" sz="1300" spc="-1" strike="noStrike">
              <a:solidFill>
                <a:srgbClr val="444d26"/>
              </a:solidFill>
              <a:latin typeface="Franklin Gothic Book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444d26"/>
                </a:solidFill>
                <a:latin typeface="Franklin Gothic Book"/>
              </a:rPr>
              <a:t>Я кивнул.</a:t>
            </a:r>
            <a:endParaRPr b="0" lang="en-US" sz="1300" spc="-1" strike="noStrike">
              <a:solidFill>
                <a:srgbClr val="444d26"/>
              </a:solidFill>
              <a:latin typeface="Franklin Gothic Book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444d26"/>
                </a:solidFill>
                <a:latin typeface="Franklin Gothic Book"/>
              </a:rPr>
              <a:t>— </a:t>
            </a:r>
            <a:r>
              <a:rPr b="1" i="1" lang="ru-RU" sz="1300" spc="-1" strike="noStrike">
                <a:solidFill>
                  <a:srgbClr val="444d26"/>
                </a:solidFill>
                <a:latin typeface="Franklin Gothic Book"/>
              </a:rPr>
              <a:t>Что ты киваешь? — вдруг зашипела Танечка. — Языка нет?</a:t>
            </a:r>
            <a:endParaRPr b="0" lang="en-US" sz="1300" spc="-1" strike="noStrike">
              <a:solidFill>
                <a:srgbClr val="444d26"/>
              </a:solidFill>
              <a:latin typeface="Franklin Gothic Book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444d26"/>
                </a:solidFill>
                <a:latin typeface="Franklin Gothic Book"/>
              </a:rPr>
              <a:t>На вожатку это было не похоже. Обычно она со мной говорила приветливо и даже уважительно. Не так, как со всеми остальными. Я торопливо сказал:</a:t>
            </a:r>
            <a:endParaRPr b="0" lang="en-US" sz="1300" spc="-1" strike="noStrike">
              <a:solidFill>
                <a:srgbClr val="444d26"/>
              </a:solidFill>
              <a:latin typeface="Franklin Gothic Book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444d26"/>
                </a:solidFill>
                <a:latin typeface="Franklin Gothic Book"/>
              </a:rPr>
              <a:t>— </a:t>
            </a:r>
            <a:r>
              <a:rPr b="1" i="1" lang="ru-RU" sz="1300" spc="-1" strike="noStrike">
                <a:solidFill>
                  <a:srgbClr val="444d26"/>
                </a:solidFill>
                <a:latin typeface="Franklin Gothic Book"/>
              </a:rPr>
              <a:t>Я помню, как Архипов приносил булку… кулич!</a:t>
            </a:r>
            <a:endParaRPr b="0" lang="en-US" sz="1300" spc="-1" strike="noStrike">
              <a:solidFill>
                <a:srgbClr val="444d26"/>
              </a:solidFill>
              <a:latin typeface="Franklin Gothic Book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444d26"/>
                </a:solidFill>
                <a:latin typeface="Franklin Gothic Book"/>
              </a:rPr>
              <a:t>— </a:t>
            </a:r>
            <a:r>
              <a:rPr b="1" i="1" lang="ru-RU" sz="1300" spc="-1" strike="noStrike">
                <a:solidFill>
                  <a:srgbClr val="444d26"/>
                </a:solidFill>
                <a:latin typeface="Franklin Gothic Book"/>
              </a:rPr>
              <a:t>Танечка! Не надо на Витю кричать, — Васса старалась говорить помягче, но у нее это плохо получалось.</a:t>
            </a:r>
            <a:endParaRPr b="0" lang="en-US" sz="1300" spc="-1" strike="noStrike">
              <a:solidFill>
                <a:srgbClr val="444d26"/>
              </a:solidFill>
              <a:latin typeface="Franklin Gothic Book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444d26"/>
                </a:solidFill>
                <a:latin typeface="Franklin Gothic Book"/>
              </a:rPr>
              <a:t>Просто вместо обычного металла в голоса звучал… наверное, какой-нибудь мягкий металл. Свинец, например.</a:t>
            </a:r>
            <a:endParaRPr b="0" lang="en-US" sz="1300" spc="-1" strike="noStrike">
              <a:solidFill>
                <a:srgbClr val="444d26"/>
              </a:solidFill>
              <a:latin typeface="Franklin Gothic Book"/>
            </a:endParaRPr>
          </a:p>
        </p:txBody>
      </p:sp>
      <p:pic>
        <p:nvPicPr>
          <p:cNvPr id="424" name="Рисунок 5" descr="vvh forzac Время всегда хорошее"/>
          <p:cNvPicPr/>
          <p:nvPr/>
        </p:nvPicPr>
        <p:blipFill>
          <a:blip r:embed="rId3"/>
          <a:srcRect l="0" t="7571" r="0" b="7571"/>
          <a:stretch/>
        </p:blipFill>
        <p:spPr>
          <a:xfrm>
            <a:off x="179280" y="1268280"/>
            <a:ext cx="3024360" cy="3673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1402920" y="115920"/>
            <a:ext cx="6769080" cy="6626160"/>
          </a:xfrm>
          <a:prstGeom prst="rect">
            <a:avLst/>
          </a:prstGeom>
          <a:noFill/>
          <a:ln w="0">
            <a:noFill/>
          </a:ln>
        </p:spPr>
        <p:txBody>
          <a:bodyPr lIns="109800" rIns="90000" tIns="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444d26"/>
                </a:solidFill>
                <a:latin typeface="Franklin Gothic Book"/>
              </a:rPr>
              <a:t>День в школе не задался с самого начала. Математичка совсем озверела, урок начала с того, что собрала у всех комики. То есть контрольную я писала вообще как без рук, ни тебе ни с кем не поговоришь, ни тебе шпор, ни тебе калькулятора. Просто как в доисторические времена! Главное, у многих же есть вторые комики, но как-то не догадались взять их с собой. Да, а потом она вообще учудила, взяла и раздала нам бумажки, это говорит, контрольная, решайте. Класс аж обалдел, как, говорит, ее решать?</a:t>
            </a:r>
            <a:endParaRPr b="0" lang="en-US" sz="1500" spc="-1" strike="noStrike">
              <a:solidFill>
                <a:srgbClr val="444d26"/>
              </a:solidFill>
              <a:latin typeface="Franklin Gothic Book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444d26"/>
                </a:solidFill>
                <a:latin typeface="Franklin Gothic Book"/>
              </a:rPr>
              <a:t>А она улыбается так ехидно и говорит, ручкой пишите по бумажке. И подробное решение каждой задачи. Жуть! Я уже, наверное, полгода ручку вообще в руках не держала. Могу себе представить, что я там нарешала и как это все понаписала. Короче, балла на три, наверное, из десяти…</a:t>
            </a:r>
            <a:endParaRPr b="0" lang="en-US" sz="1500" spc="-1" strike="noStrike">
              <a:solidFill>
                <a:srgbClr val="444d26"/>
              </a:solidFill>
              <a:latin typeface="Franklin Gothic Book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444d26"/>
                </a:solidFill>
                <a:latin typeface="Franklin Gothic Book"/>
              </a:rPr>
              <a:t>Так что по сравнению с этой контрольной все остальное было просто семечки. Зато весь день форум гудел. Мы ж даже не можем задания в сетку выложить, никто не сообразил стащить листик, чтоб его отсканить, а наизусть тоже не запомнишь, и в голову не пришло записать. Мы потом на всех уроках уже из сети не выходили, так и трындели по комикам. На кого не посмотришь, у всех комики под партами и только пальцы мелькают –набираются сообщения. А на форуме было одновременно почти 200 человек, это вся параллель пятых классов, и еще любопытные из других повлезали. На переменках только и успевали тему пролистать, да на вопросы ответить. Из кабинета в кабинет перейдешь, на парту плюхнешься и сразу в комик, читать, что там новенького случилось.</a:t>
            </a:r>
            <a:endParaRPr b="0" lang="en-US" sz="1500" spc="-1" strike="noStrike">
              <a:solidFill>
                <a:srgbClr val="444d26"/>
              </a:solidFill>
              <a:latin typeface="Franklin Gothic Book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44d26"/>
              </a:solidFill>
              <a:latin typeface="Franklin Gothic Boo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7T06:29:35Z</dcterms:created>
  <dc:creator>Your User Name</dc:creator>
  <dc:description/>
  <dc:language>en-US</dc:language>
  <cp:lastModifiedBy>Библиотека</cp:lastModifiedBy>
  <dcterms:modified xsi:type="dcterms:W3CDTF">2011-11-17T08:31:46Z</dcterms:modified>
  <cp:revision>20</cp:revision>
  <dc:subject/>
  <dc:title>«Время всегда хорошее»</dc:title>
</cp:coreProperties>
</file>