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F93-55A0-472A-9271-F34F7013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8E2-F730-44EA-B3F4-F07AD709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FE04C-9D6B-4BE9-9A81-DF6FE01E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67135-C5F1-45AE-BEA3-E2D90B9E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63AF1-73CB-413E-BADE-A2D22CB9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8D58B-B5E9-4E32-A78A-7FD2A4A1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EA99E-1CAE-4145-9DFB-48735E11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C6196-4B0A-4E3C-9F29-359470A8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1CC7E-707A-472E-BD3F-8E8B83EE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070F5-64A1-4140-8B11-47159797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A2CA0-B32A-4E87-ADE0-60538A3D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CAD-50A0-4B2F-A620-2356D985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00F-7422-4C7F-BBE4-16CBE8D3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79B4-490E-4375-82DF-BFEB6206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4B7E-42E5-41BE-A8E0-C087655A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DB7D-1662-49C3-B37B-845B9096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89A4-6A19-41AF-BCF7-F787A675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B31E-E266-4670-BAB7-DD712708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6E21-8492-4831-BE3B-9E45AD9D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9D51-12B1-419C-A113-F7B7B639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878-E577-46DF-84D3-7DF7D396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BD67-90B2-40E7-8135-05BA32EE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25B6-E88E-439E-B25E-FC6585BD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5FF9-D7E7-4077-BD7C-C7E3B85E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E7CF-D5B9-487A-B367-A4D37307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22E8-D86B-4DE1-A409-E74CFB9A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6B14-0BB3-4AAF-A7EE-D7133057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E53D-5D36-4003-9397-F2ED25E3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EBA8-63C8-421C-826C-B020D500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1C7F-F88F-498E-9128-9C26C9C6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55507-E09D-4A14-A5B7-9D985012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F86-033D-4BD4-849F-D3D5FD30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27A9-0D76-4D33-99EB-685535C2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87848-D5E8-4C4F-B0DB-CA5D8DDB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C3F4-751C-427B-AE05-4EAC35CD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F6EC-6B47-4F4E-9524-14EC8070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2A70-376B-44F9-B1F0-DEC9FA6E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1AD43-0503-4E59-B484-47A0E5F0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9447-F00F-41EB-A6E0-EADDD643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1FE07-130C-4A8A-BB1B-C7FABE75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14064-31B5-4174-B960-F6CADE6B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EB91-5928-4C57-A32D-76232FE4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562-97DB-4225-82C5-AD54C9F8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9A978-4F8A-45E6-A400-D313C931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81DE-C983-4BD3-B022-6AD2F236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D0D3-0B9B-451D-B83F-D01CED08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E8188-BB36-4BB7-A486-FAD5CDC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F27FA-4EF2-4E4B-915F-B213D67C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9246-9DFD-46BC-AB6E-F5D2AE5F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91C20-C2C6-4A4A-9F13-B6902B66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8D06A-102C-4524-8175-E6721986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7CA83-BECE-40CE-B04C-14235A6D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E2D1E-2E02-4AD5-89AD-3E5CB7B4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E49-048F-4177-A335-90EBA08C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9F6B1-CDA0-4EFD-8979-6BA0FF01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99E34-0057-4478-AEF6-0A9F7769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252DB-A2DE-4850-93CC-D8859B57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FB6DD-BC48-426D-ABAD-C51A7CD7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91DC0-4F63-4DB7-ACA5-A05165A1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BACF1-17BE-4BC1-AC13-D708DE20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74571-DA41-4A2A-BD4F-CAF7E7CC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5EA82-2F28-42C2-9D0C-BCC2E8B5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D30F1-734C-42D3-B4DA-7D232713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2A514-2AC6-4FD4-9F39-543BF08F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747-E2F0-43BF-9BD8-C4D9333F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092B0-F98D-4FFD-9C35-0AF93FE0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E826F-3B26-4CA5-96D3-69C27CE7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93FF9-6844-4E72-A796-7B1F39D5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D4E4E-2572-4841-83ED-B4E138EC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182BF-9C09-4A7C-B319-42DD87B3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F3EE3-D38E-42EC-B284-422B329E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B7D2-AD44-42A0-99E4-B0939215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A0B04-D6EC-423D-B77E-E043BE02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B1046-D5BE-4E34-90B2-18B94EAB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BF5B3-113F-4FD6-8E5B-01CB4AED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6B2-B2E7-40CA-87DC-3274B83B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A9FEF-D8A6-485F-A4F9-30676EC8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1703B-D089-457D-A05E-ECF2DA99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3DE1E-7D9A-44AA-A6DF-73EBB303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DC437-86D7-43F6-982B-8A96A492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50F13-7F51-44F0-ABCF-AC6513F3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DF34A-41C9-4DE9-A0F5-D6C043BA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65FEB-BA23-4FD5-B6F4-10F0B404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116E1-F9B7-4109-B037-E05980B3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67482-52CF-42CA-9BBD-7B1FBA8A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99F33-9971-459B-9CF6-5332BF35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191-0B5B-4747-A7D4-2E17AE2D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F3514-3E9D-47D3-A168-F46C7A3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4B636-E78D-4016-887C-EAF0543C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1C4BB-D752-4742-B4B4-58AFE47D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A7601-65D8-4582-A8E7-1FA09D1E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52DF-78B3-4B76-B878-742F3D47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B1CE4-8B4A-441F-AE0C-96574873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E89FC-9DCA-4DE4-AA37-E5C52464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6086B-BC0F-4806-B95C-E0FB2F47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52207-A55D-4F92-8F5F-F6970FAC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1AFF5-4C6D-4CF0-A055-4A2C0E7B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D2B-C344-4C01-80A8-E6F5D2E9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4E956-2EB9-4613-93B4-66BEB3B9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5665A-0DE9-45A3-B08E-6D8F1ACE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945F4-B671-4853-AEB5-52A658E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AC4A9-0C61-4EA3-BB89-D3C50D7E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37B89-ECC8-44C5-8F94-447AC99D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268E2-6857-4CBC-A874-AB87256E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B19A7-8E57-4A63-9D1C-437304FC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BB017-15B8-4CBF-AB28-9C078474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9C675-A184-4AE1-911F-747EB7A5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EBF73-EC1B-47B8-9074-9C9AB499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6CCA-9D57-4F29-80FD-ED641BCD463E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45B9-D1CC-4EAD-BA6F-7C22BEEA2BDA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608A-D7D7-49BC-8445-23158459EE4C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69BA-787E-403F-BF31-B721CDDFCA2F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E9F1-ADB2-44E7-AD10-F60C821366BB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B80C-4B54-44A9-8FA0-B77868E0E1A7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736D-0409-4A7F-B769-39F22A16B68A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CEFE-D91B-4EE2-BB21-DD61D40EB9C4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8EAD-5908-466F-9FF4-C77957DC853D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&#1082;&#1085;&#1080;&#1075;&#1091;&#1088;&#1091;.&#1088;&#1092;/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Картинка 52 из 1360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1" descr=""/>
          <p:cNvPicPr/>
          <p:nvPr/>
        </p:nvPicPr>
        <p:blipFill>
          <a:blip r:embed="rId3"/>
          <a:stretch/>
        </p:blipFill>
        <p:spPr>
          <a:xfrm>
            <a:off x="66600" y="2157480"/>
            <a:ext cx="8717040" cy="13413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456000" y="3716280"/>
            <a:ext cx="5688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Исполнитель: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Звездкина Ксения,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учащаяся 7 «Г» класса.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Руководители: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Ефимова Н.Б.,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Еремина Е.А.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2" name=""/>
          <p:cNvSpPr/>
          <p:nvPr/>
        </p:nvSpPr>
        <p:spPr>
          <a:xfrm>
            <a:off x="2484360" y="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ГОУ СОШ № 717 СА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6165720"/>
            <a:ext cx="160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Москва, 201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2"/>
          <a:srcRect l="18974" t="3411" r="18454" b="2608"/>
          <a:stretch/>
        </p:blipFill>
        <p:spPr>
          <a:xfrm>
            <a:off x="150840" y="0"/>
            <a:ext cx="492588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148360" y="0"/>
            <a:ext cx="399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оман «Время всегда хорошее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вторы: Андрей Жвалевский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 Евгения Пастернак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2" descr=""/>
          <p:cNvPicPr/>
          <p:nvPr/>
        </p:nvPicPr>
        <p:blipFill>
          <a:blip r:embed="rId2"/>
          <a:stretch/>
        </p:blipFill>
        <p:spPr>
          <a:xfrm>
            <a:off x="506520" y="4870440"/>
            <a:ext cx="5900760" cy="19875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276720" y="691920"/>
            <a:ext cx="5867280" cy="38890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Franklin Gothic Book"/>
              </a:rPr>
              <a:t>Что будет, если девчонка из 2018 года вдруг окажется в 1980 году? А мальчик из 1980 года перенесется на ее место? Где лучше? И что такое "лучше"? Где интереснее играть: на компьютере или во дворе? Что важнее: свобода и раскованность в чате или умение разговаривать, глядя в глаза друг другу? И самое главное — правда ли, что "время тогда было другое"?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Franklin Gothic Book"/>
              </a:rPr>
              <a:t>А может быть, время всегда хорошее, и вообще, все зависит только от тебя..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3"/>
          <a:srcRect l="18974" t="3411" r="18454" b="2608"/>
          <a:stretch/>
        </p:blipFill>
        <p:spPr>
          <a:xfrm>
            <a:off x="468360" y="476280"/>
            <a:ext cx="2519280" cy="378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2" descr=""/>
          <p:cNvPicPr/>
          <p:nvPr/>
        </p:nvPicPr>
        <p:blipFill>
          <a:blip r:embed="rId2"/>
          <a:stretch/>
        </p:blipFill>
        <p:spPr>
          <a:xfrm>
            <a:off x="1712880" y="371520"/>
            <a:ext cx="5583240" cy="4935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419280" y="836280"/>
            <a:ext cx="5724360" cy="59770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4d26"/>
                </a:solidFill>
                <a:latin typeface="Franklin Gothic Book"/>
              </a:rPr>
              <a:t>Эту книжку мы с Женей Пастернак написали как-то внезапно для себя. Очень смешно сейчас читать в обсуждениях: «Авторы хотели сказать то…», «Авторы хотели сказать это…», потому что авторы просто хотели написать фантастическую повесть. Про приключения. Про путешествия во времени. А началось все с того, что Евгения Борисовна Пастернак пыталась рассказать своей дочке Сашке (которой тогда было 12 лет), что такое пионерский галстук, какая была школьная форма и пр.</a:t>
            </a:r>
            <a:endParaRPr b="0" lang="en-US" sz="16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4d26"/>
                </a:solidFill>
                <a:latin typeface="Franklin Gothic Book"/>
              </a:rPr>
              <a:t>Писали долго, больше полугода. Буксовали в начале, но затем, зимой 2008-2009 года произошло два знаменательных события: я решил отдохнуть от работы и мы придумали название. Второй фактор оказался определяющим. Мы ведь давно знали, что название книги определяет ее судьбу, и решили сначала схитрить, стали писать повесть с названием «Быстрая книга». Но халява не прокатила. Пришлось давать рукописи нормальное имя. И как только написали в начале файла «Время всегда хорошее» — книжка как будто сама написалась!</a:t>
            </a:r>
            <a:endParaRPr b="0" lang="en-US" sz="16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4d26"/>
                </a:solidFill>
                <a:latin typeface="Franklin Gothic Book"/>
              </a:rPr>
              <a:t>Правда, поначалу продавалась она ни шатко ни валко, а потом ничего, раскочегарилось, уже второй тираж уходит. Причем без особых усилий по раскрутке..</a:t>
            </a:r>
            <a:endParaRPr b="0" lang="en-US" sz="16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11" name="Picture 2" descr="http://books.vremya.ru/uploads/1270470305_s-alisoj-i-mielofonom.jpg"/>
          <p:cNvPicPr/>
          <p:nvPr/>
        </p:nvPicPr>
        <p:blipFill>
          <a:blip r:embed="rId3"/>
          <a:stretch/>
        </p:blipFill>
        <p:spPr>
          <a:xfrm>
            <a:off x="31680" y="1197000"/>
            <a:ext cx="340848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2" descr=""/>
          <p:cNvPicPr/>
          <p:nvPr/>
        </p:nvPicPr>
        <p:blipFill>
          <a:blip r:embed="rId2"/>
          <a:stretch/>
        </p:blipFill>
        <p:spPr>
          <a:xfrm>
            <a:off x="2610000" y="115920"/>
            <a:ext cx="5894280" cy="40352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9280" y="4436640"/>
            <a:ext cx="5867640" cy="127332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44d26"/>
                </a:solidFill>
                <a:latin typeface="Franklin Gothic Book"/>
              </a:rPr>
              <a:t>1 июня 2011 года «Время всегда хорошее» вошло в тройку призёров Всероссийского  конкурса  на лучшее литературное произведение для детей и подростков.</a:t>
            </a:r>
            <a:endParaRPr b="0" lang="en-US" sz="1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14" name="Рисунок 4" descr="gaid znak Время всегда хорошее"/>
          <p:cNvPicPr/>
          <p:nvPr/>
        </p:nvPicPr>
        <p:blipFill>
          <a:blip r:embed="rId3"/>
          <a:stretch/>
        </p:blipFill>
        <p:spPr>
          <a:xfrm>
            <a:off x="324000" y="692280"/>
            <a:ext cx="1928520" cy="224316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6" descr="title_photo_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3932280"/>
            <a:ext cx="2303640" cy="28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2" descr=""/>
          <p:cNvPicPr/>
          <p:nvPr/>
        </p:nvPicPr>
        <p:blipFill>
          <a:blip r:embed="rId2"/>
          <a:stretch/>
        </p:blipFill>
        <p:spPr>
          <a:xfrm>
            <a:off x="1547640" y="115920"/>
            <a:ext cx="5864400" cy="5792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257640" y="620640"/>
            <a:ext cx="5867280" cy="612144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Родился в городе Гродно Белорусской ССР в 1967 году. Учился сначала в школе, потом на физфаке Белгосуниверситета, закончил его в 1991 году с красным дипломом, но тут, как пишут начинающие литераторы, «вдруг случилась внезапная неожиданность» — кончился Советский Союз. Заниматься физикой лазеров стало бессмысленно, хотя еще полтора года провел в фундаментальной науке, даже начал сдавать кандидатский минимум — по философии получил «хорошо». Но в 1993 году здравый смысл и чувство голода взяли верх. Пошел заниматься дизайном ценных и защищенных бумаг. Прозанимался до осени 2000 года. Понял, что уперся в потолок (должность начальника репроцентра — не бог весть что), и ушел в журналистику, около года был заместителем редактора журнала «Полиграфический экспресс». Оттуда в 2001 перекочевал в книжное издательство, которое занимается деловой литературой. Руководил в нем направлением компьютерной литературы. Увидел, какие тексты приносят в издательство молодые (и не очень) авторы, и понял, что уж лучше писать самому. В 2002 году вышла первая компьютерная книжка, среди соавторов которой значилась фамилия «Жвалевский». Параллельно, используя электронную почту, тормошил с предложениями литературного характера давнего товарища Мытько (к тому времени тот перебрался в Москву). За год по переписке написали с ним книжку юмористических миниатюр. Поняли, что книжка смешная, но c её изданием не спешили (сборник «Дураки и дороги», в который вошли также стихи Александра Мурашко, был издан в 2006 году). После этого написали пародию «Порри Гаттер и Каменный философ», которая неожиданно для всех стала бестселлером. Пользовались заметным успехом и остальные тома серии «Порри Гаттер и его друзья», хотя они уже не являлись пародийными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В феврале 2005 окончательно ушел в писатели. В большинстве случаев пишет книги в компании с соавторами. В мае 2005 вышла первая «сольная» книга — «Мастер сглаза»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18" name="Picture 2" descr="Андрей Жвалевский"/>
          <p:cNvPicPr/>
          <p:nvPr/>
        </p:nvPicPr>
        <p:blipFill>
          <a:blip r:embed="rId3"/>
          <a:stretch/>
        </p:blipFill>
        <p:spPr>
          <a:xfrm>
            <a:off x="244440" y="1341360"/>
            <a:ext cx="2998800" cy="698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2" descr=""/>
          <p:cNvPicPr/>
          <p:nvPr/>
        </p:nvPicPr>
        <p:blipFill>
          <a:blip r:embed="rId2"/>
          <a:stretch/>
        </p:blipFill>
        <p:spPr>
          <a:xfrm>
            <a:off x="682560" y="23760"/>
            <a:ext cx="5870520" cy="6159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276720" y="476280"/>
            <a:ext cx="5867280" cy="623736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Я родилась и живу в городе Минске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В школе у меня было два любимых предмета – физика и русская литература, поэтому поступила я на физический факультет БГУ. Я замужем, у меня двое детей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Книги я начала писать благодаря бесконечному нытью Андрея Жвалевского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Дело было так: после большого перерыва я решила освоить компьютер. Включаю  его, а там все так изменилось! Учитывая то, что последний раз я писала дипломную работу на 386 РС… От избытка чувств я принялась названивать всем знакомым и делиться впечатлениями, а Жвалевский как закричит: «Записывай, записывай, ты же потом все это забудешь!»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Так и появилась моя первая книга «Компьютер для женщин». А потом в соавторстве с все тем же Андреем Жвалевским написалась серия «М+Ж». Милая и простая история любви, рассказанная и от лица мужчины и от лица женщины. Наверное, многие посмотрели и фильм «М+Ж», снятый по мотивам нашей книжки, с Нелли Уваровой и Григорием Антипенко в главных ролях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У меня масса творческих планов. Продолжила компьютерную серию, написала «Интернет для женщин». «Компьютер…» постоянно обновляется и вышел уже несколькими изданиями. Вместе с Андреем Жвалевским написала две книжки для детей – «Правдивая история Деда Мороза» и «Время всегда хорошее». За «Деда Мороза» мы получили две литературных премии – «Заветная мечта» и «Алые паруса». А издательство «Лабиринт» вслед за «Временем» выпустило эту книгу в роскошном подарочном исполнении. Сейчас дописываем еще одну детскую книжку – по-моему, самую лучшую. Есть несколько уже готовых идей для взрослых книг и даже одна уже готовая рукопись, которая дожидается своей очереди в издательстве «Время»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21" name="Picture 2" descr="C:\Documents and Settings\Admin\Рабочий стол\photo_e_past.jpg"/>
          <p:cNvPicPr/>
          <p:nvPr/>
        </p:nvPicPr>
        <p:blipFill>
          <a:blip r:embed="rId3"/>
          <a:stretch/>
        </p:blipFill>
        <p:spPr>
          <a:xfrm>
            <a:off x="108000" y="1341360"/>
            <a:ext cx="316692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2" descr=""/>
          <p:cNvPicPr/>
          <p:nvPr/>
        </p:nvPicPr>
        <p:blipFill>
          <a:blip r:embed="rId2"/>
          <a:stretch/>
        </p:blipFill>
        <p:spPr>
          <a:xfrm>
            <a:off x="542880" y="324000"/>
            <a:ext cx="5145120" cy="5410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492000" y="765000"/>
            <a:ext cx="5651640" cy="540072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 fontScale="9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44d26"/>
                </a:solidFill>
                <a:latin typeface="Franklin Gothic Book"/>
              </a:rPr>
              <a:t>Цитаты:</a:t>
            </a:r>
            <a:endParaRPr b="0" lang="en-US" sz="14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Садись, Витя, — строго сказала Тамара Васильевна, наш завуч по прозвищу «Васса», — у нас с Таней к тебе разговор как к председателю совета отряда!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Я сел, автоматически подумав: «Перед «как» запятая не нужна, потому что тут оно в значении «в качестве»»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Танечка и Васса смотрели на меня строго. Теперь было видно,что речь пойдет о каком-то важном, но не очень приятном деле. Возможно, о внеплановом сборе металлолома в честь открытия новой комсомольской стройки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Помнишь, Витя, — продолжила завуч, — Женя Архипов приносил в понедельник в школу кулич?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Я удивился. Какой-то неожиданный вопрос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Булку? — уточнил я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Кулич! — Танечка поправила меня таким противным голосом,что стало понятно, именно в этом куличе все и дело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Я кивнул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Что ты киваешь? — вдруг зашипела Танечка. — Языка нет?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На вожатку это было не похоже. Обычно она со мной говорила приветливо и даже уважительно. Не так, как со всеми остальными. Я торопливо сказал: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Я помню, как Архипов приносил булку… кулич!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Танечка! Не надо на Витю кричать, — Васса старалась говорить помягче, но у нее это плохо получалось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Просто вместо обычного металла в голоса звучал… наверное, какой-нибудь мягкий металл. Свинец, например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24" name="Рисунок 5" descr="vvh forzac Время всегда хорошее"/>
          <p:cNvPicPr/>
          <p:nvPr/>
        </p:nvPicPr>
        <p:blipFill>
          <a:blip r:embed="rId3"/>
          <a:srcRect l="0" t="7571" r="0" b="7571"/>
          <a:stretch/>
        </p:blipFill>
        <p:spPr>
          <a:xfrm>
            <a:off x="179280" y="1268280"/>
            <a:ext cx="3024360" cy="36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402920" y="115920"/>
            <a:ext cx="6769080" cy="662616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444d26"/>
                </a:solidFill>
                <a:latin typeface="Franklin Gothic Book"/>
              </a:rPr>
              <a:t>День в школе не задался с самого начала. Математичка совсем озверела, урок начала с того, что собрала у всех комики. То есть контрольную я писала вообще как без рук, ни тебе ни с кем не поговоришь, ни тебе шпор, ни тебе калькулятора. Просто как в доисторические времена! Главное, у многих же есть вторые комики, но как-то не догадались взять их с собой. Да, а потом она вообще учудила, взяла и раздала нам бумажки, это говорит, контрольная, решайте. Класс аж обалдел, как, говорит, ее решать?</a:t>
            </a:r>
            <a:endParaRPr b="0" lang="en-US" sz="15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444d26"/>
                </a:solidFill>
                <a:latin typeface="Franklin Gothic Book"/>
              </a:rPr>
              <a:t>А она улыбается так ехидно и говорит, ручкой пишите по бумажке. И подробное решение каждой задачи. Жуть! Я уже, наверное, полгода ручку вообще в руках не держала. Могу себе представить, что я там нарешала и как это все понаписала. Короче, балла на три, наверное, из десяти…</a:t>
            </a:r>
            <a:endParaRPr b="0" lang="en-US" sz="15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444d26"/>
                </a:solidFill>
                <a:latin typeface="Franklin Gothic Book"/>
              </a:rPr>
              <a:t>Так что по сравнению с этой контрольной все остальное было просто семечки. Зато весь день форум гудел. Мы ж даже не можем задания в сетку выложить, никто не сообразил стащить листик, чтоб его отсканить, а наизусть тоже не запомнишь, и в голову не пришло записать. Мы потом на всех уроках уже из сети не выходили, так и трындели по комикам. На кого не посмотришь, у всех комики под партами и только пальцы мелькают –набираются сообщения. А на форуме было одновременно почти 200 человек, это вся параллель пятых классов, и еще любопытные из других повлезали. На переменках только и успевали тему пролистать, да на вопросы ответить. Из кабинета в кабинет перейдешь, на парту плюхнешься и сразу в комик, читать, что там новенького случилось.</a:t>
            </a:r>
            <a:endParaRPr b="0" lang="en-US" sz="15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6:29:35Z</dcterms:created>
  <dc:creator>Your User Name</dc:creator>
  <dc:description/>
  <dc:language>en-US</dc:language>
  <cp:lastModifiedBy>Библиотека</cp:lastModifiedBy>
  <dcterms:modified xsi:type="dcterms:W3CDTF">2011-11-17T08:31:46Z</dcterms:modified>
  <cp:revision>20</cp:revision>
  <dc:subject/>
  <dc:title>«Время всегда хорошее»</dc:title>
</cp:coreProperties>
</file>