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3.jpeg" ContentType="image/jpeg"/>
  <Override PartName="/ppt/media/image12.png" ContentType="image/png"/>
  <Override PartName="/ppt/media/image19.jpeg" ContentType="image/jpeg"/>
  <Override PartName="/ppt/media/image25.png" ContentType="image/png"/>
  <Override PartName="/ppt/media/image26.jpeg" ContentType="image/jpeg"/>
  <Override PartName="/ppt/media/image7.png" ContentType="image/png"/>
  <Override PartName="/ppt/media/image34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18.wmf" ContentType="image/x-wmf"/>
  <Override PartName="/ppt/media/image36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22.jpeg" ContentType="image/jpeg"/>
  <Override PartName="/ppt/media/image9.png" ContentType="image/png"/>
  <Override PartName="/ppt/media/image3.jpeg" ContentType="image/jpeg"/>
  <Override PartName="/ppt/media/image3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CD2-7511-4C68-8C30-E35C545C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FF9-26D1-42B5-A299-C4B79AAD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A29-C17A-42C5-B8B7-E9AA444F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5BF-D3ED-4F79-BC14-D9E81AF3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2FC-D43D-427F-8694-781E9BCE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CD1-3BF0-475A-8FD0-37DBE308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DFF-F46A-452D-AB26-7F07ED6A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D10-03AC-4CDB-826E-432E003D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D89-9306-48B0-A52C-501B650A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9C9-3439-47BD-8396-93D73294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729-A0DD-4EF0-A91B-46EBA460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F7C-978E-41FC-A039-0570391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f66a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EBAA-91BD-4D16-A45D-EE69B8605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1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3200"/>
                </a:solidFill>
                <a:latin typeface="Monotype Corsiva"/>
              </a:rPr>
              <a:t>«</a:t>
            </a:r>
            <a:r>
              <a:rPr b="0" i="1" lang="ru-RU" sz="80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АТОМНАЯ ЭНЕРГИЯ:</a:t>
            </a:r>
            <a:br>
              <a:rPr sz="8000"/>
            </a:br>
            <a:r>
              <a:rPr b="0" i="1" lang="ru-RU" sz="80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ЗА И ПРОТИВ»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57120" y="42876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ИНТЕГРИРОВАННЫЙ УРОК ПО ПРОБЛЕМ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ru_rea-1"/>
          <p:cNvPicPr/>
          <p:nvPr/>
        </p:nvPicPr>
        <p:blipFill>
          <a:blip r:embed="rId1"/>
          <a:stretch/>
        </p:blipFill>
        <p:spPr>
          <a:xfrm>
            <a:off x="-36360" y="1214280"/>
            <a:ext cx="9180360" cy="54230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5712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 атомных  станций  эксплуатируется  в  Ро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res9EA71A42-CB98-4E5F-B692-AED9B9B8CC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500040" y="28584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спользование ядерной энергии в мирных целях чрезвычайно выгодно и удобно. Ядерная энергетика открывает перед человечеством практически неограниченные возможности. Сейчас внимание ученых сосредоточено на вопросах безопасной и экологически безвредной эксплуатации ядерных ре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loud_r"/>
          <p:cNvPicPr/>
          <p:nvPr/>
        </p:nvPicPr>
        <p:blipFill>
          <a:blip r:embed="rId1"/>
          <a:stretch/>
        </p:blipFill>
        <p:spPr>
          <a:xfrm>
            <a:off x="500040" y="973080"/>
            <a:ext cx="7929720" cy="58849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428760" y="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ЭС  экологически  чищ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ем  ТЭС  на  органическом  топл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57200" y="27792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"/>
              </a:rPr>
              <a:t>ВИДЫ ОБЛУЧЕНИЯ ЛЮДЕЙ ОТ РАЗЛИЧНЫХ ЕСТЕСТВЕННЫХ И ТЕХНОГЕННЫХ ИСТОЧНИКОВ ИЗЛ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90000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мкбэ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32151"/>
          <p:cNvPicPr/>
          <p:nvPr/>
        </p:nvPicPr>
        <p:blipFill>
          <a:blip r:embed="rId1"/>
          <a:stretch/>
        </p:blipFill>
        <p:spPr>
          <a:xfrm>
            <a:off x="250920" y="1413000"/>
            <a:ext cx="2319120" cy="1711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28600" y="321156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мотр теле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асстоянии 2 мет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j0180775"/>
          <p:cNvPicPr/>
          <p:nvPr/>
        </p:nvPicPr>
        <p:blipFill>
          <a:blip r:embed="rId2"/>
          <a:stretch/>
        </p:blipFill>
        <p:spPr>
          <a:xfrm>
            <a:off x="3276720" y="1628640"/>
            <a:ext cx="2260440" cy="148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3494520" y="1197000"/>
            <a:ext cx="187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02—0,1 мбэ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276360" y="3213000"/>
            <a:ext cx="22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живание возле АЭ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учение за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j0289203"/>
          <p:cNvPicPr/>
          <p:nvPr/>
        </p:nvPicPr>
        <p:blipFill>
          <a:blip r:embed="rId3"/>
          <a:stretch/>
        </p:blipFill>
        <p:spPr>
          <a:xfrm>
            <a:off x="6156360" y="1628640"/>
            <a:ext cx="1944720" cy="1528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6302880" y="1197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—35 мбэ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935680" y="3284640"/>
            <a:ext cx="233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ёт на космичес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абле в течении 1 ча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j0185165"/>
          <p:cNvPicPr/>
          <p:nvPr/>
        </p:nvPicPr>
        <p:blipFill>
          <a:blip r:embed="rId4"/>
          <a:stretch/>
        </p:blipFill>
        <p:spPr>
          <a:xfrm>
            <a:off x="1403280" y="4437000"/>
            <a:ext cx="3024360" cy="212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j0289289"/>
          <p:cNvPicPr/>
          <p:nvPr/>
        </p:nvPicPr>
        <p:blipFill>
          <a:blip r:embed="rId5"/>
          <a:stretch/>
        </p:blipFill>
        <p:spPr>
          <a:xfrm>
            <a:off x="4427640" y="4437000"/>
            <a:ext cx="3168720" cy="2116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1910160" y="40053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003—0,3 бэ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149800" y="40053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01—0,1 бэ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82160" y="4653000"/>
            <a:ext cx="115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нтге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у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7599600" y="4653000"/>
            <a:ext cx="12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ентге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Calibri"/>
              </a:rPr>
              <a:t>Последствия радиационного по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4835520"/>
        </p:xfrm>
        <a:graphic>
          <a:graphicData uri="http://schemas.openxmlformats.org/drawingml/2006/table">
            <a:tbl>
              <a:tblPr/>
              <a:tblGrid>
                <a:gridCol w="1168560"/>
                <a:gridCol w="7061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а обл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пора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поражения отсутств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ются тошнота и рвота, чувство усталости без серьезной потери трудо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многократном облучении в течение З месяцев работоспособность не уменьшается. При острых (однократных) облучениях дозой 100—250 Р возникают слабо выраженные признаки поражения (лучевая болезнь 1 степе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лучевая болезнь II степени. Заболевания в большинстве случаев заканчиваются выздоро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-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болезнь III степен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ельный исход. Поражение проявляется через несколько часов — лучевая болезнь 4 степ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ниеносная форма лучевой болезни. Пораженные практически полностью теряют работоспособность и погибают в первые дни обл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714240" y="1165320"/>
            <a:ext cx="3497400" cy="2458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photo2"/>
          <p:cNvPicPr/>
          <p:nvPr/>
        </p:nvPicPr>
        <p:blipFill>
          <a:blip r:embed="rId2"/>
          <a:stretch/>
        </p:blipFill>
        <p:spPr>
          <a:xfrm>
            <a:off x="716040" y="3863880"/>
            <a:ext cx="3495600" cy="249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photo7"/>
          <p:cNvPicPr/>
          <p:nvPr/>
        </p:nvPicPr>
        <p:blipFill>
          <a:blip r:embed="rId3"/>
          <a:stretch/>
        </p:blipFill>
        <p:spPr>
          <a:xfrm>
            <a:off x="4786200" y="3857760"/>
            <a:ext cx="3675240" cy="2498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photo5"/>
          <p:cNvPicPr/>
          <p:nvPr/>
        </p:nvPicPr>
        <p:blipFill>
          <a:blip r:embed="rId4"/>
          <a:stretch/>
        </p:blipFill>
        <p:spPr>
          <a:xfrm>
            <a:off x="4788000" y="1214280"/>
            <a:ext cx="3498840" cy="2345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1520280" y="285840"/>
            <a:ext cx="624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 обязаны помн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дерные  отходы (ОЯТ)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возка опасного  груза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2702"/>
          <p:cNvPicPr/>
          <p:nvPr/>
        </p:nvPicPr>
        <p:blipFill>
          <a:blip r:embed="rId1"/>
          <a:stretch/>
        </p:blipFill>
        <p:spPr>
          <a:xfrm>
            <a:off x="1187280" y="1916280"/>
            <a:ext cx="7056720" cy="47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0" y="357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б-квартира Международного агентства по атомной энергии при ООН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ТЭ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123\Downloads\1240830835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0" y="3933720"/>
            <a:ext cx="85010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 апреля 1986г.  в 1 час 27 минут произошел взрыв… Ударил Чернобыльский колокол. Его услышали жители Украины, Белоруссии, России  - люди все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лан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аве мария.mp3" descr=""/>
          <p:cNvPicPr/>
          <p:nvPr/>
        </p:nvPicPr>
        <p:blipFill>
          <a:blip r:embed="rId2"/>
          <a:stretch/>
        </p:blipFill>
        <p:spPr>
          <a:xfrm>
            <a:off x="864396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E:\File039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0" y="4500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Таштагольского района горвоенкоматом на ликвидацию последствий аварии было призвано в Чернобыль 42 добровольца, в их числе наш земляк Гохбаум Владимир. Из интервью с ним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… пустой город! Красивые здания, широкие улицы, зелёные скверы и … без людей. Тишина! Мертвый город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0" y="28584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Цель: Формирование знаний о значении и перспективах развития атомной энергии в современном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0" y="1214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Задач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создать условия для формирования и развития социальн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компетенции (способности взять на себя ответственность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совместно вырабатывать решения и участвовать в их реализации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и коммуникативной компетенции (умение высказать свою точку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зрения и принимать альтернативную информацию по да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проблеме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развивать познавательный интерес школьников к актуа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проблемам современности, повышать мотивацию 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самостоятельному поиску знаний;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содействовать формированию основных мировоззренческих иде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их причинно- следственных свя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680000" cy="378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5040360" cy="3554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3500280" y="285840"/>
            <a:ext cx="56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Ущерб от аварии на АЭС «Фукусима-1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вызвавшей опасную утечку радиоактивных вещест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составил 11 триллионов и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(133 миллиарда доллар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3 0.09621 L -0.21094 -0.16697 E">
                                      <p:cBhvr>
                                        <p:cTn id="23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4722 -0.01735 L 0.2283 0.19241 E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Горизонтальный свиток 1"/>
          <p:cNvSpPr/>
          <p:nvPr/>
        </p:nvSpPr>
        <p:spPr>
          <a:xfrm>
            <a:off x="571680" y="428760"/>
            <a:ext cx="8215200" cy="5572080"/>
          </a:xfrm>
          <a:prstGeom prst="horizontalScroll">
            <a:avLst>
              <a:gd name="adj" fmla="val 12500"/>
            </a:avLst>
          </a:prstGeom>
          <a:solidFill>
            <a:srgbClr val="21c5aa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Жизнь беззащитна, и любовь не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А разум землю облагает дан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3200" spc="-1" strike="noStrike" u="sng">
                <a:solidFill>
                  <a:srgbClr val="003200"/>
                </a:solidFill>
                <a:uFillTx/>
                <a:latin typeface="Times New Roman"/>
                <a:ea typeface="Times New Roman"/>
              </a:rPr>
              <a:t>точная ответственность </a:t>
            </a:r>
            <a:r>
              <a:rPr b="1" i="1" lang="ru-RU" sz="32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долж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Сопутствовать </a:t>
            </a:r>
            <a:r>
              <a:rPr b="1" i="1" lang="ru-RU" sz="3200" spc="-1" strike="noStrike" u="sng">
                <a:solidFill>
                  <a:srgbClr val="003200"/>
                </a:solidFill>
                <a:uFillTx/>
                <a:latin typeface="Times New Roman"/>
                <a:ea typeface="Times New Roman"/>
              </a:rPr>
              <a:t>великому познан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man_s"/>
          <p:cNvPicPr/>
          <p:nvPr/>
        </p:nvPicPr>
        <p:blipFill>
          <a:blip r:embed="rId1"/>
          <a:stretch/>
        </p:blipFill>
        <p:spPr>
          <a:xfrm>
            <a:off x="1000080" y="1785960"/>
            <a:ext cx="7215120" cy="4908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357120" y="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9190d"/>
                </a:solidFill>
                <a:latin typeface="Times New Roman"/>
                <a:ea typeface="Times New Roman"/>
              </a:rPr>
              <a:t>Можно  ли  обойтись  без  ядерной  энергетик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C:\Documents and Settings\Admin\Рабочий стол\16394.jpg"/>
          <p:cNvPicPr/>
          <p:nvPr/>
        </p:nvPicPr>
        <p:blipFill>
          <a:blip r:embed="rId1"/>
          <a:stretch/>
        </p:blipFill>
        <p:spPr>
          <a:xfrm>
            <a:off x="2286000" y="142920"/>
            <a:ext cx="4778280" cy="6500880"/>
          </a:xfrm>
          <a:prstGeom prst="rect">
            <a:avLst/>
          </a:prstGeom>
          <a:ln w="0">
            <a:noFill/>
          </a:ln>
        </p:spPr>
      </p:pic>
      <p:pic>
        <p:nvPicPr>
          <p:cNvPr id="106" name="01 - The lonely shepherd(J. Last).mp3" descr=""/>
          <p:cNvPicPr/>
          <p:nvPr/>
        </p:nvPicPr>
        <p:blipFill>
          <a:blip r:embed="rId2"/>
          <a:stretch/>
        </p:blipFill>
        <p:spPr>
          <a:xfrm>
            <a:off x="2858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:\DSC01058.JPG"/>
          <p:cNvPicPr/>
          <p:nvPr/>
        </p:nvPicPr>
        <p:blipFill>
          <a:blip r:embed="rId1"/>
          <a:stretch/>
        </p:blipFill>
        <p:spPr>
          <a:xfrm>
            <a:off x="98280" y="7452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8" descr="P1250405"/>
          <p:cNvPicPr/>
          <p:nvPr/>
        </p:nvPicPr>
        <p:blipFill>
          <a:blip r:embed="rId1"/>
          <a:srcRect l="10083" t="4480" r="2515" b="0"/>
          <a:stretch/>
        </p:blipFill>
        <p:spPr>
          <a:xfrm rot="20208000">
            <a:off x="287280" y="3446640"/>
            <a:ext cx="2449440" cy="196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123\Desktop\Почта\день здоровья 2011\P1010037.JPG"/>
          <p:cNvPicPr/>
          <p:nvPr/>
        </p:nvPicPr>
        <p:blipFill>
          <a:blip r:embed="rId2"/>
          <a:srcRect l="10155" t="0" r="0" b="0"/>
          <a:stretch/>
        </p:blipFill>
        <p:spPr>
          <a:xfrm rot="19981200">
            <a:off x="333000" y="590400"/>
            <a:ext cx="2467080" cy="205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123\Desktop\Почта\день здоровья 2011\P1010013.JPG"/>
          <p:cNvPicPr/>
          <p:nvPr/>
        </p:nvPicPr>
        <p:blipFill>
          <a:blip r:embed="rId3"/>
          <a:srcRect l="14238" t="11461" r="0" b="0"/>
          <a:stretch/>
        </p:blipFill>
        <p:spPr>
          <a:xfrm rot="1363200">
            <a:off x="6149520" y="439560"/>
            <a:ext cx="26956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123\Desktop\Почта\день здоровья 2011\P1010017.JPG"/>
          <p:cNvPicPr/>
          <p:nvPr/>
        </p:nvPicPr>
        <p:blipFill>
          <a:blip r:embed="rId4"/>
          <a:stretch/>
        </p:blipFill>
        <p:spPr>
          <a:xfrm>
            <a:off x="2809800" y="2143080"/>
            <a:ext cx="3333960" cy="25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123\Desktop\Почта\день здоровья 2011\P1010005.JPG"/>
          <p:cNvPicPr/>
          <p:nvPr/>
        </p:nvPicPr>
        <p:blipFill>
          <a:blip r:embed="rId5"/>
          <a:srcRect l="0" t="19910" r="5926" b="0"/>
          <a:stretch/>
        </p:blipFill>
        <p:spPr>
          <a:xfrm rot="1089600">
            <a:off x="6313320" y="3439800"/>
            <a:ext cx="2633760" cy="16812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класс 029"/>
          <p:cNvPicPr/>
          <p:nvPr/>
        </p:nvPicPr>
        <p:blipFill>
          <a:blip r:embed="rId6"/>
          <a:srcRect l="14098" t="14348" r="1401" b="5162"/>
          <a:stretch/>
        </p:blipFill>
        <p:spPr>
          <a:xfrm>
            <a:off x="2857680" y="2214720"/>
            <a:ext cx="3301920" cy="22636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дети 005"/>
          <p:cNvPicPr/>
          <p:nvPr/>
        </p:nvPicPr>
        <p:blipFill>
          <a:blip r:embed="rId7"/>
          <a:srcRect l="4993" t="0" r="6915" b="4011"/>
          <a:stretch/>
        </p:blipFill>
        <p:spPr>
          <a:xfrm>
            <a:off x="2786040" y="2286000"/>
            <a:ext cx="3435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8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9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791800" y="64296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5 -964 – 990 В.А. Бобы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5 -965 – 263 Г.Е. Фомен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929120" y="1071720"/>
            <a:ext cx="3929040" cy="5186160"/>
          </a:xfrm>
          <a:prstGeom prst="rect">
            <a:avLst/>
          </a:prstGeom>
          <a:ln w="9360">
            <a:solidFill>
              <a:srgbClr val="003200"/>
            </a:solidFill>
            <a:miter/>
          </a:ln>
        </p:spPr>
      </p:pic>
      <p:sp>
        <p:nvSpPr>
          <p:cNvPr id="46" name="Вертикальный свиток 3"/>
          <p:cNvSpPr/>
          <p:nvPr/>
        </p:nvSpPr>
        <p:spPr>
          <a:xfrm>
            <a:off x="0" y="285840"/>
            <a:ext cx="5286240" cy="6143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«Атом- источник огромной энергии, в миллион раз превышающий все источники с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какие рисовались человеческому воображ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Сумеет ли человек воспользоваться этой сил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направить её на до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а не на самоуничтож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Академик В.И. Вернадский. 191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3786120" cy="5286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4214880" y="857160"/>
            <a:ext cx="4643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Беккерель 1896 г., изучая влияние разных люминесцентных веществ на фотопластину, в частности, солей урана, открыл неизвестное прежде излучение, присущее именно урановой соли, которое ничего общего не имеет с люминесцентным излучением. Это явление произвольного излучения солями урана лучей особой природы было названо радиоактивностью. Во время проведения опытов с чистым ураном он установил, что фотографические пластинки свидетельствуют о такой степени облучения, который в 3 — 4 раза превышает излучение соли урана. Это явление было названо «лучи Беккерел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071960" y="514368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1903 г. за открытие явления естественной радиоактивности урана Беккерелю была присужде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белевская прем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А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__49392"/>
          <p:cNvPicPr/>
          <p:nvPr/>
        </p:nvPicPr>
        <p:blipFill>
          <a:blip r:embed="rId2"/>
          <a:stretch/>
        </p:blipFill>
        <p:spPr>
          <a:xfrm>
            <a:off x="4357800" y="142920"/>
            <a:ext cx="4643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C:\Documents and Settings\Admin\Рабочий стол\ferri.jpg"/>
          <p:cNvPicPr/>
          <p:nvPr/>
        </p:nvPicPr>
        <p:blipFill>
          <a:blip r:embed="rId1"/>
          <a:stretch/>
        </p:blipFill>
        <p:spPr>
          <a:xfrm>
            <a:off x="2571840" y="1857240"/>
            <a:ext cx="3857400" cy="4357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071800" y="61448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Энрико Ферм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85840" y="285840"/>
            <a:ext cx="88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ядерный реактор был создан в 1942г. в С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ядерного реакто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__49408"/>
          <p:cNvPicPr/>
          <p:nvPr/>
        </p:nvPicPr>
        <p:blipFill>
          <a:blip r:embed="rId1"/>
          <a:stretch/>
        </p:blipFill>
        <p:spPr>
          <a:xfrm>
            <a:off x="1571760" y="1285920"/>
            <a:ext cx="6000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C:\Documents and Settings\Admin\Рабочий стол\Kurchatov.jpg"/>
          <p:cNvPicPr/>
          <p:nvPr/>
        </p:nvPicPr>
        <p:blipFill>
          <a:blip r:embed="rId1"/>
          <a:stretch/>
        </p:blipFill>
        <p:spPr>
          <a:xfrm>
            <a:off x="785880" y="500040"/>
            <a:ext cx="4357800" cy="5823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5357880" y="928800"/>
            <a:ext cx="2857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 европейский реак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создан в 1946г. под руководством Игоря Васильевича Курчат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C:\Documents and Settings\Admin\Рабочий стол\get_img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357200" y="428760"/>
            <a:ext cx="657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1954г. в г.Обнинске была введена в действие первая в мире атомная электростанция. Её мощность была невелика- всего 5 тыс. кВ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3:39:43Z</dcterms:created>
  <dc:creator>123</dc:creator>
  <dc:description/>
  <dc:language>en-US</dc:language>
  <cp:lastModifiedBy>User</cp:lastModifiedBy>
  <dcterms:modified xsi:type="dcterms:W3CDTF">2011-11-19T04:01:06Z</dcterms:modified>
  <cp:revision>95</cp:revision>
  <dc:subject/>
  <dc:title>«АТОМНАЯ ЭНЕРГИЯ: За и против»</dc:title>
</cp:coreProperties>
</file>