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9.gif" ContentType="image/gif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023-FC3A-4EA9-B8BB-738802A6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45E-D827-4450-8E5F-3614EAC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5B4-A703-4A52-8A99-D62EF919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7FF-1176-4168-ADA9-7FDD53BB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CD8-94E6-4870-98D7-1B635CE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032-8528-4C0E-A77B-955C2402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1C7-9DEB-48C1-94A9-77FCB46F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977-C463-4F72-8034-D1A8A59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4A0-9AFE-4E79-9CF5-9799BF6D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965-E327-4EEE-B355-B35CECA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CBB-7631-4859-9FC7-3D691EA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8C2-BDB0-4303-8BA5-D7524A7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D5C-B806-46E4-AD90-24A3A4CE1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ntro.mpg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262560" cy="46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6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Движение искусственного спутника Земли по геостационарной орбите"/>
          <p:cNvPicPr/>
          <p:nvPr/>
        </p:nvPicPr>
        <p:blipFill>
          <a:blip r:embed="rId1"/>
          <a:stretch/>
        </p:blipFill>
        <p:spPr>
          <a:xfrm>
            <a:off x="357120" y="150012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91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 «Лу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5143680" y="257184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ность – замкнутая линия. Все точки окружности одинаково удалены от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4"/>
          <p:cNvSpPr/>
          <p:nvPr/>
        </p:nvSpPr>
        <p:spPr>
          <a:xfrm>
            <a:off x="514800" y="11430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- длина окру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500040" y="164952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Диаметр в переводе с греческого означает «поперечник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Диаметр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– отрезок, соединяющий две точки окружности и проходящий через цент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означается диаметр символо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71680" y="32882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Радиу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– отрезок от центра до любой точки окружности. Обозначается радиус символо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1357200" y="4429080"/>
            <a:ext cx="2214720" cy="2214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>
            <a:off x="2463840" y="4430880"/>
            <a:ext cx="1440" cy="221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2428920" y="550080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428920" y="46432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2928960" y="5143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500720" y="43578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2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429240" y="433404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C/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4500720" y="4857840"/>
            <a:ext cx="15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6429240" y="4834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/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4500720" y="53578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2"/>
          <p:cNvSpPr/>
          <p:nvPr/>
        </p:nvSpPr>
        <p:spPr>
          <a:xfrm>
            <a:off x="6429240" y="53578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2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2286000" y="7776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3357720" y="607212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7"/>
          <p:cNvSpPr/>
          <p:nvPr/>
        </p:nvSpPr>
        <p:spPr>
          <a:xfrm flipH="1">
            <a:off x="2428560" y="5537160"/>
            <a:ext cx="1143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1285920" y="29196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 «Тысячная гон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1396800" y="1339920"/>
            <a:ext cx="56106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Лари Со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аздник в честь числа π – 14 марта (14.03);      π =3,1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428840" y="2428920"/>
            <a:ext cx="56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Архиме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Calibri"/>
              </a:rPr>
              <a:t>Днем приближенного числа π – 22 июля;     22/7=3,14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214200" y="407196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4 марта 2004 г. американец Даниэль Таммел назвал первые 22514 цифр числа 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нварь 2005 г. французский математик Фабрис Беллар вычислил  π с рекордной точностью: 2 триллиона 699 миллиардов 999 миллионов 990 тысяч десятичных зна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вгуст 2009 г.  Рекорд установлен японскими уче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2786040" y="3714840"/>
            <a:ext cx="307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</a:rPr>
              <a:t>Вычисления числа 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142920" y="1928880"/>
            <a:ext cx="892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числении длины окружности в Др. Вавилоне за π  часто принимали число 3. Предположим, что вавилонянин вычислил длину окружности, радиус которого 40м. На сколько его ответ отличается от ваш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143160" y="1143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071720" y="14940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 «Дейм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214200" y="278928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аметр нашей планеты равен 12,7тыс.км. Найдите длину вокруг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143160" y="1143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142920" y="192888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нимание! Посадка невозможна, спасайтес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1071720" y="29196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 «Фоб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4"/>
          <p:cNvSpPr/>
          <p:nvPr/>
        </p:nvSpPr>
        <p:spPr>
          <a:xfrm>
            <a:off x="1785960" y="4287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000080" y="16430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1000080" y="3786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357280"/>
          <a:ext cx="6095880" cy="1157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28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,2 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071720" y="4643280"/>
          <a:ext cx="6095880" cy="1157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,2 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 «Мар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вовращение.wmv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964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"/>
          <p:cNvGrpSpPr/>
          <p:nvPr/>
        </p:nvGrpSpPr>
        <p:grpSpPr>
          <a:xfrm>
            <a:off x="285840" y="1285920"/>
            <a:ext cx="2733480" cy="2732040"/>
            <a:chOff x="285840" y="1285920"/>
            <a:chExt cx="2733480" cy="2732040"/>
          </a:xfrm>
        </p:grpSpPr>
        <p:sp>
          <p:nvSpPr>
            <p:cNvPr id="170" name="Oval 4"/>
            <p:cNvSpPr/>
            <p:nvPr/>
          </p:nvSpPr>
          <p:spPr>
            <a:xfrm>
              <a:off x="285840" y="1285920"/>
              <a:ext cx="2733480" cy="2732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"/>
            <p:cNvSpPr/>
            <p:nvPr/>
          </p:nvSpPr>
          <p:spPr>
            <a:xfrm>
              <a:off x="1582560" y="2606400"/>
              <a:ext cx="240480" cy="288720"/>
            </a:xfrm>
            <a:prstGeom prst="pentagon">
              <a:avLst/>
            </a:prstGeom>
            <a:solidFill>
              <a:srgbClr val="5a5a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 rot="16200000">
              <a:off x="1536480" y="3010320"/>
              <a:ext cx="311400" cy="76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1173960" y="212580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"/>
            <p:cNvSpPr/>
            <p:nvPr/>
          </p:nvSpPr>
          <p:spPr>
            <a:xfrm>
              <a:off x="1954080" y="213336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5857920" y="1357200"/>
            <a:ext cx="2733480" cy="2732040"/>
            <a:chOff x="5857920" y="1357200"/>
            <a:chExt cx="2733480" cy="2732040"/>
          </a:xfrm>
        </p:grpSpPr>
        <p:sp>
          <p:nvSpPr>
            <p:cNvPr id="176" name="Oval 10"/>
            <p:cNvSpPr/>
            <p:nvPr/>
          </p:nvSpPr>
          <p:spPr>
            <a:xfrm>
              <a:off x="5857920" y="1357200"/>
              <a:ext cx="2733480" cy="2732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7154640" y="2677680"/>
              <a:ext cx="240480" cy="288720"/>
            </a:xfrm>
            <a:prstGeom prst="pentagon">
              <a:avLst/>
            </a:prstGeom>
            <a:solidFill>
              <a:srgbClr val="5a5a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2"/>
            <p:cNvSpPr/>
            <p:nvPr/>
          </p:nvSpPr>
          <p:spPr>
            <a:xfrm flipV="1" rot="5400000">
              <a:off x="7108560" y="3081240"/>
              <a:ext cx="311400" cy="76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6746400" y="219708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4"/>
            <p:cNvSpPr/>
            <p:nvPr/>
          </p:nvSpPr>
          <p:spPr>
            <a:xfrm>
              <a:off x="7526160" y="220464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3143160" y="3857760"/>
            <a:ext cx="2733840" cy="2732040"/>
            <a:chOff x="3143160" y="3857760"/>
            <a:chExt cx="2733840" cy="2732040"/>
          </a:xfrm>
        </p:grpSpPr>
        <p:sp>
          <p:nvSpPr>
            <p:cNvPr id="182" name="Oval 16"/>
            <p:cNvSpPr/>
            <p:nvPr/>
          </p:nvSpPr>
          <p:spPr>
            <a:xfrm>
              <a:off x="3143160" y="3857760"/>
              <a:ext cx="2733840" cy="2732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7"/>
            <p:cNvSpPr/>
            <p:nvPr/>
          </p:nvSpPr>
          <p:spPr>
            <a:xfrm>
              <a:off x="4439880" y="5178240"/>
              <a:ext cx="240480" cy="288720"/>
            </a:xfrm>
            <a:prstGeom prst="pentagon">
              <a:avLst/>
            </a:prstGeom>
            <a:solidFill>
              <a:srgbClr val="5a5a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8"/>
            <p:cNvSpPr/>
            <p:nvPr/>
          </p:nvSpPr>
          <p:spPr>
            <a:xfrm>
              <a:off x="4031280" y="469764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9"/>
            <p:cNvSpPr/>
            <p:nvPr/>
          </p:nvSpPr>
          <p:spPr>
            <a:xfrm>
              <a:off x="4811400" y="4705200"/>
              <a:ext cx="144000" cy="2404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20"/>
            <p:cNvSpPr/>
            <p:nvPr/>
          </p:nvSpPr>
          <p:spPr>
            <a:xfrm>
              <a:off x="4132800" y="5852160"/>
              <a:ext cx="829800" cy="9036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9"/>
          <p:cNvSpPr/>
          <p:nvPr/>
        </p:nvSpPr>
        <p:spPr>
          <a:xfrm>
            <a:off x="2214720" y="228600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2127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шествие в космо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857840" y="585792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 учитель математики МОУ Мешк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валева Т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Алексеевич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3640" y="1628280"/>
            <a:ext cx="36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Ю́рий Алексе́евич Гага́рин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одился 9 марта 1934, село Клушино Гжатского (ныне Гагаринского) района Смоленской области, умер 27 марта 1968, Владимирская область) — лётчик-космонавт СССР, Герой Советского Союза, полковник, первый человек, совершивший полёт в космическое простра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20px-Gagarin_space_suite"/>
          <p:cNvPicPr/>
          <p:nvPr/>
        </p:nvPicPr>
        <p:blipFill>
          <a:blip r:embed="rId1"/>
          <a:stretch/>
        </p:blipFill>
        <p:spPr>
          <a:xfrm>
            <a:off x="500040" y="1285920"/>
            <a:ext cx="3890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14"/>
          <p:cNvGrpSpPr/>
          <p:nvPr/>
        </p:nvGrpSpPr>
        <p:grpSpPr>
          <a:xfrm>
            <a:off x="1500120" y="1857240"/>
            <a:ext cx="6072120" cy="4782960"/>
            <a:chOff x="1500120" y="1857240"/>
            <a:chExt cx="6072120" cy="4782960"/>
          </a:xfrm>
        </p:grpSpPr>
        <p:sp>
          <p:nvSpPr>
            <p:cNvPr id="50" name="Овал 7"/>
            <p:cNvSpPr/>
            <p:nvPr/>
          </p:nvSpPr>
          <p:spPr>
            <a:xfrm>
              <a:off x="1500120" y="1857240"/>
              <a:ext cx="6072120" cy="37152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"/>
            <p:cNvSpPr/>
            <p:nvPr/>
          </p:nvSpPr>
          <p:spPr>
            <a:xfrm>
              <a:off x="3786120" y="59976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емл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Овал 9"/>
            <p:cNvSpPr/>
            <p:nvPr/>
          </p:nvSpPr>
          <p:spPr>
            <a:xfrm>
              <a:off x="4071960" y="5214960"/>
              <a:ext cx="857160" cy="78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Группа 15"/>
          <p:cNvGrpSpPr/>
          <p:nvPr/>
        </p:nvGrpSpPr>
        <p:grpSpPr>
          <a:xfrm>
            <a:off x="928800" y="4071960"/>
            <a:ext cx="1643040" cy="1428480"/>
            <a:chOff x="928800" y="4071960"/>
            <a:chExt cx="1643040" cy="1428480"/>
          </a:xfrm>
        </p:grpSpPr>
        <p:sp>
          <p:nvSpPr>
            <p:cNvPr id="54" name="Овал 10"/>
            <p:cNvSpPr/>
            <p:nvPr/>
          </p:nvSpPr>
          <p:spPr>
            <a:xfrm>
              <a:off x="1285920" y="4071960"/>
              <a:ext cx="857160" cy="78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5"/>
            <p:cNvSpPr/>
            <p:nvPr/>
          </p:nvSpPr>
          <p:spPr>
            <a:xfrm>
              <a:off x="928800" y="485784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у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16"/>
          <p:cNvGrpSpPr/>
          <p:nvPr/>
        </p:nvGrpSpPr>
        <p:grpSpPr>
          <a:xfrm>
            <a:off x="2000160" y="1785960"/>
            <a:ext cx="1785960" cy="1425240"/>
            <a:chOff x="2000160" y="1785960"/>
            <a:chExt cx="1785960" cy="1425240"/>
          </a:xfrm>
        </p:grpSpPr>
        <p:sp>
          <p:nvSpPr>
            <p:cNvPr id="57" name="Овал 11"/>
            <p:cNvSpPr/>
            <p:nvPr/>
          </p:nvSpPr>
          <p:spPr>
            <a:xfrm>
              <a:off x="2500200" y="1785960"/>
              <a:ext cx="857160" cy="78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6"/>
            <p:cNvSpPr/>
            <p:nvPr/>
          </p:nvSpPr>
          <p:spPr>
            <a:xfrm>
              <a:off x="2000160" y="2568600"/>
              <a:ext cx="178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ймо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17"/>
          <p:cNvGrpSpPr/>
          <p:nvPr/>
        </p:nvGrpSpPr>
        <p:grpSpPr>
          <a:xfrm>
            <a:off x="5429160" y="1857240"/>
            <a:ext cx="1643040" cy="1428480"/>
            <a:chOff x="5429160" y="1857240"/>
            <a:chExt cx="1643040" cy="1428480"/>
          </a:xfrm>
        </p:grpSpPr>
        <p:sp>
          <p:nvSpPr>
            <p:cNvPr id="60" name="Овал 12"/>
            <p:cNvSpPr/>
            <p:nvPr/>
          </p:nvSpPr>
          <p:spPr>
            <a:xfrm>
              <a:off x="5929200" y="1857240"/>
              <a:ext cx="857160" cy="78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5429160" y="264312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бо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18"/>
          <p:cNvGrpSpPr/>
          <p:nvPr/>
        </p:nvGrpSpPr>
        <p:grpSpPr>
          <a:xfrm>
            <a:off x="6572160" y="4214880"/>
            <a:ext cx="1643040" cy="1571040"/>
            <a:chOff x="6572160" y="4214880"/>
            <a:chExt cx="1643040" cy="1571040"/>
          </a:xfrm>
        </p:grpSpPr>
        <p:sp>
          <p:nvSpPr>
            <p:cNvPr id="63" name="Овал 13"/>
            <p:cNvSpPr/>
            <p:nvPr/>
          </p:nvSpPr>
          <p:spPr>
            <a:xfrm>
              <a:off x="6643440" y="4214880"/>
              <a:ext cx="857160" cy="78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8"/>
            <p:cNvSpPr/>
            <p:nvPr/>
          </p:nvSpPr>
          <p:spPr>
            <a:xfrm>
              <a:off x="6572160" y="514332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р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20"/>
          <p:cNvSpPr/>
          <p:nvPr/>
        </p:nvSpPr>
        <p:spPr>
          <a:xfrm>
            <a:off x="1357200" y="214200"/>
            <a:ext cx="692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а путеше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Копия ракеты Р-7 в Москве на ВДНХ"/>
          <p:cNvPicPr/>
          <p:nvPr/>
        </p:nvPicPr>
        <p:blipFill>
          <a:blip r:embed="rId1"/>
          <a:stretch/>
        </p:blipFill>
        <p:spPr>
          <a:xfrm>
            <a:off x="714240" y="1471680"/>
            <a:ext cx="3071880" cy="41004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4143240" y="2214720"/>
            <a:ext cx="4786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дет нас быстрая рак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олета на план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авляемся на Ма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зды, в гости ждите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8840" y="285840"/>
            <a:ext cx="664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кораб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4"/>
          <p:cNvSpPr/>
          <p:nvPr/>
        </p:nvSpPr>
        <p:spPr>
          <a:xfrm>
            <a:off x="857160" y="20001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сть приготовиться к пу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071720" y="328608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сть, пристегнуть рем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14240" y="4572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Есть, запустить двига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714680" y="85716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нимание! Внима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 приготовится к пу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42920" y="26305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стегнуть рем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42960" y="392904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пустить двигател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0" y="52149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летели на Ма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857160" y="20001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сть приготовиться к пу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1071720" y="328608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Есть, пристегнуть рем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14240" y="4572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Есть, запустить двигате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олёт.wmv" descr=""/>
          <p:cNvPicPr/>
          <p:nvPr/>
        </p:nvPicPr>
        <p:blipFill>
          <a:blip r:embed="rId1"/>
          <a:stretch/>
        </p:blipFill>
        <p:spPr>
          <a:xfrm>
            <a:off x="1357200" y="64296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36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500120" y="3571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АСШИФРУЙТЕ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0" y="1500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,10,19,13,16   17,10.   5,13,10,15,1   16 ,12,18,21,8,15,16,19,2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28760" y="22147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3735360"/>
          <a:ext cx="2643120" cy="2683080"/>
        </p:xfrm>
        <a:graphic>
          <a:graphicData uri="http://schemas.openxmlformats.org/drawingml/2006/table">
            <a:tbl>
              <a:tblPr/>
              <a:tblGrid>
                <a:gridCol w="857160"/>
                <a:gridCol w="785880"/>
                <a:gridCol w="1000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  .  -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  .  --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  --  .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  --  .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  --  --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 .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  --  --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  --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 --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Щ  --  --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  --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  .  --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Ъ  .  --  --  .  --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  .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  --  .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  .  .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 .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  --  .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  --  --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  .  .  --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  .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  .  .  --  --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Й  .  --  --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  .  .  --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  .  --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  --  .  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  .  .  . 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48"/>
          <p:cNvSpPr/>
          <p:nvPr/>
        </p:nvSpPr>
        <p:spPr>
          <a:xfrm>
            <a:off x="-357120" y="31719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збука Мор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14760" y="3792600"/>
          <a:ext cx="2786040" cy="2565360"/>
        </p:xfrm>
        <a:graphic>
          <a:graphicData uri="http://schemas.openxmlformats.org/drawingml/2006/table">
            <a:tbl>
              <a:tblPr/>
              <a:tblGrid>
                <a:gridCol w="357120"/>
                <a:gridCol w="357120"/>
                <a:gridCol w="428760"/>
                <a:gridCol w="428400"/>
                <a:gridCol w="428760"/>
                <a:gridCol w="428760"/>
                <a:gridCol w="357120"/>
              </a:tblGrid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Ё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Ж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Й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Ш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Щ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Ю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51"/>
          <p:cNvSpPr/>
          <p:nvPr/>
        </p:nvSpPr>
        <p:spPr>
          <a:xfrm>
            <a:off x="3000240" y="314316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лфа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546880" y="4071960"/>
          <a:ext cx="3571560" cy="1857240"/>
        </p:xfrm>
        <a:graphic>
          <a:graphicData uri="http://schemas.openxmlformats.org/drawingml/2006/table">
            <a:tbl>
              <a:tblPr/>
              <a:tblGrid>
                <a:gridCol w="720720"/>
                <a:gridCol w="707760"/>
                <a:gridCol w="714600"/>
                <a:gridCol w="714240"/>
                <a:gridCol w="714240"/>
              </a:tblGrid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0" name="Group 170"/>
          <p:cNvGrpSpPr/>
          <p:nvPr/>
        </p:nvGrpSpPr>
        <p:grpSpPr>
          <a:xfrm>
            <a:off x="5857920" y="4143240"/>
            <a:ext cx="3285720" cy="1714320"/>
            <a:chOff x="5857920" y="4143240"/>
            <a:chExt cx="3285720" cy="1714320"/>
          </a:xfrm>
        </p:grpSpPr>
        <p:pic>
          <p:nvPicPr>
            <p:cNvPr id="91" name="Picture 129" descr=""/>
            <p:cNvPicPr/>
            <p:nvPr/>
          </p:nvPicPr>
          <p:blipFill>
            <a:blip r:embed="rId1"/>
            <a:stretch/>
          </p:blipFill>
          <p:spPr>
            <a:xfrm>
              <a:off x="5857920" y="439992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30" descr=""/>
            <p:cNvPicPr/>
            <p:nvPr/>
          </p:nvPicPr>
          <p:blipFill>
            <a:blip r:embed="rId2"/>
            <a:stretch/>
          </p:blipFill>
          <p:spPr>
            <a:xfrm>
              <a:off x="5857920" y="574020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31" descr=""/>
            <p:cNvPicPr/>
            <p:nvPr/>
          </p:nvPicPr>
          <p:blipFill>
            <a:blip r:embed="rId3"/>
            <a:stretch/>
          </p:blipFill>
          <p:spPr>
            <a:xfrm>
              <a:off x="8045280" y="4656600"/>
              <a:ext cx="3729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38" descr=""/>
            <p:cNvPicPr/>
            <p:nvPr/>
          </p:nvPicPr>
          <p:blipFill>
            <a:blip r:embed="rId4"/>
            <a:stretch/>
          </p:blipFill>
          <p:spPr>
            <a:xfrm>
              <a:off x="6573600" y="439992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9" descr=""/>
            <p:cNvPicPr/>
            <p:nvPr/>
          </p:nvPicPr>
          <p:blipFill>
            <a:blip r:embed="rId5"/>
            <a:stretch/>
          </p:blipFill>
          <p:spPr>
            <a:xfrm>
              <a:off x="5857920" y="4143240"/>
              <a:ext cx="38268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40" descr=""/>
            <p:cNvPicPr/>
            <p:nvPr/>
          </p:nvPicPr>
          <p:blipFill>
            <a:blip r:embed="rId6"/>
            <a:stretch/>
          </p:blipFill>
          <p:spPr>
            <a:xfrm>
              <a:off x="5897520" y="4656600"/>
              <a:ext cx="34308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41" descr=""/>
            <p:cNvPicPr/>
            <p:nvPr/>
          </p:nvPicPr>
          <p:blipFill>
            <a:blip r:embed="rId7"/>
            <a:stretch/>
          </p:blipFill>
          <p:spPr>
            <a:xfrm>
              <a:off x="5897520" y="4941720"/>
              <a:ext cx="34776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42" descr=""/>
            <p:cNvPicPr/>
            <p:nvPr/>
          </p:nvPicPr>
          <p:blipFill>
            <a:blip r:embed="rId8"/>
            <a:stretch/>
          </p:blipFill>
          <p:spPr>
            <a:xfrm>
              <a:off x="6573600" y="4143240"/>
              <a:ext cx="34272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43" descr=""/>
            <p:cNvPicPr/>
            <p:nvPr/>
          </p:nvPicPr>
          <p:blipFill>
            <a:blip r:embed="rId9"/>
            <a:stretch/>
          </p:blipFill>
          <p:spPr>
            <a:xfrm>
              <a:off x="6573600" y="465660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44" descr=""/>
            <p:cNvPicPr/>
            <p:nvPr/>
          </p:nvPicPr>
          <p:blipFill>
            <a:blip r:embed="rId10"/>
            <a:stretch/>
          </p:blipFill>
          <p:spPr>
            <a:xfrm>
              <a:off x="6573600" y="4941720"/>
              <a:ext cx="38736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5" descr=""/>
            <p:cNvPicPr/>
            <p:nvPr/>
          </p:nvPicPr>
          <p:blipFill>
            <a:blip r:embed="rId11"/>
            <a:stretch/>
          </p:blipFill>
          <p:spPr>
            <a:xfrm>
              <a:off x="6573600" y="5198400"/>
              <a:ext cx="38736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46" descr=""/>
            <p:cNvPicPr/>
            <p:nvPr/>
          </p:nvPicPr>
          <p:blipFill>
            <a:blip r:embed="rId12"/>
            <a:stretch/>
          </p:blipFill>
          <p:spPr>
            <a:xfrm>
              <a:off x="6573600" y="548352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47" descr=""/>
            <p:cNvPicPr/>
            <p:nvPr/>
          </p:nvPicPr>
          <p:blipFill>
            <a:blip r:embed="rId13"/>
            <a:stretch/>
          </p:blipFill>
          <p:spPr>
            <a:xfrm>
              <a:off x="6573600" y="574020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48" descr=""/>
            <p:cNvPicPr/>
            <p:nvPr/>
          </p:nvPicPr>
          <p:blipFill>
            <a:blip r:embed="rId14"/>
            <a:stretch/>
          </p:blipFill>
          <p:spPr>
            <a:xfrm>
              <a:off x="7289640" y="4941720"/>
              <a:ext cx="38736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49" descr=""/>
            <p:cNvPicPr/>
            <p:nvPr/>
          </p:nvPicPr>
          <p:blipFill>
            <a:blip r:embed="rId15"/>
            <a:stretch/>
          </p:blipFill>
          <p:spPr>
            <a:xfrm>
              <a:off x="7289640" y="4143240"/>
              <a:ext cx="38736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50" descr=""/>
            <p:cNvPicPr/>
            <p:nvPr/>
          </p:nvPicPr>
          <p:blipFill>
            <a:blip r:embed="rId16"/>
            <a:stretch/>
          </p:blipFill>
          <p:spPr>
            <a:xfrm>
              <a:off x="7289640" y="5198400"/>
              <a:ext cx="38736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51" descr=""/>
            <p:cNvPicPr/>
            <p:nvPr/>
          </p:nvPicPr>
          <p:blipFill>
            <a:blip r:embed="rId17"/>
            <a:stretch/>
          </p:blipFill>
          <p:spPr>
            <a:xfrm>
              <a:off x="7289640" y="548352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52" descr=""/>
            <p:cNvPicPr/>
            <p:nvPr/>
          </p:nvPicPr>
          <p:blipFill>
            <a:blip r:embed="rId18"/>
            <a:stretch/>
          </p:blipFill>
          <p:spPr>
            <a:xfrm>
              <a:off x="8005320" y="4399920"/>
              <a:ext cx="38736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53" descr=""/>
            <p:cNvPicPr/>
            <p:nvPr/>
          </p:nvPicPr>
          <p:blipFill>
            <a:blip r:embed="rId19"/>
            <a:stretch/>
          </p:blipFill>
          <p:spPr>
            <a:xfrm>
              <a:off x="7329240" y="4399920"/>
              <a:ext cx="34776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54" descr=""/>
            <p:cNvPicPr/>
            <p:nvPr/>
          </p:nvPicPr>
          <p:blipFill>
            <a:blip r:embed="rId20"/>
            <a:stretch/>
          </p:blipFill>
          <p:spPr>
            <a:xfrm>
              <a:off x="7289640" y="4656600"/>
              <a:ext cx="38268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56" descr=""/>
            <p:cNvPicPr/>
            <p:nvPr/>
          </p:nvPicPr>
          <p:blipFill>
            <a:blip r:embed="rId21"/>
            <a:stretch/>
          </p:blipFill>
          <p:spPr>
            <a:xfrm>
              <a:off x="8005320" y="4143240"/>
              <a:ext cx="38268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57" descr=""/>
            <p:cNvPicPr/>
            <p:nvPr/>
          </p:nvPicPr>
          <p:blipFill>
            <a:blip r:embed="rId22"/>
            <a:stretch/>
          </p:blipFill>
          <p:spPr>
            <a:xfrm>
              <a:off x="8045280" y="4941720"/>
              <a:ext cx="34308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58" descr=""/>
            <p:cNvPicPr/>
            <p:nvPr/>
          </p:nvPicPr>
          <p:blipFill>
            <a:blip r:embed="rId23"/>
            <a:stretch/>
          </p:blipFill>
          <p:spPr>
            <a:xfrm>
              <a:off x="5897520" y="5483520"/>
              <a:ext cx="34308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59" descr=""/>
            <p:cNvPicPr/>
            <p:nvPr/>
          </p:nvPicPr>
          <p:blipFill>
            <a:blip r:embed="rId24"/>
            <a:stretch/>
          </p:blipFill>
          <p:spPr>
            <a:xfrm>
              <a:off x="5857920" y="5198400"/>
              <a:ext cx="382680" cy="1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60" descr=""/>
            <p:cNvPicPr/>
            <p:nvPr/>
          </p:nvPicPr>
          <p:blipFill>
            <a:blip r:embed="rId25"/>
            <a:stretch/>
          </p:blipFill>
          <p:spPr>
            <a:xfrm>
              <a:off x="8045280" y="5198400"/>
              <a:ext cx="34308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61" descr=""/>
            <p:cNvPicPr/>
            <p:nvPr/>
          </p:nvPicPr>
          <p:blipFill>
            <a:blip r:embed="rId26"/>
            <a:stretch/>
          </p:blipFill>
          <p:spPr>
            <a:xfrm>
              <a:off x="8760960" y="4143240"/>
              <a:ext cx="34776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62" descr=""/>
            <p:cNvPicPr/>
            <p:nvPr/>
          </p:nvPicPr>
          <p:blipFill>
            <a:blip r:embed="rId27"/>
            <a:stretch/>
          </p:blipFill>
          <p:spPr>
            <a:xfrm>
              <a:off x="7289640" y="5740200"/>
              <a:ext cx="34272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3" descr=""/>
            <p:cNvPicPr/>
            <p:nvPr/>
          </p:nvPicPr>
          <p:blipFill>
            <a:blip r:embed="rId28"/>
            <a:stretch/>
          </p:blipFill>
          <p:spPr>
            <a:xfrm>
              <a:off x="8045280" y="5483520"/>
              <a:ext cx="34308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64" descr=""/>
            <p:cNvPicPr/>
            <p:nvPr/>
          </p:nvPicPr>
          <p:blipFill>
            <a:blip r:embed="rId29"/>
            <a:stretch/>
          </p:blipFill>
          <p:spPr>
            <a:xfrm>
              <a:off x="8760960" y="4685040"/>
              <a:ext cx="34776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65" descr=""/>
            <p:cNvPicPr/>
            <p:nvPr/>
          </p:nvPicPr>
          <p:blipFill>
            <a:blip r:embed="rId30"/>
            <a:stretch/>
          </p:blipFill>
          <p:spPr>
            <a:xfrm>
              <a:off x="8760960" y="4399920"/>
              <a:ext cx="34308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66" descr=""/>
            <p:cNvPicPr/>
            <p:nvPr/>
          </p:nvPicPr>
          <p:blipFill>
            <a:blip r:embed="rId31"/>
            <a:stretch/>
          </p:blipFill>
          <p:spPr>
            <a:xfrm>
              <a:off x="8760960" y="4941720"/>
              <a:ext cx="35280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67" descr=""/>
            <p:cNvPicPr/>
            <p:nvPr/>
          </p:nvPicPr>
          <p:blipFill>
            <a:blip r:embed="rId32"/>
            <a:stretch/>
          </p:blipFill>
          <p:spPr>
            <a:xfrm>
              <a:off x="8760960" y="5483520"/>
              <a:ext cx="34776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68" descr=""/>
            <p:cNvPicPr/>
            <p:nvPr/>
          </p:nvPicPr>
          <p:blipFill>
            <a:blip r:embed="rId33"/>
            <a:stretch/>
          </p:blipFill>
          <p:spPr>
            <a:xfrm>
              <a:off x="8760960" y="5198400"/>
              <a:ext cx="382680" cy="11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Box 88"/>
          <p:cNvSpPr/>
          <p:nvPr/>
        </p:nvSpPr>
        <p:spPr>
          <a:xfrm>
            <a:off x="6072120" y="314316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лажковая аз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00080" y="2786040"/>
          <a:ext cx="7215120" cy="3857760"/>
        </p:xfrm>
        <a:graphic>
          <a:graphicData uri="http://schemas.openxmlformats.org/drawingml/2006/table">
            <a:tbl>
              <a:tblPr/>
              <a:tblGrid>
                <a:gridCol w="925560"/>
                <a:gridCol w="923760"/>
                <a:gridCol w="1111320"/>
                <a:gridCol w="1109880"/>
                <a:gridCol w="1109520"/>
                <a:gridCol w="1109520"/>
                <a:gridCol w="92556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Ё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Ж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Й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Ш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Щ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Э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Ю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0" y="15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,10,19,13,16   17,10.   5,13,10,15,1   16 ,12,18,21,8,15,16,19,2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0" y="25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о Пи.  Длина окруж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429000" y="3357720"/>
            <a:ext cx="207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30:42Z</dcterms:created>
  <dc:creator>123</dc:creator>
  <dc:description/>
  <dc:language>en-US</dc:language>
  <cp:lastModifiedBy>Admin</cp:lastModifiedBy>
  <dcterms:modified xsi:type="dcterms:W3CDTF">2011-11-04T10:10:33Z</dcterms:modified>
  <cp:revision>20</cp:revision>
  <dc:subject/>
  <dc:title>Слайд 1</dc:title>
</cp:coreProperties>
</file>