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539-E697-4E8B-AE13-0610C49C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64E-896A-48B8-B0FB-91BC64D1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D3B-5AB6-4248-BDF4-FED3EE48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D7E-13ED-4FE3-93C0-62FABE9F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9A02-FF32-4A12-828E-5767D798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167F-3595-4E3F-9C49-DC714CCD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33D3-1EE5-45C1-9E50-136A5436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01EB-7067-4E32-9978-234A067D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0F6D-D12A-4C61-9372-527ADB42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B640-D85D-4BB7-BD34-63F37856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FD04-F56D-4532-98D9-11F8C29E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E52-4FCA-48D8-A98B-495869BA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A7E4-EF30-4696-8D01-8E3CDFF4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EBD0-F310-417E-8290-066DB02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4211-247E-4AB0-95BA-BC3F4F58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04A7-FDA6-4213-BDBD-873012B8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F111-DD88-4876-864F-484859FC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6D1-723F-4F1C-A2F9-503BC41B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CDF-7374-4F09-88BB-5118B85A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8FB-F395-4339-A715-1CDDD8DB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489-DA1E-48E9-87E9-58BA92D4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E83-52E7-4D50-9B56-6BB3E5C1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B30-330A-41BC-8DCE-65FD6E54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070-5DC9-4CD8-A209-15DD572E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7C0-D0AD-4F60-80BF-B22C6B7FB96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B57D-EE30-4277-89F0-7AA927322C3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звестные люди - библиотекар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офессия стара как мир и врем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т первых свитков до больших том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ы любите и бережете верн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ылинки времени и заповедь век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еликий баснописец, драматург, журналист, издатель – в течении 29 лет работал в Публичной библиотеке Петербурга (с 1812 по 1841 год)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Благодаря его усилиям был создан фонд русских и славянских книг, составлен систематический каталог этого фонда. Впервые в истории библиотечного дела Крылов применил систему шифровки книг с одновременным проставлением шифров в каталоге, предвосхитив на 40 лет осуществление этого метода в масштабах всей Публичной бибилиоте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032360" y="1598760"/>
            <a:ext cx="3617640" cy="4497120"/>
            <a:chOff x="4032360" y="1598760"/>
            <a:chExt cx="3617640" cy="449712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4032360" y="1598760"/>
              <a:ext cx="3617640" cy="44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 txBox="1"/>
            <p:nvPr/>
          </p:nvSpPr>
          <p:spPr>
            <a:xfrm>
              <a:off x="4032360" y="1598760"/>
              <a:ext cx="3617640" cy="449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лександр Иванович Герце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инял должность помощника библиотекаря в Вятке в 1837 год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Герцен утверждал, что «публичная библиотека – это открытый стол идей, за который приглашен каждый, за которым каждый найдет ту пищу, которую он ищет…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032360" y="1598760"/>
            <a:ext cx="3617640" cy="4497120"/>
            <a:chOff x="4032360" y="1598760"/>
            <a:chExt cx="3617640" cy="4497120"/>
          </a:xfrm>
        </p:grpSpPr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4032360" y="1598760"/>
              <a:ext cx="3617640" cy="44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 txBox="1"/>
            <p:nvPr/>
          </p:nvSpPr>
          <p:spPr>
            <a:xfrm>
              <a:off x="4032360" y="1598760"/>
              <a:ext cx="3617640" cy="449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иколай Иванович Лобачевски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 течении 12 лет библиотекарем Казанского университета работал великий русский математик, профессор Николай Иванович Лобачевский. Он организовал комплектование библиотеки новейшей литературой, ввел строгие правила, обеспечивающие сохранность книг; занимался каталогизацией и классификацией; расширил круг лиц, пользующихся библиотек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032360" y="1598760"/>
            <a:ext cx="3617640" cy="4497120"/>
            <a:chOff x="4032360" y="1598760"/>
            <a:chExt cx="3617640" cy="4497120"/>
          </a:xfrm>
        </p:grpSpPr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4032360" y="1598760"/>
              <a:ext cx="3617640" cy="44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 txBox="1"/>
            <p:nvPr/>
          </p:nvSpPr>
          <p:spPr>
            <a:xfrm>
              <a:off x="4032360" y="1598760"/>
              <a:ext cx="3617640" cy="449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5:06Z</dcterms:created>
  <dc:creator>юзер11</dc:creator>
  <dc:description/>
  <dc:language>en-US</dc:language>
  <cp:lastModifiedBy>надежда</cp:lastModifiedBy>
  <dcterms:modified xsi:type="dcterms:W3CDTF">2011-06-19T14:36:43Z</dcterms:modified>
  <cp:revision>5</cp:revision>
  <dc:subject/>
  <dc:title>Известные люди - библиотекари</dc:title>
</cp:coreProperties>
</file>