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C112-1820-4D83-BF81-E5F1E9F6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76F-569B-40FD-AEAC-86AAAE7C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055-0DF6-4D35-A5AF-FFA51963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CC9-221A-4565-8948-569271C1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AA20-B2EF-40A5-A441-DE60A10C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2291-3460-4A4A-B5C9-A275D6EA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33FF-F586-4FBC-BF85-3D486D23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90FC-B72D-4DE8-8A25-0EA55B0F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6A6F-1313-4AE5-8A3A-11088562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5613-D6F7-4EAB-B434-9C4A87FD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560D-3BC9-4BF5-ABB2-48CC4706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E3C9-EA9C-4397-9713-E0E1B4D5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04F4-EFC9-4208-916A-BD6866DF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E160-ED5A-474F-984F-078D81B7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3F73-9010-4313-87B3-EF11637E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F46C-B022-4174-A35F-39FB9DBA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2BD7-1B09-47D2-A526-DCEE3A13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E42A-E1B0-4CB0-8975-9DA16F5F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CE7-297F-405B-B412-80565A98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7C3-8FF0-4107-9CC5-533E063F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20E2-36E7-449D-BF94-2F3A75AD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49D-08C4-458A-8AF6-CFCE7FCF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08A-49D1-4329-BA29-7F587C37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1DD-39CC-4DCA-BD9D-C9A1B591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E1AA-F622-4381-A470-B69D49E911F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5153-AD45-4EA1-B5FC-53C7F248A3D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звестные люди - библиотекар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рофессия стара как мир и врем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т первых свитков до больших том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ы любите и бережете верн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ылинки времени и заповедь веко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ван Андреевич Крыл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Великий баснописец, драматург, журналист, издатель – в течении 29 лет работал в Публичной библиотеке Петербурга (с 1812 по 1841 год)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Благодаря его усилиям был создан фонд русских и славянских книг, составлен систематический каталог этого фонда. Впервые в истории библиотечного дела Крылов применил систему шифровки книг с одновременным проставлением шифров в каталоге, предвосхитив на 40 лет осуществление этого метода в масштабах всей Публичной бибилиотек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032360" y="1598760"/>
            <a:ext cx="3617640" cy="4497120"/>
            <a:chOff x="4032360" y="1598760"/>
            <a:chExt cx="3617640" cy="4497120"/>
          </a:xfrm>
        </p:grpSpPr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4032360" y="1598760"/>
              <a:ext cx="3617640" cy="44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 txBox="1"/>
            <p:nvPr/>
          </p:nvSpPr>
          <p:spPr>
            <a:xfrm>
              <a:off x="4032360" y="1598760"/>
              <a:ext cx="3617640" cy="449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Александр Иванович Герце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ринял должность помощника библиотекаря в Вятке в 1837 год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Герцен утверждал, что «публичная библиотека – это открытый стол идей, за который приглашен каждый, за которым каждый найдет ту пищу, которую он ищет…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032360" y="1598760"/>
            <a:ext cx="3617640" cy="4497120"/>
            <a:chOff x="4032360" y="1598760"/>
            <a:chExt cx="3617640" cy="4497120"/>
          </a:xfrm>
        </p:grpSpPr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>
              <a:off x="4032360" y="1598760"/>
              <a:ext cx="3617640" cy="44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 txBox="1"/>
            <p:nvPr/>
          </p:nvSpPr>
          <p:spPr>
            <a:xfrm>
              <a:off x="4032360" y="1598760"/>
              <a:ext cx="3617640" cy="449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Николай Иванович Лобачевский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В течении 12 лет библиотекарем Казанского университета работал великий русский математик, профессор Николай Иванович Лобачевский. Он организовал комплектование библиотеки новейшей литературой, ввел строгие правила, обеспечивающие сохранность книг; занимался каталогизацией и классификацией; расширил круг лиц, пользующихся библиотеко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032360" y="1598760"/>
            <a:ext cx="3617640" cy="4497120"/>
            <a:chOff x="4032360" y="1598760"/>
            <a:chExt cx="3617640" cy="4497120"/>
          </a:xfrm>
        </p:grpSpPr>
        <p:pic>
          <p:nvPicPr>
            <p:cNvPr id="207" name="" descr=""/>
            <p:cNvPicPr/>
            <p:nvPr/>
          </p:nvPicPr>
          <p:blipFill>
            <a:blip r:embed="rId2"/>
            <a:stretch/>
          </p:blipFill>
          <p:spPr>
            <a:xfrm>
              <a:off x="4032360" y="1598760"/>
              <a:ext cx="3617640" cy="44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 txBox="1"/>
            <p:nvPr/>
          </p:nvSpPr>
          <p:spPr>
            <a:xfrm>
              <a:off x="4032360" y="1598760"/>
              <a:ext cx="3617640" cy="449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5:35:06Z</dcterms:created>
  <dc:creator>юзер11</dc:creator>
  <dc:description/>
  <dc:language>en-US</dc:language>
  <cp:lastModifiedBy>надежда</cp:lastModifiedBy>
  <dcterms:modified xsi:type="dcterms:W3CDTF">2011-06-19T14:36:43Z</dcterms:modified>
  <cp:revision>5</cp:revision>
  <dc:subject/>
  <dc:title>Известные люди - библиотекари</dc:title>
</cp:coreProperties>
</file>