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21.jpeg" ContentType="image/jpeg"/>
  <Override PartName="/ppt/media/image3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49.jpeg" ContentType="image/jpeg"/>
  <Override PartName="/ppt/media/image1.wmf" ContentType="image/x-wmf"/>
  <Override PartName="/ppt/media/image23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5.png" ContentType="image/png"/>
  <Override PartName="/ppt/media/image43.jpeg" ContentType="image/jpeg"/>
  <Override PartName="/ppt/media/image27.jpeg" ContentType="image/jpeg"/>
  <Override PartName="/ppt/media/image6.jpeg" ContentType="image/jpeg"/>
  <Override PartName="/ppt/media/image2.png" ContentType="image/png"/>
  <Override PartName="/ppt/media/image35.wmf" ContentType="image/x-wmf"/>
  <Override PartName="/ppt/media/image30.jpeg" ContentType="image/jpeg"/>
  <Override PartName="/ppt/media/image37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12.wmf" ContentType="image/x-wmf"/>
  <Override PartName="/ppt/media/image4.png" ContentType="image/png"/>
  <Override PartName="/ppt/media/image40.png" ContentType="image/png"/>
  <Override PartName="/ppt/media/image36.wmf" ContentType="image/x-wmf"/>
  <Override PartName="/ppt/media/image44.jpeg" ContentType="image/jpeg"/>
  <Override PartName="/ppt/media/image45.jpeg" ContentType="image/jpeg"/>
  <Override PartName="/ppt/media/image48.jpeg" ContentType="image/jpeg"/>
  <Override PartName="/ppt/media/image50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46.gif" ContentType="image/gif"/>
  <Override PartName="/ppt/media/image22.jpeg" ContentType="image/jpeg"/>
  <Override PartName="/ppt/media/image38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43C-996E-4674-8FED-3E1E128A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835-2309-4291-8101-449C7513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53A-7A50-415D-B0C5-180E81F1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3EF-991E-4C57-B6E7-714600A7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7BFB-F3DE-4E4C-BA74-B3CEFEED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610-C459-47EA-BEBF-EB8C41E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4622-A76C-4F50-A544-945C4B33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EE96-4E47-42DA-829F-653DADEF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4EB6-6B39-4AC8-99C5-75963266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8D42-0E3A-4064-B776-7CFB9CA4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D638-F529-4F2A-9D03-CC3C125C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41D-8FA3-473A-B38D-FC0DA386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8281-6E35-4A9F-AFF0-ABB9AE9C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465F-92A5-40F3-8F6B-E5BD9B29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0207-ECF9-4A5A-8631-9802061E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8BAC-0A42-4219-B4C6-8BD2EBBF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E8E8-06E7-4652-A202-D2C1942F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9396B-99B2-4B2E-A30E-A69F1200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0A6DA-05DD-411F-9880-96B28914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37B8C-336D-42F2-B2E2-5EE1057E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27A5C-4945-4533-8C3A-FAA59A40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75DC9-BC57-443E-9313-E8168B18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0DB-C35A-4AB3-82BA-C771D899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C3D70-A886-4FC8-AC51-3AFBAA1A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B509E-55A8-4469-BF4B-286E877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D495D-8C8B-4E96-BBB1-9F3E0BA1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52F62-64B5-474F-9594-EE55CC14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C8F63-795E-4CF2-8E30-F203E1D4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0F09C-F8DA-457E-AD1E-8D5EF12C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5EFF9-9D89-4CD8-A5A3-5E9C822C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E40D-E447-4F55-9F1E-110873B6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D9516-5D14-4CA2-B7E6-FCC13092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3C31-6FB9-48CE-A96C-DDEDB81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F34-6A2D-491A-B0B1-3A059B4C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BA85-1B81-459E-9B2D-5B122775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396B2-E83D-4A4C-AD2F-7D92D26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E02D-DFBF-4882-94D9-712705E3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4417-55FB-49CB-949D-D33D041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60D3C-284F-465C-B261-04B95C3B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0883-E365-49FF-8493-141CF5F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8BBA-93BB-4CB8-913F-072D207D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D682-196A-4B68-99E3-119DD8B6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A683-E7EB-4F75-B1C9-9874049D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D1F0-5C3B-4648-8284-148FAC46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47C-4062-4EE0-AE96-F3183C7D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C397-CCDC-4433-B7D1-E43FC69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FCC30-810C-4FDC-A07D-DFCDF46B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C69C6-BDC5-4B3A-A38E-9C346DE7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CD08A-FA67-4DF2-9919-3CCEC5E1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72426-A866-4EE9-AC6E-C435D811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850F9-B937-4491-B33A-F40488A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3A5A-5806-40A6-B2F5-66797464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4D00E-4382-4363-9428-AB5FCD5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147D-FEC4-49D8-BFC1-C9832133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3738-0C73-4C3C-8250-882F9CA9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077-861D-4812-B193-3E5364CD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0977F-1992-4F77-B965-00086F43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3F33-4E80-4B8F-9A89-E2D2ABB6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8596-80B3-4686-ABED-4D9D8230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92D3E-3CA4-4346-A027-CEF2F54D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403B6-D352-4130-B75D-6C9096B3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0E6DC-2CD4-436C-A69F-0F649496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0EFB0-B2D4-4F75-A247-0CC842C6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21380-EF77-442C-B074-7766BF4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714C-408B-4193-833A-C133EA1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C2C04-AE37-48E7-8A3E-DE696B8E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D65-58CE-44FC-B7CA-924D87D1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12520-1140-4730-8322-B6AB8E8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72947-1281-413D-A9D4-FD81802E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D9B33-454D-4FB1-8FEE-F35FF75E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E49-3423-418E-954C-E405FDC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BC0-5294-4745-8D88-01A52533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CEA1-FBCA-4E9A-8C50-0D3354456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E52B-0A73-41F1-A629-EB63E19772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3168-37E1-4D05-8444-694F9477AD13}" type="slidenum"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9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13D6-8671-40A4-8920-A2163FE7D618}" type="slidenum"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5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307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3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4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5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A0E0-D410-4342-8E9A-E95A00D674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369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391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393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405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PlaceHolder 2"/>
          <p:cNvSpPr>
            <a:spLocks noGrp="1"/>
          </p:cNvSpPr>
          <p:nvPr>
            <p:ph type="dt" idx="16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7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8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C603-5432-455E-B9D1-7F6986A3D1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042920" y="4220640"/>
            <a:ext cx="640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пыта работы метод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бинета МОУ СОШ №1 г. Шиманов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ститель дире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етодической работе  Ячменёва Т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 rot="21441600">
            <a:off x="539640" y="2276280"/>
            <a:ext cx="7777440" cy="12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ивные форм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ы с педагог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9243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003640" y="3213000"/>
            <a:ext cx="1440000" cy="201780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84360" y="1773360"/>
            <a:ext cx="2808360" cy="1942920"/>
          </a:xfrm>
          <a:prstGeom prst="ellipse">
            <a:avLst/>
          </a:prstGeom>
          <a:solidFill>
            <a:srgbClr val="effff7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Georgia"/>
              </a:rPr>
              <a:t>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Georgia"/>
              </a:rPr>
              <a:t>интерактив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Georgia"/>
              </a:rPr>
              <a:t>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8360" y="476280"/>
            <a:ext cx="1511280" cy="10080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Твор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12000" y="2565360"/>
            <a:ext cx="1871640" cy="208908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обще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(при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специали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экскурсии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59280" y="333360"/>
            <a:ext cx="1873080" cy="10080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малых 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24360" y="476280"/>
            <a:ext cx="2232360" cy="187164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Обучающие иг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☺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ол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☺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Ими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☺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Дел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☺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Образова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4221000"/>
            <a:ext cx="2447640" cy="208944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азрешение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Дерево решений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Мозговой штурм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Анализ казус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9280" y="3789360"/>
            <a:ext cx="2880000" cy="259236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Обсуждение слож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процессов и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Смени позицию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Один - вдво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все вместе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Дискуссия в сти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телевизионного ток-шо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280" y="1989000"/>
            <a:ext cx="1584360" cy="100836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Соци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56360" y="5229360"/>
            <a:ext cx="1584360" cy="10080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азм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851280" y="1341360"/>
            <a:ext cx="0" cy="43200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003640" y="1628280"/>
            <a:ext cx="720720" cy="50508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2050920" y="907920"/>
            <a:ext cx="1224000" cy="9367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979640" y="2565360"/>
            <a:ext cx="504720" cy="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92000" y="3213000"/>
            <a:ext cx="934920" cy="50328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11640" y="3645000"/>
            <a:ext cx="0" cy="50472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92720" y="2852640"/>
            <a:ext cx="719280" cy="50508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f3b19"/>
                </a:solidFill>
                <a:latin typeface="Georgia"/>
              </a:rPr>
              <a:t>Типы уроков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7386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Бинарный урок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часто называют интегрированным..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Бит-урок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включает три элемента: беседа, игра, твор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Урок – аукцион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«Мозговая атака»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имеет сходство с «аукционо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Урок типа «Что? Где? Когда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 Урок – деловую игру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удобнее проводить при повторении и обобщении 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Урок – экскурсия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чное или заочное путеше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Уроки типа КВН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Урок «за круглым столом».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В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ыбираются основные направления темы, и преподаватель предлагает учащимся вопросы, от решения которых зависит решение всей пробл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3600" spc="-1" strike="noStrike">
                <a:solidFill>
                  <a:srgbClr val="3f3b19"/>
                </a:solidFill>
                <a:latin typeface="Georgia"/>
              </a:rPr>
              <a:t>Формы работы</a:t>
            </a:r>
            <a:r>
              <a:rPr b="1" i="1" lang="en-US" sz="1600" spc="-1" strike="noStrike">
                <a:solidFill>
                  <a:srgbClr val="3f3b1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ешнее выражение согласованной деятельности учителя и учащихся, осуществляемой в определённом порядке и режим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фронталь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индивидуаль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коллектив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групп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729"/>
                </a:solidFill>
                <a:latin typeface="Arial"/>
              </a:rPr>
              <a:t>Условия, определяющие выбор метода и формы обучения: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73864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цели и задачи обу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 учебные возможности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 внешние услов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 возможности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611280" y="1413000"/>
          <a:ext cx="8280360" cy="4608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82803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557280" y="0"/>
            <a:ext cx="70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Georgia"/>
              </a:rPr>
              <a:t>Что отличает современный урок от традиционного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302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 u="sng">
                <a:solidFill>
                  <a:srgbClr val="808000"/>
                </a:solidFill>
                <a:uFillTx/>
                <a:latin typeface="Arial"/>
              </a:rPr>
              <a:t>Что отличает современный урок от традиционного?</a:t>
            </a:r>
            <a:br>
              <a:rPr sz="2000"/>
            </a:b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Цифровые образовательные ресурсы (</a:t>
            </a:r>
            <a:r>
              <a:rPr b="0" lang="en-US" sz="2400" spc="-1" strike="noStrike">
                <a:solidFill>
                  <a:srgbClr val="1c1c34"/>
                </a:solidFill>
                <a:latin typeface="Arial"/>
              </a:rPr>
              <a:t>учебные пособия, дидактические материалы, инструменты учебной деятельности и др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.);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Современные технические средства обучения (</a:t>
            </a:r>
            <a:r>
              <a:rPr b="0" lang="en-US" sz="2400" spc="-1" strike="noStrike">
                <a:solidFill>
                  <a:srgbClr val="1c1c34"/>
                </a:solidFill>
                <a:latin typeface="Arial"/>
              </a:rPr>
              <a:t>ПК, мультипроектор, веб-камера и т.п.)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Электронные средства обучения (</a:t>
            </a:r>
            <a:r>
              <a:rPr b="0" lang="en-US" sz="2400" spc="-1" strike="noStrike">
                <a:solidFill>
                  <a:srgbClr val="1c1c34"/>
                </a:solidFill>
                <a:latin typeface="Arial"/>
              </a:rPr>
              <a:t>электронный микроскоп, ЛЕГО и др.);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Современные динамические пособия, модели, макеты, таблицы и т.п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01800" y="765000"/>
            <a:ext cx="59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33"/>
                </a:solidFill>
                <a:latin typeface="Georgia"/>
              </a:rPr>
              <a:t>Средств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18920" y="980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6633"/>
                </a:solidFill>
                <a:latin typeface="Georgia"/>
              </a:rPr>
              <a:t>Процесс   обучения</a:t>
            </a:r>
            <a:endParaRPr b="0" lang="en-US" sz="30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95280" y="1916280"/>
          <a:ext cx="8569440" cy="4422600"/>
        </p:xfrm>
        <a:graphic>
          <a:graphicData uri="http://schemas.openxmlformats.org/drawingml/2006/table">
            <a:tbl>
              <a:tblPr/>
              <a:tblGrid>
                <a:gridCol w="4392720"/>
                <a:gridCol w="417672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c1c34"/>
                          </a:solidFill>
                          <a:latin typeface="Georgia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c1c34"/>
                          </a:solidFill>
                          <a:latin typeface="Georgia"/>
                        </a:rPr>
                        <a:t>Действия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1. Создает проблемную ситу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2. Организует размышления над проблемой и ее формулиров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3. Организует поиск гипотезы — предположительного объяснения обнаруженных противореч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4. Организует проверку гипотез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5. Организует обобщение результатов и применение полученных зна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1.Осознает противоречия в изучаемом явл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2. Формулирует пробл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3. Выдвигает гипотезы, объясняющие я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4. Проверяет гипотезы в  эксперименте, решении задач, анализе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5. Анализирует результаты, делает выводы, применяет полученные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507" name=""/>
          <p:cNvSpPr/>
          <p:nvPr/>
        </p:nvSpPr>
        <p:spPr>
          <a:xfrm>
            <a:off x="826920" y="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Georgia"/>
              </a:rPr>
              <a:t>Что отличает современный урок от традиционного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74800" y="1147680"/>
            <a:ext cx="6912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i="1" lang="en-US" sz="3500" spc="-1" strike="noStrike">
                <a:solidFill>
                  <a:srgbClr val="666633"/>
                </a:solidFill>
                <a:latin typeface="Georgia"/>
              </a:rPr>
              <a:t>Результаты   обучения </a:t>
            </a:r>
            <a:br>
              <a:rPr sz="3500"/>
            </a:b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56908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Компетентность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Целостная картина мира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Субъективность (</a:t>
            </a:r>
            <a:r>
              <a:rPr b="0" i="1" lang="ru-RU" sz="2000" spc="-1" strike="noStrike">
                <a:solidFill>
                  <a:srgbClr val="1c1c34"/>
                </a:solidFill>
                <a:latin typeface="Arial"/>
              </a:rPr>
              <a:t>сверхнормативная активность, проактивность, стремление брать на себя ответственность за  исход  дела, способность к отчету</a:t>
            </a: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Развитое абстрактное мышление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Владение полной структурой деятельности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Формирование социальной взрослости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Мотивационная готовность к учебно-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профессиональной и к общественно-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значимой деятельности.  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6920" y="0"/>
            <a:ext cx="72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Georgia"/>
              </a:rPr>
              <a:t>Что отличает современный урок от традиционного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5940360" y="4005360"/>
            <a:ext cx="295128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5280" y="4076640"/>
            <a:ext cx="8424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eorgia"/>
              </a:rPr>
              <a:t>Камин, доверху набитый дровами, не горит, а дым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00"/>
                </a:solidFill>
                <a:latin typeface="Arial"/>
              </a:rPr>
              <a:t>                        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Д.И. Мендел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7760" y="2637000"/>
            <a:ext cx="758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Технология как совокуп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приё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345600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8360" y="476280"/>
            <a:ext cx="82072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формация к размышлению: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5280" y="1341360"/>
            <a:ext cx="835344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33"/>
                </a:solidFill>
                <a:latin typeface="Arial"/>
              </a:rPr>
              <a:t>Технология</a:t>
            </a:r>
            <a:r>
              <a:rPr b="0" lang="en-US" sz="25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–  это совокупность приемов, применяемых в каком – либо деле, мастерстве, искусств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33"/>
                </a:solidFill>
                <a:latin typeface="Arial"/>
              </a:rPr>
              <a:t>Педагогическая технология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1) содержательная техника реализации задач учебного процесс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) описание процесса достижения планируемых результат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) продуманная во всех деталях модель совместной педагогической деятельности по проектированию, организации и проведению учебного процесса с безусловным обеспечением комфортных условий для учащихся и учител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250920" y="1916280"/>
          <a:ext cx="8713800" cy="4636800"/>
        </p:xfrm>
        <a:graphic>
          <a:graphicData uri="http://schemas.openxmlformats.org/drawingml/2006/table">
            <a:tbl>
              <a:tblPr/>
              <a:tblGrid>
                <a:gridCol w="2905200"/>
                <a:gridCol w="2568240"/>
                <a:gridCol w="3240360"/>
              </a:tblGrid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Объяснительный способ обуч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Компоненты деятель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Деятельностный способ обуч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Georgia"/>
                        </a:rPr>
                        <a:t>Задается педагогом, может декларироваться лиц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Georgia"/>
                        </a:rPr>
                        <a:t>1. Цель – модель желаемого будущего, предполаг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Georgia"/>
                        </a:rPr>
                        <a:t>В процессе проблематизации обеспечивается принятие учащимися цели предстояще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Используются внешние мотив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2. Мотивы – побудители к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Опора на внутренние мотив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Выбираются педагогом, часто используются привычные, независимо от поставленной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3. Средства – способы, с помощью которых осуществляетс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Вариативность действий, создание ситуации выбора в соответствии с возможностями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"/>
          <p:cNvSpPr txBox="1"/>
          <p:nvPr/>
        </p:nvSpPr>
        <p:spPr>
          <a:xfrm>
            <a:off x="468360" y="189000"/>
            <a:ext cx="82803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ханизмы организации учебного процесса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традиционном и развивающем способах обучения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250920" y="189000"/>
          <a:ext cx="7575480" cy="568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757548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2303640" y="5589720"/>
            <a:ext cx="684036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Великое благо тому, кто научился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Мен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50920" y="333360"/>
          <a:ext cx="8713800" cy="6264360"/>
        </p:xfrm>
        <a:graphic>
          <a:graphicData uri="http://schemas.openxmlformats.org/drawingml/2006/table">
            <a:tbl>
              <a:tblPr/>
              <a:tblGrid>
                <a:gridCol w="2903400"/>
                <a:gridCol w="2712960"/>
                <a:gridCol w="309744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Объяснительный способ обучени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Компоненты деятельност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Деятельностный способ обучени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уются инвариантные действия, предусмотренные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ействия – основной элемент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тивность действий, создание ситуации выбора в соответствии с возможностями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леживается внешний результат, главным образом – уровень осво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езультат – материальный или духовный 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 – внутренние позитивные личностные изменения в процес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полученного результата с общепринятым этало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Оценка – критерий достижения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ценка на основе применения индивидуальных этал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95280" y="476280"/>
            <a:ext cx="81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0605a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Этапы творческого урока</a:t>
            </a:r>
            <a:endParaRPr b="0" i="1" lang="en-US" sz="1800" spc="1" strike="noStrike">
              <a:ln w="3240">
                <a:solidFill>
                  <a:srgbClr val="30605a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79280" y="1700280"/>
          <a:ext cx="8353440" cy="4259160"/>
        </p:xfrm>
        <a:graphic>
          <a:graphicData uri="http://schemas.openxmlformats.org/drawingml/2006/table">
            <a:tbl>
              <a:tblPr/>
              <a:tblGrid>
                <a:gridCol w="2521080"/>
                <a:gridCol w="583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Задача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u-RU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. Началь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оздать затруднение или проблему, мотив к познан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. Основно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рганизовать изучение материала самим учащимся, т.е. его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ru-RU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. Итогов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идумать способ сведения воедино новых умений и навы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ru-RU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. Заключитель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айти способ применить учащимся новые знания и умения;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3529080" cy="2171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729"/>
                </a:solidFill>
                <a:latin typeface="Georgia"/>
              </a:rPr>
              <a:t>Проблемное обучение -</a:t>
            </a: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это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тип развивающего обучения, содержание которого представлено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системой проблемных задач различного уровня сложн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в процессе решения которых учащиеся овладевают новыми знаниями и способами действия, а через это происходит формирование творческих                 способностей: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продуктивного   мышления, воображения,  познавательной  мотивации,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интеллектуальных эмоций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Georgia"/>
              </a:rPr>
              <a:t>Основные принципы проблемного обучения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4920" y="1598400"/>
            <a:ext cx="79930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3068640"/>
            <a:ext cx="74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f3b19"/>
                </a:solidFill>
                <a:latin typeface="Georgia"/>
                <a:ea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9280" y="494172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807920" cy="18572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539640" y="2009880"/>
            <a:ext cx="860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3b19"/>
                </a:solidFill>
                <a:latin typeface="Georgia"/>
              </a:rPr>
              <a:t>                         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1. Целеполаг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                     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2. Выбор индивидуальной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                      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образовательной траек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3b19"/>
                </a:solidFill>
                <a:latin typeface="Georgia"/>
              </a:rPr>
              <a:t>                        </a:t>
            </a:r>
            <a:r>
              <a:rPr b="1" i="1" lang="en-US" sz="2400" spc="-1" strike="noStrike">
                <a:solidFill>
                  <a:srgbClr val="3f3b19"/>
                </a:solidFill>
                <a:latin typeface="Georgia"/>
              </a:rPr>
              <a:t>3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. Принцип продуктивнос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                 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3f3b19"/>
                </a:solidFill>
                <a:latin typeface="Georgia"/>
              </a:rPr>
              <a:t>личное образовательное приращ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3b19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3f3b19"/>
                </a:solidFill>
                <a:latin typeface="Georgia"/>
              </a:rPr>
              <a:t>4.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 Первичность образовательной    прод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5. Ситуативность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6. Принцип образовательной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95280" y="1484280"/>
            <a:ext cx="7272360" cy="4824360"/>
          </a:xfrm>
          <a:prstGeom prst="rect">
            <a:avLst/>
          </a:prstGeom>
          <a:solidFill>
            <a:srgbClr val="f0e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8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000"/>
                </a:solidFill>
                <a:latin typeface="Georgia"/>
              </a:rPr>
              <a:t>Виды проблемного обучения</a:t>
            </a:r>
            <a:endParaRPr b="0" lang="en-US" sz="3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691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научное творчество (поис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234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  <a:ea typeface="Arial"/>
              </a:rPr>
              <a:t>художественное творчество (отображение на основе воображения)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39640" y="3573360"/>
            <a:ext cx="69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теоретическ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  </a:t>
            </a:r>
            <a:r>
              <a:rPr b="0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лабораторны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472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  <a:ea typeface="Arial"/>
              </a:rPr>
              <a:t>внеурочные меропри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9640" y="5373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поиск практического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7451640" y="40464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2719440" cy="188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50920" y="260280"/>
            <a:ext cx="8208000" cy="6356520"/>
            <a:chOff x="250920" y="260280"/>
            <a:chExt cx="8208000" cy="6356520"/>
          </a:xfrm>
        </p:grpSpPr>
        <p:cxnSp>
          <p:nvCxnSpPr>
            <p:cNvPr id="551" name="_s50180"/>
            <p:cNvCxnSpPr>
              <a:stCxn id="552" idx="1"/>
              <a:endCxn id="553" idx="2"/>
            </p:cNvCxnSpPr>
            <p:nvPr/>
          </p:nvCxnSpPr>
          <p:spPr>
            <a:xfrm rot="10800000">
              <a:off x="4354200" y="1864800"/>
              <a:ext cx="391680" cy="1573560"/>
            </a:xfrm>
            <a:prstGeom prst="bentConnector2">
              <a:avLst/>
            </a:prstGeom>
            <a:ln w="38160">
              <a:solidFill>
                <a:srgbClr val="003300"/>
              </a:solidFill>
              <a:miter/>
            </a:ln>
          </p:spPr>
        </p:cxnSp>
        <p:cxnSp>
          <p:nvCxnSpPr>
            <p:cNvPr id="554" name="_s50181"/>
            <p:cNvCxnSpPr>
              <a:stCxn id="555" idx="3"/>
              <a:endCxn id="553" idx="2"/>
            </p:cNvCxnSpPr>
            <p:nvPr/>
          </p:nvCxnSpPr>
          <p:spPr>
            <a:xfrm flipV="1">
              <a:off x="3964680" y="1864800"/>
              <a:ext cx="390960" cy="1573560"/>
            </a:xfrm>
            <a:prstGeom prst="bentConnector2">
              <a:avLst/>
            </a:prstGeom>
            <a:ln w="38160">
              <a:solidFill>
                <a:srgbClr val="003300"/>
              </a:solidFill>
              <a:miter/>
            </a:ln>
          </p:spPr>
        </p:cxnSp>
        <p:cxnSp>
          <p:nvCxnSpPr>
            <p:cNvPr id="556" name="_s50182"/>
            <p:cNvCxnSpPr>
              <a:stCxn id="557" idx="0"/>
              <a:endCxn id="553" idx="2"/>
            </p:cNvCxnSpPr>
            <p:nvPr/>
          </p:nvCxnSpPr>
          <p:spPr>
            <a:xfrm flipV="1" rot="16200000">
              <a:off x="4218120" y="2001240"/>
              <a:ext cx="3146400" cy="2873520"/>
            </a:xfrm>
            <a:prstGeom prst="bentConnector3">
              <a:avLst>
                <a:gd name="adj1" fmla="val 3638"/>
              </a:avLst>
            </a:prstGeom>
            <a:ln w="38160">
              <a:solidFill>
                <a:srgbClr val="003300"/>
              </a:solidFill>
              <a:miter/>
            </a:ln>
          </p:spPr>
        </p:cxnSp>
        <p:cxnSp>
          <p:nvCxnSpPr>
            <p:cNvPr id="558" name="_s50183"/>
            <p:cNvCxnSpPr>
              <a:stCxn id="559" idx="0"/>
              <a:endCxn id="553" idx="2"/>
            </p:cNvCxnSpPr>
            <p:nvPr/>
          </p:nvCxnSpPr>
          <p:spPr>
            <a:xfrm flipV="1">
              <a:off x="4354920" y="1865160"/>
              <a:ext cx="3600" cy="31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0" name="_s50184"/>
            <p:cNvCxnSpPr>
              <a:stCxn id="561" idx="0"/>
              <a:endCxn id="553" idx="2"/>
            </p:cNvCxnSpPr>
            <p:nvPr/>
          </p:nvCxnSpPr>
          <p:spPr>
            <a:xfrm flipH="1" flipV="1" rot="5400000">
              <a:off x="1345320" y="2001600"/>
              <a:ext cx="3146400" cy="2873520"/>
            </a:xfrm>
            <a:prstGeom prst="bentConnector3">
              <a:avLst>
                <a:gd name="adj1" fmla="val 3638"/>
              </a:avLst>
            </a:prstGeom>
            <a:ln w="38160">
              <a:solidFill>
                <a:srgbClr val="003300"/>
              </a:solidFill>
              <a:miter/>
            </a:ln>
          </p:spPr>
        </p:cxnSp>
        <p:sp>
          <p:nvSpPr>
            <p:cNvPr id="553" name="_s50185"/>
            <p:cNvSpPr/>
            <p:nvPr/>
          </p:nvSpPr>
          <p:spPr>
            <a:xfrm>
              <a:off x="3123720" y="260280"/>
              <a:ext cx="2462400" cy="158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 u="sng">
                  <a:solidFill>
                    <a:srgbClr val="003300"/>
                  </a:solidFill>
                  <a:uFillTx/>
                  <a:latin typeface="Century Gothic"/>
                </a:rPr>
                <a:t>Методы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 u="sng">
                  <a:solidFill>
                    <a:srgbClr val="003300"/>
                  </a:solidFill>
                  <a:uFillTx/>
                  <a:latin typeface="Century Gothic"/>
                </a:rPr>
                <a:t>проблемног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 u="sng">
                  <a:solidFill>
                    <a:srgbClr val="003300"/>
                  </a:solidFill>
                  <a:uFillTx/>
                  <a:latin typeface="Century Gothic"/>
                </a:rPr>
                <a:t>обучен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50186"/>
            <p:cNvSpPr/>
            <p:nvPr/>
          </p:nvSpPr>
          <p:spPr>
            <a:xfrm>
              <a:off x="250920" y="5027760"/>
              <a:ext cx="2462400" cy="15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Ситуация 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выбо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50187"/>
            <p:cNvSpPr/>
            <p:nvPr/>
          </p:nvSpPr>
          <p:spPr>
            <a:xfrm>
              <a:off x="3123720" y="5027760"/>
              <a:ext cx="2462400" cy="158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ccffff"/>
                </a:gs>
              </a:gsLst>
              <a:lin ang="5400000"/>
            </a:gra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Ситуация 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неопределён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50188"/>
            <p:cNvSpPr/>
            <p:nvPr/>
          </p:nvSpPr>
          <p:spPr>
            <a:xfrm>
              <a:off x="5996520" y="5027760"/>
              <a:ext cx="2462400" cy="15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Ситуация 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опроверж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50189"/>
            <p:cNvSpPr/>
            <p:nvPr/>
          </p:nvSpPr>
          <p:spPr>
            <a:xfrm>
              <a:off x="1482120" y="2643840"/>
              <a:ext cx="2462400" cy="15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роблемно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излож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50190"/>
            <p:cNvSpPr/>
            <p:nvPr/>
          </p:nvSpPr>
          <p:spPr>
            <a:xfrm>
              <a:off x="4765320" y="2643840"/>
              <a:ext cx="2462400" cy="15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оисково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исследова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5"/>
            <a:stretch/>
          </p:blipFill>
          <p:spPr>
            <a:xfrm>
              <a:off x="250920" y="260280"/>
              <a:ext cx="2627640" cy="2152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sp>
        <p:nvSpPr>
          <p:cNvPr id="563" name=""/>
          <p:cNvSpPr/>
          <p:nvPr/>
        </p:nvSpPr>
        <p:spPr>
          <a:xfrm>
            <a:off x="1763640" y="4005360"/>
            <a:ext cx="57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35280" y="4365720"/>
            <a:ext cx="5472000" cy="368280"/>
          </a:xfrm>
          <a:prstGeom prst="rect">
            <a:avLst/>
          </a:prstGeom>
          <a:solidFill>
            <a:srgbClr val="e9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Обучение на основе «учебных ситу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6084720" y="260280"/>
            <a:ext cx="2735280" cy="229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Georgia"/>
              </a:rPr>
              <a:t>Этапы проблемного обучения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1484280"/>
            <a:ext cx="2448000" cy="107964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Возникнов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блем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328464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5280" y="4797360"/>
            <a:ext cx="2664000" cy="122400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верка прави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43280" y="1989000"/>
            <a:ext cx="9367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626920" y="2637000"/>
            <a:ext cx="1801800" cy="57600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27280" y="4365720"/>
            <a:ext cx="2016000" cy="35856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059280" y="5445000"/>
            <a:ext cx="7207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59280" y="2205000"/>
            <a:ext cx="3384720" cy="3160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5" name=""/>
          <p:cNvSpPr/>
          <p:nvPr/>
        </p:nvSpPr>
        <p:spPr>
          <a:xfrm>
            <a:off x="3780000" y="1557360"/>
            <a:ext cx="2447640" cy="107964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блемного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780000" y="4797360"/>
            <a:ext cx="2447640" cy="107964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Доказа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гипот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Arial"/>
              </a:rPr>
              <a:t>Приёмы включения ребенка</a:t>
            </a:r>
            <a:br>
              <a:rPr sz="3600"/>
            </a:br>
            <a:r>
              <a:rPr b="1" i="1" lang="en-US" sz="3600" spc="-1" strike="noStrike">
                <a:solidFill>
                  <a:srgbClr val="666729"/>
                </a:solidFill>
                <a:latin typeface="Arial"/>
              </a:rPr>
              <a:t> в диалог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Georgia"/>
              </a:rPr>
              <a:t>Ассоциации – средство организации диалога ребенка с миром (ассоциации с заглавием, с ключевым словом, с именем героя или названием произ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2781360"/>
            <a:ext cx="78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Georgia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Georgia"/>
                <a:ea typeface="Arial"/>
              </a:rPr>
              <a:t>«Вопросное состояние»</a:t>
            </a:r>
            <a:r>
              <a:rPr b="0" i="1" lang="en-US" sz="2000" spc="-1" strike="noStrike">
                <a:solidFill>
                  <a:srgbClr val="003366"/>
                </a:solidFill>
                <a:latin typeface="Georgia"/>
                <a:ea typeface="Arial"/>
              </a:rPr>
              <a:t> - умение задавать в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Georgia"/>
                <a:ea typeface="Arial"/>
              </a:rPr>
              <a:t>    </a:t>
            </a:r>
            <a:r>
              <a:rPr b="0" i="1" lang="en-US" sz="2000" spc="-1" strike="noStrike">
                <a:solidFill>
                  <a:srgbClr val="003366"/>
                </a:solidFill>
                <a:latin typeface="Georgia"/>
                <a:ea typeface="Arial"/>
              </a:rPr>
              <a:t>(для активизации познавательной деятельност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792440" y="38606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Вопрос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964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Волновать ум исслед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9640" y="450864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Быть в круге его инте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9640" y="486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Представлять что-то неизве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9640" y="530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Показать необходимость работы с 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5640" y="5805360"/>
            <a:ext cx="6553080" cy="825480"/>
          </a:xfrm>
          <a:prstGeom prst="rect">
            <a:avLst/>
          </a:prstGeom>
          <a:solidFill>
            <a:srgbClr val="f0eed8"/>
          </a:solidFill>
          <a:ln w="38160">
            <a:solidFill>
              <a:srgbClr val="e9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3f3b19"/>
                </a:solidFill>
                <a:latin typeface="Georgia"/>
                <a:ea typeface="Arial"/>
              </a:rPr>
              <a:t>Проблемная ситуация создается задаваемыми вопрос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16142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729"/>
                </a:solidFill>
                <a:latin typeface="Georgia"/>
              </a:rPr>
              <a:t>Алгоритм постановки проблемного вопроса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Изучение информации: выделить осно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оменты событий, задачи, точки зрения, теории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ыделение главного: мысли, идеи, особенности, усло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ыявление противоречий, несогласованности, неубедительности аргу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пределение сути противореч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Формулировка проблемного во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блемный вопрос должен с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три обязательных эле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Указание на объект изуч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Указание на направление изучения объек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тиворечие (скрытое или явно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53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Georgia"/>
              </a:rPr>
              <a:t>Основные психологические условия для успешного проблемного обучения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63520" y="1628280"/>
            <a:ext cx="8701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1. Проблемные ситуации должны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отве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     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целям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 формирования системы знаний.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2.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Быть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доступными</a:t>
            </a:r>
            <a:r>
              <a:rPr b="0" i="1" lang="en-US" sz="2400" spc="-1" strike="noStrike">
                <a:solidFill>
                  <a:srgbClr val="cc99ff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для учащихся и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соответствовать</a:t>
            </a:r>
            <a:r>
              <a:rPr b="0" i="1" lang="en-US" sz="2400" spc="-1" strike="noStrike">
                <a:solidFill>
                  <a:srgbClr val="cc99ff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их познавательным способност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3. Должны вызывать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собств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познавательную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и актив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4.</a:t>
            </a:r>
            <a:r>
              <a:rPr b="1" i="1" lang="en-US" sz="2400" spc="-1" strike="noStrike">
                <a:solidFill>
                  <a:srgbClr val="996633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Задания должны быть таковыми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учащийся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не мог выполнить их, опираясь на уже имеющиеся</a:t>
            </a:r>
            <a:r>
              <a:rPr b="0" i="1" lang="en-US" sz="2400" spc="-1" strike="noStrike">
                <a:solidFill>
                  <a:srgbClr val="ccccff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знания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, но достаточными для самостоятельного анализ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2843280" cy="2133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Цель тренинга: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053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Развитие эмпатии педагогов, способности к активному взаимодействию всех участников процесса, культуры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1755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3168720" cy="2452680"/>
          </a:xfrm>
          <a:prstGeom prst="rect">
            <a:avLst/>
          </a:prstGeom>
          <a:ln w="12600">
            <a:solidFill>
              <a:srgbClr val="00ff00"/>
            </a:solidFill>
            <a:prstDash val="lgDashDotDot"/>
            <a:miter/>
          </a:ln>
        </p:spPr>
      </p:pic>
      <p:sp>
        <p:nvSpPr>
          <p:cNvPr id="593" name=""/>
          <p:cNvSpPr/>
          <p:nvPr/>
        </p:nvSpPr>
        <p:spPr>
          <a:xfrm>
            <a:off x="250920" y="4797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Georgia"/>
              </a:rPr>
              <a:t>Специфические функции проблемного обучения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066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Работа интеллекта уче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Формирование мировоззрени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вязь обучения с жиз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очетание разных типов и                                видов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нцип индивидуаль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Динамичность процесса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ысокая эмоциональная активность                                     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мысли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Репродуктивное и                                              продуктивное усвоение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50920" y="2924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0920" y="4292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b1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6948360" y="4365720"/>
            <a:ext cx="1967040" cy="230328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729"/>
                </a:solidFill>
                <a:latin typeface="Georgia"/>
              </a:rPr>
              <a:t>Достоинства и недостатки проблемного обучения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8196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ет, мыслительные способности учащихся, интерес к учению, творческие си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всегда можно применять из-за характера изучаемого материала, неподготовленности учащихся, квалификации учителя; требует много времени, в силу чего проблемное обучение в полном виде используется неча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6000" y="3213000"/>
            <a:ext cx="80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3300" spc="-1" strike="noStrike">
                <a:solidFill>
                  <a:srgbClr val="808000"/>
                </a:solidFill>
                <a:latin typeface="Georgia"/>
              </a:rPr>
              <a:t>Жить – значит иметь проблемы. </a:t>
            </a:r>
            <a:br>
              <a:rPr sz="3300"/>
            </a:br>
            <a:r>
              <a:rPr b="1" lang="en-US" sz="3300" spc="-1" strike="noStrike">
                <a:solidFill>
                  <a:srgbClr val="808000"/>
                </a:solidFill>
                <a:latin typeface="Georgia"/>
              </a:rPr>
              <a:t>Решать их – значит  расти интеллектуально.</a:t>
            </a:r>
            <a:r>
              <a:rPr b="0" lang="en-US" sz="3300" spc="-1" strike="noStrike">
                <a:solidFill>
                  <a:srgbClr val="808000"/>
                </a:solidFill>
                <a:latin typeface="Arial"/>
              </a:rPr>
              <a:t>                                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808000"/>
                </a:solidFill>
                <a:latin typeface="Arial"/>
              </a:rPr>
              <a:t>                       </a:t>
            </a:r>
            <a:r>
              <a:rPr b="0" lang="en-US" sz="2900" spc="-1" strike="noStrike">
                <a:solidFill>
                  <a:srgbClr val="808000"/>
                </a:solidFill>
                <a:latin typeface="Arial"/>
              </a:rPr>
              <a:t>Дж. П. ГИЛДФОРД, психолог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6920" y="333360"/>
            <a:ext cx="66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Мозговая</a:t>
            </a:r>
            <a:r>
              <a:rPr b="1" i="1" lang="en-US" sz="36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атака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2876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3530880" cy="235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6633"/>
                </a:solidFill>
                <a:latin typeface="Georgia"/>
              </a:rPr>
              <a:t>Чем полезна мозговая атака?</a:t>
            </a:r>
            <a:br>
              <a:rPr sz="3500"/>
            </a:b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Arial"/>
              </a:rPr>
              <a:t>Мозговая атака помогает нам узнать себя как команду, документально оформить то, что мы, как команда, знаем. Также он стимулирует творческую активность команды, позволяет каждому быть включенному в деятельность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572000" y="4797360"/>
            <a:ext cx="2305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69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666633"/>
                </a:solidFill>
                <a:latin typeface="Arial"/>
              </a:rPr>
              <a:t>Стремитесь к большому </a:t>
            </a:r>
            <a:br>
              <a:rPr sz="3500"/>
            </a:br>
            <a:r>
              <a:rPr b="0" lang="en-US" sz="3500" spc="-1" strike="noStrike">
                <a:solidFill>
                  <a:srgbClr val="666633"/>
                </a:solidFill>
                <a:latin typeface="Arial"/>
              </a:rPr>
              <a:t>количеству идей</a:t>
            </a:r>
            <a:br>
              <a:rPr sz="3500"/>
            </a:b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817280"/>
            <a:ext cx="7896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Идеи – как семена. Не всем им суждено выжить, поэтому необходимо посадить как можно больше семян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Стремитесь к разнообразным идеям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Оставайтесь свободным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Говорите обо всем, не опасаясь высказать самые дикие предположения и выставить себя на посмешище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Не судите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Помните, что обсуждение останавливает течение мыслей                          и сбивает вас с ритма. Знайте, что новые идеи подобны разноцветным мыльным пузырям. Они могут лопнуть               из-за “колкости” или зевка, исчезнуть от насмешки или хмурого взгляда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Записывайте все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Оценивайте  идеи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Выберите из списка три наиболее популярные идеи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7164360" y="5037120"/>
            <a:ext cx="1728720" cy="16318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812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395280" y="836640"/>
            <a:ext cx="8470080" cy="5543280"/>
            <a:chOff x="395280" y="836640"/>
            <a:chExt cx="8470080" cy="5543280"/>
          </a:xfrm>
        </p:grpSpPr>
        <p:cxnSp>
          <p:nvCxnSpPr>
            <p:cNvPr id="613" name="_s48132"/>
            <p:cNvCxnSpPr>
              <a:stCxn id="614" idx="0"/>
              <a:endCxn id="615" idx="2"/>
            </p:cNvCxnSpPr>
            <p:nvPr/>
          </p:nvCxnSpPr>
          <p:spPr>
            <a:xfrm flipV="1" rot="16200000">
              <a:off x="5573520" y="2125440"/>
              <a:ext cx="1077840" cy="2965320"/>
            </a:xfrm>
            <a:prstGeom prst="bentConnector3">
              <a:avLst>
                <a:gd name="adj1" fmla="val 10658"/>
              </a:avLst>
            </a:prstGeom>
            <a:ln w="38160">
              <a:solidFill>
                <a:srgbClr val="003300"/>
              </a:solidFill>
              <a:miter/>
            </a:ln>
          </p:spPr>
        </p:cxnSp>
        <p:cxnSp>
          <p:nvCxnSpPr>
            <p:cNvPr id="616" name="_s48133"/>
            <p:cNvCxnSpPr>
              <a:stCxn id="617" idx="0"/>
              <a:endCxn id="615" idx="2"/>
            </p:cNvCxnSpPr>
            <p:nvPr/>
          </p:nvCxnSpPr>
          <p:spPr>
            <a:xfrm flipV="1">
              <a:off x="4629960" y="3069360"/>
              <a:ext cx="3960" cy="107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8" name="_s48134"/>
            <p:cNvCxnSpPr>
              <a:stCxn id="619" idx="0"/>
              <a:endCxn id="615" idx="2"/>
            </p:cNvCxnSpPr>
            <p:nvPr/>
          </p:nvCxnSpPr>
          <p:spPr>
            <a:xfrm flipH="1" flipV="1" rot="5400000">
              <a:off x="2608920" y="2125440"/>
              <a:ext cx="1077840" cy="2965320"/>
            </a:xfrm>
            <a:prstGeom prst="bentConnector3">
              <a:avLst>
                <a:gd name="adj1" fmla="val 10658"/>
              </a:avLst>
            </a:prstGeom>
            <a:ln w="38160">
              <a:solidFill>
                <a:srgbClr val="003300"/>
              </a:solidFill>
              <a:miter/>
            </a:ln>
          </p:spPr>
        </p:cxnSp>
        <p:sp>
          <p:nvSpPr>
            <p:cNvPr id="615" name="_s48135"/>
            <p:cNvSpPr/>
            <p:nvPr/>
          </p:nvSpPr>
          <p:spPr>
            <a:xfrm>
              <a:off x="3359880" y="836640"/>
              <a:ext cx="2540880" cy="2217240"/>
            </a:xfrm>
            <a:prstGeom prst="roundRect">
              <a:avLst>
                <a:gd name="adj" fmla="val 16667"/>
              </a:avLst>
            </a:prstGeom>
            <a:blipFill rotWithShape="0">
              <a:blip r:embed="rId1">
                <a:alphaModFix amt="67000"/>
              </a:blip>
              <a:srcRect/>
              <a:stretch/>
            </a:blip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Georgia"/>
                </a:rPr>
                <a:t>Группов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Georgia"/>
                </a:rPr>
                <a:t> </a:t>
              </a:r>
              <a:r>
                <a:rPr b="1" i="1" lang="en-US" sz="2800" spc="-1" strike="noStrike">
                  <a:solidFill>
                    <a:srgbClr val="003300"/>
                  </a:solidFill>
                  <a:latin typeface="Georgia"/>
                </a:rPr>
                <a:t>рабо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48136"/>
            <p:cNvSpPr/>
            <p:nvPr/>
          </p:nvSpPr>
          <p:spPr>
            <a:xfrm>
              <a:off x="395280" y="4162680"/>
              <a:ext cx="2540880" cy="221724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67000"/>
              </a:blip>
              <a:srcRect/>
              <a:stretch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Работа в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больших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и малы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группа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48137"/>
            <p:cNvSpPr/>
            <p:nvPr/>
          </p:nvSpPr>
          <p:spPr>
            <a:xfrm>
              <a:off x="3359880" y="4162680"/>
              <a:ext cx="2540880" cy="221724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64000"/>
              </a:blip>
              <a:srcRect/>
              <a:stretch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Работа в парах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Статистическ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ар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динамическ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ар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вариационн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ар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_s48138"/>
            <p:cNvSpPr/>
            <p:nvPr/>
          </p:nvSpPr>
          <p:spPr>
            <a:xfrm>
              <a:off x="6324480" y="4162680"/>
              <a:ext cx="2540880" cy="221724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1000"/>
              </a:blip>
              <a:srcRect/>
              <a:stretch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Диалогов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форм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общ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796000" y="189000"/>
            <a:ext cx="3168720" cy="241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1c1c34"/>
                </a:solidFill>
                <a:latin typeface="Georgia"/>
              </a:rPr>
              <a:t>Особенности работы в группе</a:t>
            </a: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Работа ученика контролируется учителем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В группе обязательно должен быть  сильный и  слабый ученики.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Группы не должны быть постоянными (в жизни приходится работать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не только с теми людьми,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с которыми им комфортно).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0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624560" y="171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9640" y="5013360"/>
            <a:ext cx="2448000" cy="129708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бота в ма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5157720"/>
            <a:ext cx="2808000" cy="1368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Проблем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(2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00720" y="5013360"/>
            <a:ext cx="2519280" cy="1368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Мозговая а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763280" y="4292640"/>
            <a:ext cx="230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714560" y="4365720"/>
            <a:ext cx="73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508720" y="4292640"/>
            <a:ext cx="25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>
            <a:lum bright="12000"/>
          </a:blip>
          <a:stretch/>
        </p:blipFill>
        <p:spPr>
          <a:xfrm rot="378000">
            <a:off x="279000" y="525240"/>
            <a:ext cx="3702240" cy="27763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 rot="21115200">
            <a:off x="5324400" y="355680"/>
            <a:ext cx="3456000" cy="2755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3059280" y="3068640"/>
            <a:ext cx="5111640" cy="100800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Педагогические нахо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 рабочие групп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729"/>
                </a:solidFill>
                <a:latin typeface="Arial"/>
              </a:rPr>
              <a:t>По группам – за 15 минут, открыть конверт, посмотреть, что внутри, создать эйдос- конспект у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666729"/>
                </a:solidFill>
                <a:latin typeface="Arial"/>
              </a:rPr>
              <a:t>фрагмента урока или сформулировать советы для  создания пакета дидактических материалов «Педагогические находки. Рекомендации к урок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729"/>
                </a:solidFill>
                <a:latin typeface="Arial"/>
              </a:rPr>
              <a:t>Должны участвовать все члены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729"/>
                </a:solidFill>
                <a:latin typeface="Arial"/>
              </a:rPr>
              <a:t>Приготовить 3-минутную рекламу разработанному ими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826920" y="620640"/>
            <a:ext cx="58485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633"/>
                </a:solidFill>
                <a:latin typeface="Georgia"/>
              </a:rPr>
              <a:t>Инструкция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0716200">
            <a:off x="6948000" y="189000"/>
            <a:ext cx="18050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Georgia"/>
              </a:rPr>
              <a:t>Задачи тренинга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8135640" cy="374652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Формировать  у педагогов потребность осознавать свои сильные и слабые стор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Развивать потребность к познанию своих способностей и личных кач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Стимулировать интерес к творчеству, инициативу,  развитие  аналитических способностей  членов  педагогического коллектив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7596360" y="189000"/>
            <a:ext cx="1315800" cy="12747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908000" y="1067040"/>
            <a:ext cx="60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Всякое знание остается мертв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если …  не  развивается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инициатива  и самодеятельность.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Н.А.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Правила общения группы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6913800" cy="4608360"/>
          </a:xfrm>
          <a:prstGeom prst="rect">
            <a:avLst/>
          </a:prstGeom>
          <a:noFill/>
          <a:ln w="9360">
            <a:solidFill>
              <a:srgbClr val="e9d4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ворить крат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ворить конкре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шать вним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рашивать дополнитель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бъяснять свое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бегать оценочных суждений в отношении участников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412120" cy="478296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Смотрите, думайте,  делайте выводы. Применяйте знания на прак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Для того чтобы иметь силы учиться интеллектуально, необходимо иметь силы поддерживать себя физ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Не стремитесь одолеть все науки за один присест. будьте терпеливы;  правильно рассчитать силы вам помогут педаг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Учитесь, забывая.  Фильтруйте информацию: что нужно, запишите, составьте кластер, таблицу или план необходимого материала; выбросьте всё, что можете достроить 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Помните: в первые 6 часов после обучения забывается почти 70 % информации.  Троекратное повторение в различных вариантах способствует прочному запоминанию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Создайте свою систему учения, выберите оптимальный темп, применяйте собственные внутренние стимулы, сформируйте положительную установку на сложную, неинтересную работу – и половина дела сдел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Не забывайте отдых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9" descr="j0281970"/>
          <p:cNvPicPr/>
          <p:nvPr/>
        </p:nvPicPr>
        <p:blipFill>
          <a:blip r:embed="rId8"/>
          <a:stretch/>
        </p:blipFill>
        <p:spPr>
          <a:xfrm>
            <a:off x="611280" y="0"/>
            <a:ext cx="1332000" cy="16556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Georgia"/>
              </a:rPr>
              <a:t>С  о в е т ы   у ч е н и к а м</a:t>
            </a: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rcRect l="0" t="8793" r="0" b="3793"/>
          <a:stretch/>
        </p:blipFill>
        <p:spPr>
          <a:xfrm>
            <a:off x="324000" y="189000"/>
            <a:ext cx="5294160" cy="66690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5508720" y="548172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Н. Богданов-Б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"Устный счет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rcRect l="0" t="8793" r="0" b="3793"/>
          <a:stretch/>
        </p:blipFill>
        <p:spPr>
          <a:xfrm>
            <a:off x="250920" y="260280"/>
            <a:ext cx="2516040" cy="31687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2050920" y="1341360"/>
            <a:ext cx="730908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Какие чувства вызывает карт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 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- Кто из вас хотел бы оказаться 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месте учителя на этой   картин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-Какая современная технология сродни той,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которая изображена на карт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Georgia"/>
              </a:rPr>
              <a:t>Какую  методическую проблему Вы хотели бы обсудить во время следующего семин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5911920" y="18900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1746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итель - тот, кто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 добротой выводит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луждающего на его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орогу.           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винт Энний, древнеримский поэт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ение - искусство содействовать открытию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рк Ван Дорен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Самое важное для меня сегодня…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2. Мне понравилось, что…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3. Я получил бы большую пользу, если бы…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4. Я сегодня был недоволен тем, что… …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22510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68360" y="1052640"/>
            <a:ext cx="83534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8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ем вам больш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8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8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одических находок!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8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4221000"/>
            <a:ext cx="83516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важаемые  коллег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 здоровы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успешны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Georgia"/>
              </a:rPr>
              <a:t>План работы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55920" cy="17938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345440" cy="482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ступление руководителя тренинг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Краткий анализ проблем. Формы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. Выступление творческих групп, обмен мнениями по проблеме ( процесс обучения – содержание – формы и средства обуч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.  Эффективное обучение. Условия выбора методов и 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Методы обучения. Особенности , правила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Формирование рабоч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Работа с элементами тренинга в групп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Итоги тренинг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представление результата групповой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Реф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Georgia"/>
              </a:rPr>
              <a:t>Категория участников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86295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я – предме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ководители МО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ультанты, руководители творческих груп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Мотив учас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ная заинтересова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знанный выбор учас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патия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эмоционального состояния другого человека через сопереживание, проникновение в его субъективный ми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6084720" y="2852640"/>
            <a:ext cx="2594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Глоссарий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837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етод обучения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етод (греч.- «путь»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орядоченная деятельность педаг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учащихся, направленная на достижение заданной цели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окупность путей способов достижения целей, решения задач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1782720" cy="2259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Georgia"/>
              </a:rPr>
              <a:t>Методы обучения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0661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упорядоченная деятельность педагогов и учащихся,   направленная на достижение заданной цели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обучения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окупность путей, способов достижения целей задач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тивные и интерактивные методы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гровые, проблемные за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етод инсценизации (заранее подготовленный диалог, дискуссия, театрализованное воспроизведение событ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етод генерации идей (мозговой штур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рганизованный диалог, полило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суждение, диспут, дебат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Arial"/>
              </a:rPr>
              <a:t>Активные и интерактивные методы обучения: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764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игровые, проблемные зад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инсценизации (диалог, дискуссия, театрализованное воспроизведение событи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генерации идей (мозговая атак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рганизованный диалог, полилог, обсуждение, диспут, деба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21:31Z</dcterms:created>
  <dc:creator>Nigredo</dc:creator>
  <dc:description/>
  <dc:language>en-US</dc:language>
  <cp:lastModifiedBy>User</cp:lastModifiedBy>
  <dcterms:modified xsi:type="dcterms:W3CDTF">2011-06-20T03:57:23Z</dcterms:modified>
  <cp:revision>31</cp:revision>
  <dc:subject/>
  <dc:title>Слайд 1</dc:title>
</cp:coreProperties>
</file>