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57EE-4600-41C5-857E-CDEFDC5B1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2CBF-BF1D-4F76-A6F1-D5598646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CB03-6DFB-48C1-B9F9-FD8B4D68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E038-8071-4AE0-8B3E-326203C7E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7B2B-73F5-4CDC-94AD-442D5499A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F2C3-D3B6-4381-93E9-B1C55A7E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3D29-7771-42C2-A28D-73B153CD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7A3D-6A37-4D79-A510-3391C126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8D7B-C7D6-4A67-A0EC-E2BC3F43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55EB-6B7F-4C97-B9BE-6B065C7E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4CBC-B53F-4276-AD6C-9FB3CD0E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D14B-962E-4B6D-9985-9A5E804A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4AAD-ABA0-442C-9E3C-98EF2671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D8FC-B356-490E-9819-F8FBAE73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3EDA-C8BE-47F7-8E67-C8286455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33F0-FEF1-44BF-B40F-73E9857E4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8881-4D49-46BE-A3B3-96B78D72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AB09E-DFDD-4824-96CD-B699CFB1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3BA06-CBF8-4ABD-959E-EE3AB06A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EB882-6F24-4B8F-BD60-D9DF8B4E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AE7BE-8CA5-42FA-9336-DDA6C8AB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6AD8A-44AF-493A-84B8-6EE02CBA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A9BD-056B-483D-AF32-6D4E1848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890DF-6E61-4E6D-A77A-28C0F617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2AA79-20D4-42FB-9048-9B41B732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F8379-CA77-4EDD-8FAF-EB034B4D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BA0EB-EAE2-4FD6-8690-EFC29F2A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AB0FA-2EEA-4E77-9442-A047B80F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47AFF-C760-46AE-99D4-7AEFC7167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44B6B-846E-4655-9E77-CE7D45CFB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F8536-A229-458A-9699-4D5CEF6C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86878-FDD8-4344-84E1-F11E7B73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C674C-14F6-497B-BCE4-E631DFCC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C387-4497-40BC-B066-83C4C656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4CBA2-B332-475D-8A54-9067F423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EDACF-CC2B-4F24-BC2D-54841712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C7287-8A89-4E73-9734-AC628C26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F9948-A1C4-4F67-B9D4-1E667754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E73E8-1180-4A56-A539-5436BDCC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CDE74-2C68-4294-94A5-E41CEFB8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D87F9-86FA-4B88-993B-54EB31D1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CFA7C-F107-4176-95AA-309287F2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8B182-BBB2-45A2-A577-891CFDC7B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7EDAC-608D-4D5C-961D-08142FA88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A4C2-5299-4FE2-A9C8-71BA3CA1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6BB73-3C0E-4607-B480-4885E369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8880F-F661-4450-8531-E194B78C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43EF2-7968-471D-8911-8793D0C0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CFC12-FC4E-4AC4-B227-14A27D0B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9FBFA-69EC-40E0-A8AB-76228B1F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81099-040C-4075-81BB-E916A60C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39545-D796-46EF-9D41-7EE4261A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46AFE-5326-4ADE-BA4B-BD7C7217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6081A-4686-4648-944F-12127316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CFD6E-1557-4318-AD58-056C20983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86F9-FE99-4CCC-A26B-6F76E9DC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AD88D-8C49-47A3-8180-90B08911B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474E4-6EFD-40D3-8C57-EAF934565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AE2D0-6778-40F9-9C10-9AC53AC1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1FEC1-F553-4CD6-BC1E-5D2DF368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F49DE-A367-451E-8404-DA9F2FE5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12052-3978-4F46-BB05-847DA400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FF09C-B775-4F3D-BF26-A1D99984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51B4D-E08E-42D0-AF8E-6461D679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76C92-2592-4FA0-9C78-D680B1B5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0E087-EAE3-4FE5-A043-8A2A55CF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3B6C-A357-428A-B5CB-4502BB0E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AE452-884D-46C2-B1C4-DADBF58D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D3E59-00A1-4F6E-8305-5256FD599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2CD1D-FB01-4EAE-8E5F-7AF6D5C0C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9FB02-2224-49FE-8B9E-58676BCDE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A7919-5F7F-49B6-BE10-AF2E731D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78934-353A-4E13-AE18-42A30BDE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29FC6-23AE-4FF9-A31D-BB09BDCE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3C5C5-AB48-4D94-BA6A-8747F659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1D2EA-D6B0-48E3-8A9D-296CD869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82D22-A195-4436-A3E1-AB8A06CB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93E2-E1F8-4F73-AD77-78B128C9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D796A-3EAD-4FF2-B120-30715E18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BC904-355D-4661-AF0C-8A27D18D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88F11-DA5D-4CDE-B7C7-C4278C03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C8FA7-551A-4F1D-B4FC-2130245B0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92530-D2EF-43C9-BB7F-B2A4DF721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1258-D39F-4A4C-8357-76E54315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70A6-F30C-4D55-AEEB-A94C2BE5FBC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B916-AAD3-433B-8B00-7519C53930B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3AE6-F490-44B0-BA5D-AD7A0B7C31E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D27A-88BD-43AB-86D3-6634CE0E2DF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509C-6179-455D-A315-12A83E14660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9479-5A8F-4DAB-8952-45CC1A3B3C7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FBE2-2A27-4F89-BAC5-F397016285E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1285560"/>
            <a:ext cx="740700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572314"/>
                </a:solidFill>
                <a:latin typeface="Bookman Old Style"/>
              </a:rPr>
              <a:t>Обобщающий урок по теме</a:t>
            </a: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572314"/>
                </a:solidFill>
                <a:latin typeface="Bookman Old Style"/>
              </a:rPr>
              <a:t>«Электрические явления»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Box 1"/>
          <p:cNvSpPr/>
          <p:nvPr/>
        </p:nvSpPr>
        <p:spPr>
          <a:xfrm>
            <a:off x="1143000" y="428760"/>
            <a:ext cx="77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Bookman Old Style"/>
              </a:rPr>
              <a:t>амперметр вольтметр,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Bookman Old Style"/>
              </a:rPr>
              <a:t>термометр, 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Bookman Old Style"/>
              </a:rPr>
              <a:t>гальванометр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Box 3"/>
          <p:cNvSpPr/>
          <p:nvPr/>
        </p:nvSpPr>
        <p:spPr>
          <a:xfrm>
            <a:off x="1214280" y="428760"/>
            <a:ext cx="72154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Bookman Old Style"/>
              </a:rPr>
              <a:t>Вольта А.</a:t>
            </a:r>
            <a:endParaRPr b="0" lang="en-US" sz="8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Bookman Old Style"/>
              </a:rPr>
              <a:t>Джоуль Д.</a:t>
            </a:r>
            <a:endParaRPr b="0" lang="en-US" sz="8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Bookman Old Style"/>
              </a:rPr>
              <a:t>Гагарин Ю.</a:t>
            </a:r>
            <a:endParaRPr b="0" lang="en-US" sz="8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Bookman Old Style"/>
              </a:rPr>
              <a:t>Ленц Э.</a:t>
            </a:r>
            <a:endParaRPr b="0" lang="en-US" sz="8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1"/>
          <p:cNvSpPr/>
          <p:nvPr/>
        </p:nvSpPr>
        <p:spPr>
          <a:xfrm>
            <a:off x="1000080" y="285840"/>
            <a:ext cx="7429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Bookman Old Style"/>
              </a:rPr>
              <a:t>ключ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Bookman Old Style"/>
              </a:rPr>
              <a:t>провода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Bookman Old Style"/>
              </a:rPr>
              <a:t>источник тока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Bookman Old Style"/>
              </a:rPr>
              <a:t>амперметр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Box 1"/>
          <p:cNvSpPr/>
          <p:nvPr/>
        </p:nvSpPr>
        <p:spPr>
          <a:xfrm>
            <a:off x="1071720" y="785880"/>
            <a:ext cx="70722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Bookman Old Style"/>
              </a:rPr>
              <a:t>килограмм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Bookman Old Style"/>
              </a:rPr>
              <a:t>ом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Bookman Old Style"/>
              </a:rPr>
              <a:t>вольт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Bookman Old Style"/>
              </a:rPr>
              <a:t>ампер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Box 1"/>
          <p:cNvSpPr/>
          <p:nvPr/>
        </p:nvSpPr>
        <p:spPr>
          <a:xfrm>
            <a:off x="1143000" y="642960"/>
            <a:ext cx="60721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Bookman Old Style"/>
              </a:rPr>
              <a:t>кило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Bookman Old Style"/>
              </a:rPr>
              <a:t>мега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Bookman Old Style"/>
              </a:rPr>
              <a:t>милли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Bookman Old Style"/>
              </a:rPr>
              <a:t>гига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Прямоугольник 1" descr=""/>
          <p:cNvPicPr/>
          <p:nvPr/>
        </p:nvPicPr>
        <p:blipFill>
          <a:blip r:embed="rId1"/>
          <a:stretch/>
        </p:blipFill>
        <p:spPr>
          <a:xfrm>
            <a:off x="920880" y="1243080"/>
            <a:ext cx="75466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Box 1"/>
          <p:cNvSpPr/>
          <p:nvPr/>
        </p:nvSpPr>
        <p:spPr>
          <a:xfrm>
            <a:off x="571680" y="642960"/>
            <a:ext cx="85723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Bookman Old Style"/>
              </a:rPr>
              <a:t>Электрическим током называется упорядоченное движение нейтральных частиц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Box 1"/>
          <p:cNvSpPr/>
          <p:nvPr/>
        </p:nvSpPr>
        <p:spPr>
          <a:xfrm>
            <a:off x="1000080" y="0"/>
            <a:ext cx="8143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Bookman Old Style"/>
              </a:rPr>
              <a:t>Количество теплоты, выделяемое проводником с током, равно произведению квадрата силы тока, напряжения и времени.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1"/>
          <p:cNvSpPr/>
          <p:nvPr/>
        </p:nvSpPr>
        <p:spPr>
          <a:xfrm>
            <a:off x="1071720" y="500040"/>
            <a:ext cx="79293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Bookman Old Style"/>
              </a:rPr>
              <a:t>Напряжение на концах участка цепи прямо пропорционально силе тока и обратно пропорционально сопротивлению проводника.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1"/>
          <p:cNvSpPr/>
          <p:nvPr/>
        </p:nvSpPr>
        <p:spPr>
          <a:xfrm>
            <a:off x="1000080" y="500040"/>
            <a:ext cx="78580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Удельное сопротивление проводника прямо пропорционально длине проводника, его сопротивлению и обратно пропорционально площади поперечного сечения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1"/>
          <p:cNvSpPr/>
          <p:nvPr/>
        </p:nvSpPr>
        <p:spPr>
          <a:xfrm>
            <a:off x="1000080" y="571680"/>
            <a:ext cx="81439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00"/>
                </a:solidFill>
                <a:uFillTx/>
                <a:latin typeface="Corbel"/>
              </a:rPr>
              <a:t>Цели урока: 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повторение основных формул и понятий,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подготовка к контрольной работе,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выявление пробелов в знаниях по теме 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Прямоугольник 1" descr=""/>
          <p:cNvPicPr/>
          <p:nvPr/>
        </p:nvPicPr>
        <p:blipFill>
          <a:blip r:embed="rId1"/>
          <a:stretch/>
        </p:blipFill>
        <p:spPr>
          <a:xfrm>
            <a:off x="1504800" y="396720"/>
            <a:ext cx="7175520" cy="41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1143000" y="2071800"/>
            <a:ext cx="771516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Прямоугольник 1" descr=""/>
          <p:cNvPicPr/>
          <p:nvPr/>
        </p:nvPicPr>
        <p:blipFill>
          <a:blip r:embed="rId1"/>
          <a:stretch/>
        </p:blipFill>
        <p:spPr>
          <a:xfrm>
            <a:off x="334800" y="1487520"/>
            <a:ext cx="921096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1"/>
          <p:cNvSpPr/>
          <p:nvPr/>
        </p:nvSpPr>
        <p:spPr>
          <a:xfrm>
            <a:off x="1071720" y="357120"/>
            <a:ext cx="75722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В Киеве 1 июля 1892 года стал ездить трамвай по линии Подол - Крещатик. Двигатель этого трамвая был рассчитан на силу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тока 20 А, при напряжении 0,5 кВ. Какой мощности был двигатель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Box 1"/>
          <p:cNvSpPr/>
          <p:nvPr/>
        </p:nvSpPr>
        <p:spPr>
          <a:xfrm>
            <a:off x="1285920" y="357120"/>
            <a:ext cx="7643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Первый в мире электроход (корабль с электрическим двигателем) конструкции русского академика Якоби вышел в плавание по Неве 13 сентября 1838г. Его мощность была 180 кВт. Какую работу совершил электродвигатель за 3 часа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В 1887г. Пермский завод построил по чертежам русского инженера Славянова динамо-машину, мощностью 18 кВт. Она могла давать ток силой 300А. Какое напряжение было на её зажимах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Прямоугольник 1" descr=""/>
          <p:cNvPicPr/>
          <p:nvPr/>
        </p:nvPicPr>
        <p:blipFill>
          <a:blip r:embed="rId1"/>
          <a:stretch/>
        </p:blipFill>
        <p:spPr>
          <a:xfrm>
            <a:off x="493560" y="103320"/>
            <a:ext cx="897912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"/>
          <p:cNvPicPr/>
          <p:nvPr/>
        </p:nvPicPr>
        <p:blipFill>
          <a:blip r:embed="rId1">
            <a:lum contrast="30000"/>
          </a:blip>
          <a:srcRect l="0" t="0" r="0" b="2147"/>
          <a:stretch/>
        </p:blipFill>
        <p:spPr>
          <a:xfrm>
            <a:off x="2643120" y="60480"/>
            <a:ext cx="4714920" cy="65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"/>
          <p:cNvPicPr/>
          <p:nvPr/>
        </p:nvPicPr>
        <p:blipFill>
          <a:blip r:embed="rId1">
            <a:lum contrast="40000"/>
          </a:blip>
          <a:srcRect l="1514" t="5677" r="11855" b="0"/>
          <a:stretch/>
        </p:blipFill>
        <p:spPr>
          <a:xfrm>
            <a:off x="1146240" y="714240"/>
            <a:ext cx="7997760" cy="4122720"/>
          </a:xfrm>
          <a:prstGeom prst="rect">
            <a:avLst/>
          </a:prstGeom>
          <a:ln w="0">
            <a:noFill/>
          </a:ln>
        </p:spPr>
      </p:pic>
      <p:sp>
        <p:nvSpPr>
          <p:cNvPr id="350" name="TextBox 2"/>
          <p:cNvSpPr/>
          <p:nvPr/>
        </p:nvSpPr>
        <p:spPr>
          <a:xfrm>
            <a:off x="6286680" y="2714760"/>
            <a:ext cx="214308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TextBox 3"/>
          <p:cNvSpPr/>
          <p:nvPr/>
        </p:nvSpPr>
        <p:spPr>
          <a:xfrm>
            <a:off x="1143000" y="4643280"/>
            <a:ext cx="78588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TextBox 4"/>
          <p:cNvSpPr/>
          <p:nvPr/>
        </p:nvSpPr>
        <p:spPr>
          <a:xfrm>
            <a:off x="1500120" y="4786200"/>
            <a:ext cx="721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В больнице в комнате дежурной сестры установлен электрический звонок. Какая из схем даёт возможность включать звонок больным, лежащим в трёх разных палатах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Прямоугольник 2" descr=""/>
          <p:cNvPicPr/>
          <p:nvPr/>
        </p:nvPicPr>
        <p:blipFill>
          <a:blip r:embed="rId1"/>
          <a:stretch/>
        </p:blipFill>
        <p:spPr>
          <a:xfrm>
            <a:off x="1639800" y="1316160"/>
            <a:ext cx="652320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1041480" y="285840"/>
            <a:ext cx="3316320" cy="3689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" descr=""/>
          <p:cNvPicPr/>
          <p:nvPr/>
        </p:nvPicPr>
        <p:blipFill>
          <a:blip r:embed="rId2"/>
          <a:stretch/>
        </p:blipFill>
        <p:spPr>
          <a:xfrm>
            <a:off x="4786200" y="2286000"/>
            <a:ext cx="41468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extBox 1" descr=""/>
          <p:cNvPicPr/>
          <p:nvPr/>
        </p:nvPicPr>
        <p:blipFill>
          <a:blip r:embed="rId1"/>
          <a:stretch/>
        </p:blipFill>
        <p:spPr>
          <a:xfrm>
            <a:off x="719280" y="1847880"/>
            <a:ext cx="7845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"/>
          <p:cNvPicPr/>
          <p:nvPr/>
        </p:nvPicPr>
        <p:blipFill>
          <a:blip r:embed="rId1">
            <a:grayscl/>
            <a:lum contrast="20000"/>
          </a:blip>
          <a:stretch/>
        </p:blipFill>
        <p:spPr>
          <a:xfrm>
            <a:off x="428760" y="393840"/>
            <a:ext cx="3786120" cy="5286240"/>
          </a:xfrm>
          <a:prstGeom prst="rect">
            <a:avLst/>
          </a:prstGeom>
          <a:ln w="0">
            <a:noFill/>
          </a:ln>
        </p:spPr>
      </p:pic>
      <p:sp>
        <p:nvSpPr>
          <p:cNvPr id="322" name="TextBox 2"/>
          <p:cNvSpPr/>
          <p:nvPr/>
        </p:nvSpPr>
        <p:spPr>
          <a:xfrm>
            <a:off x="4143240" y="500040"/>
            <a:ext cx="428652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Андре Мари Ампер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Французский физик, математик и химик. Занимался электродинамикой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обнаружил влияние  магнитного поля на проводник с током, разработал теорию магнетизма. К его изобретениям относятся  коммутатор и электромагнитный телеграф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28760" y="466560"/>
            <a:ext cx="4151160" cy="5677200"/>
          </a:xfrm>
          <a:prstGeom prst="rect">
            <a:avLst/>
          </a:prstGeom>
          <a:ln w="0">
            <a:noFill/>
          </a:ln>
        </p:spPr>
      </p:pic>
      <p:sp>
        <p:nvSpPr>
          <p:cNvPr id="324" name="TextBox 2"/>
          <p:cNvSpPr/>
          <p:nvPr/>
        </p:nvSpPr>
        <p:spPr>
          <a:xfrm>
            <a:off x="4857840" y="285840"/>
            <a:ext cx="4000320" cy="59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Алессандро Вольт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тальянский физик, изобрететель источника постоянного электрического тока. Открыл взаимную электризацию разнородных металлов при их контакте, построил конденсатор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увствительный электроскоп, электрометр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писал проект телеграфа. Исследовал тепловое расширение воздуха, наблюдал диффузию, установил проводимость пламен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3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14200" y="255600"/>
            <a:ext cx="4891320" cy="5816520"/>
          </a:xfrm>
          <a:prstGeom prst="rect">
            <a:avLst/>
          </a:prstGeom>
          <a:ln w="0">
            <a:noFill/>
          </a:ln>
        </p:spPr>
      </p:pic>
      <p:sp>
        <p:nvSpPr>
          <p:cNvPr id="326" name="TextBox 2"/>
          <p:cNvSpPr/>
          <p:nvPr/>
        </p:nvSpPr>
        <p:spPr>
          <a:xfrm>
            <a:off x="4929120" y="785880"/>
            <a:ext cx="4000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Bookman Old Style"/>
              </a:rPr>
              <a:t>Георг Симон Ом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Немецкий физик, вёл исследования в области электричества, оптики, акустики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кристаллооптики. Открыл основной закон электрической цепи, связывающий между собой  силу тока, напряжение и сопротивлени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3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428760" y="285840"/>
            <a:ext cx="4741560" cy="5911920"/>
          </a:xfrm>
          <a:prstGeom prst="rect">
            <a:avLst/>
          </a:prstGeom>
          <a:ln w="0">
            <a:noFill/>
          </a:ln>
        </p:spPr>
      </p:pic>
      <p:sp>
        <p:nvSpPr>
          <p:cNvPr id="328" name="TextBox 2"/>
          <p:cNvSpPr/>
          <p:nvPr/>
        </p:nvSpPr>
        <p:spPr>
          <a:xfrm>
            <a:off x="4857840" y="285840"/>
            <a:ext cx="42861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Шарль Огюстен Кулон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Французский физик и инженер, работал над изучением электричества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магнетизма, прикладной механики. Им были сформулированы законы трения, качения и скольжения. Построил прибор для измерения силы, доказал основной закон электростатики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сконструировал магнитометр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3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122400" y="433440"/>
            <a:ext cx="4994280" cy="6067440"/>
          </a:xfrm>
          <a:prstGeom prst="rect">
            <a:avLst/>
          </a:prstGeom>
          <a:ln w="0">
            <a:noFill/>
          </a:ln>
        </p:spPr>
      </p:pic>
      <p:sp>
        <p:nvSpPr>
          <p:cNvPr id="330" name="TextBox 2"/>
          <p:cNvSpPr/>
          <p:nvPr/>
        </p:nvSpPr>
        <p:spPr>
          <a:xfrm>
            <a:off x="5072040" y="214200"/>
            <a:ext cx="40719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Джеймс Прескотт Джоул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Английский физик, первооткрыватель закона сохранения энергии. Работал в области электромагнетизма, теплоты, теории газов. Определил зависимость количества теплоты, выделяемого в проводнике при прохождении через него электрического тока, от величины тока и сопротивления проводника. Доказал, что теплоту можно получить за счёт механической работы. Подсчитал скорость движения молекул газ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3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Прямоугольник 1" descr=""/>
          <p:cNvPicPr/>
          <p:nvPr/>
        </p:nvPicPr>
        <p:blipFill>
          <a:blip r:embed="rId1"/>
          <a:stretch/>
        </p:blipFill>
        <p:spPr>
          <a:xfrm>
            <a:off x="785880" y="1176480"/>
            <a:ext cx="799776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6:20:51Z</dcterms:created>
  <dc:creator>Дом</dc:creator>
  <dc:description/>
  <dc:language>en-US</dc:language>
  <cp:lastModifiedBy>Дом</cp:lastModifiedBy>
  <dcterms:modified xsi:type="dcterms:W3CDTF">2009-05-13T13:39:17Z</dcterms:modified>
  <cp:revision>21</cp:revision>
  <dc:subject/>
  <dc:title>Обобщающий урок по теме «Электрические явления»</dc:title>
</cp:coreProperties>
</file>