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24C6-3D20-4BFE-8B68-7E2C09A4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2C4-C4F4-4F5A-91E4-1A8EA3C6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268-B72D-4494-8CDE-15EE4876B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3ED-6A38-4E2B-B08F-58AFBF1E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D85-6298-4851-A8D6-FEDE90A3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647B-2B12-484B-B2B8-91CE4488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1CB-42BD-4078-B137-39C43749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B673-C747-42EF-BFF6-EF844432C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783-2909-46EC-9175-F59E246F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893-9B08-460E-8306-F01A3CC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EC48-9C48-4012-976C-2F58576C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7D5-C8E5-42F7-A791-68F81220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0E40-3DBE-4C15-859D-1D0FC9541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1125360"/>
            <a:ext cx="5688360" cy="446436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1125360"/>
            <a:ext cx="0" cy="345600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907640" y="4508640"/>
            <a:ext cx="1079640" cy="10810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45086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45086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5086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987640" y="4508640"/>
            <a:ext cx="4608720" cy="7272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48360" y="4508640"/>
            <a:ext cx="0" cy="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1125360"/>
            <a:ext cx="71640" cy="7020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4797360"/>
            <a:ext cx="73080" cy="7164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7524720" y="4508640"/>
            <a:ext cx="71640" cy="7272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916360" y="765000"/>
            <a:ext cx="16020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740720" y="4292640"/>
            <a:ext cx="2160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268360" y="4437000"/>
            <a:ext cx="30492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7:45:40Z</dcterms:created>
  <dc:creator>Пользователь</dc:creator>
  <dc:description/>
  <dc:language>en-US</dc:language>
  <cp:lastModifiedBy>Пользователь</cp:lastModifiedBy>
  <dcterms:modified xsi:type="dcterms:W3CDTF">2006-11-11T18:08:27Z</dcterms:modified>
  <cp:revision>3</cp:revision>
  <dc:subject/>
  <dc:title>Слайд 1</dc:title>
</cp:coreProperties>
</file>