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E034-303C-41E3-B214-12AFEF08C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6CD3-B843-46D0-B84B-597850B0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1D78-217A-4442-A13F-363BA8BB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401-103F-4A71-B68A-C82BEF00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278-FA74-41B7-8C05-49320B76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78C-EB21-438B-AA94-F3C653DA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703-06BC-4AE3-A26B-0E344649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A49-5D09-4EC5-BB04-3C70A2BD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0EB2-EC73-45F0-9970-F94DB9FB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1A2-8E1F-4895-B1A0-B6DD0DBF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D80B-3FAA-48CD-AA38-94656A28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E861-27DD-42F1-B28D-3DA7DAAB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EF4E-05F2-4412-B49D-A6FAF0250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11280" y="1484280"/>
            <a:ext cx="4681800" cy="4105440"/>
          </a:xfrm>
          <a:prstGeom prst="cube">
            <a:avLst>
              <a:gd name="adj" fmla="val 25000"/>
            </a:avLst>
          </a:prstGeom>
          <a:noFill/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3347640" y="1484280"/>
            <a:ext cx="71640" cy="309708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2411280" y="4581000"/>
            <a:ext cx="936720" cy="100836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4581360"/>
            <a:ext cx="3744720" cy="0"/>
          </a:xfrm>
          <a:prstGeom prst="line">
            <a:avLst/>
          </a:prstGeom>
          <a:ln w="2844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2340000" y="5516640"/>
            <a:ext cx="71280" cy="7308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20000" y="4508640"/>
            <a:ext cx="73080" cy="144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48000" y="3573360"/>
            <a:ext cx="71640" cy="71640"/>
          </a:xfrm>
          <a:prstGeom prst="ellipse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492360" y="3429000"/>
            <a:ext cx="2876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B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308720" y="4292640"/>
            <a:ext cx="21600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79640" y="5229360"/>
            <a:ext cx="2937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00:17Z</dcterms:created>
  <dc:creator>Пользователь</dc:creator>
  <dc:description/>
  <dc:language>en-US</dc:language>
  <cp:lastModifiedBy>павел</cp:lastModifiedBy>
  <dcterms:modified xsi:type="dcterms:W3CDTF">2006-11-21T14:49:18Z</dcterms:modified>
  <cp:revision>3</cp:revision>
  <dc:subject/>
  <dc:title>Слайд 1</dc:title>
</cp:coreProperties>
</file>