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98E1-899B-4C93-9577-ABA16DEC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2DE9-E767-4390-8707-AFD9261D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2428-CBBF-42C3-BD91-1DD38A21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10B6-1FAE-49B3-BBA8-30C1A2794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56F-E784-452D-8DD2-483C46C6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875-6A7C-4A72-8CDD-D1B3C69A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0DAB-1FC0-41BA-A5A3-0AD6BF4C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59B-1410-444B-A27F-F355253B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B8AB-52C2-4883-8305-EFE077B9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E1F1-6735-4311-B713-F5C62841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87B-0FBD-4A4A-A81A-88284CBE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F50-4821-42AF-BC60-CFB1AAA3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1680-FE09-4270-B5CB-EFEE68701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16360" y="1700280"/>
            <a:ext cx="3743280" cy="331308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8360" y="1700280"/>
            <a:ext cx="0" cy="252072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916360" y="4221000"/>
            <a:ext cx="792000" cy="792360"/>
          </a:xfrm>
          <a:prstGeom prst="line">
            <a:avLst/>
          </a:prstGeom>
          <a:ln w="284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08360" y="4221000"/>
            <a:ext cx="2879640" cy="0"/>
          </a:xfrm>
          <a:prstGeom prst="line">
            <a:avLst/>
          </a:prstGeom>
          <a:ln w="2844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708000" y="170028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356000" y="4941720"/>
            <a:ext cx="144720" cy="1429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56360" y="450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1628640"/>
            <a:ext cx="14472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635280" y="1197000"/>
            <a:ext cx="2160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140360" y="5084640"/>
            <a:ext cx="215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300720" y="4508640"/>
            <a:ext cx="2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8:17:20Z</dcterms:created>
  <dc:creator>Пользователь</dc:creator>
  <dc:description/>
  <dc:language>en-US</dc:language>
  <cp:lastModifiedBy>Пользователь</cp:lastModifiedBy>
  <dcterms:modified xsi:type="dcterms:W3CDTF">2006-11-11T18:20:49Z</dcterms:modified>
  <cp:revision>2</cp:revision>
  <dc:subject/>
  <dc:title>Слайд 1</dc:title>
</cp:coreProperties>
</file>