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5.wmf" ContentType="image/x-wm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3D0-B662-49DE-9BDB-3C2343CB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CA5-7E35-406A-B32E-62A4EE3F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B09-DB43-4BE1-85CC-4EFD1730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C06-2818-4996-83AF-80F9403E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E56-E9F5-42F0-866F-0B8F9A4A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155-D130-41C9-94AE-F0A4FF95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152-91F2-44DA-AE9C-9613D612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C27-28B2-455B-9918-6EC9D441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E33-0B07-48DC-BFD9-12747B91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20F-564D-43BD-AF4E-44FD3E7F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FBB-359E-4BDE-A1E5-C6019B8B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FE6-C423-4902-9608-0E8C84C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FB8E-1079-48BB-9489-18EB95961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549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13000"/>
            <a:ext cx="8893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етоды решения логарифмических уравнен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669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логарифмических уравн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определению логарифм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тенц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новой переменн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гарифмирование обеих частей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едение к одному основанию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ункционально-графический мето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ить уравнение:           = 3 - 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76360" y="1685880"/>
          <a:ext cx="6335640" cy="445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685880"/>
                    <a:ext cx="63356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148360" y="404640"/>
                <a:ext cx="15843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724360" y="2637000"/>
                <a:ext cx="151164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781000"/>
            <a:ext cx="88930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«Правильному применению методов можно научиться,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только применяя их на различных примерах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тский историк математики Г. Г. Цей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12970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ложите метод решения уравн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520 (в)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2)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№ 514 (в)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3)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№ 522 (а)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4) 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№ 519 (в)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5)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№ 509(в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6)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№ 523(а)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203640" y="1803240"/>
                <a:ext cx="42498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48000" y="2565360"/>
                <a:ext cx="3382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84400" y="3216240"/>
                <a:ext cx="3103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03640" y="4221000"/>
                <a:ext cx="4248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276720" y="4724280"/>
                <a:ext cx="30240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76720" y="5737320"/>
                <a:ext cx="39592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35216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 есть больше всего на св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 мудре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Врем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 приятне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Достичь желаемого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ле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516720" y="2637000"/>
            <a:ext cx="15336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«Изобретение логарифмов, сократив работу астронома, продлило ему жизнь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32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ранцузский матема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астрон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. С. Лап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При каких значениях х имеет смысл функц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472000" y="1700280"/>
                <a:ext cx="3672000" cy="424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187280" y="1413000"/>
                <a:ext cx="30974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71640" y="2492280"/>
                <a:ext cx="345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00000" y="3500280"/>
                <a:ext cx="4537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71640" y="4508640"/>
                <a:ext cx="26654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&gt;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) х – любое, кроме ну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415200" y="3384720"/>
                <a:ext cx="5047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Совпадают ли графики функци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у = х   и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)                     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Ответ: а) нет;  б) 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419640" y="1484280"/>
                <a:ext cx="2232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187280" y="2637000"/>
                <a:ext cx="25927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932360" y="2492280"/>
                <a:ext cx="3816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Перепишите равенства в виде логарифмических равен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Отве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9640" y="1700280"/>
                <a:ext cx="351180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0" y="2060640"/>
                <a:ext cx="4230720" cy="39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1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4) Запишите числа в виде логарифмов с основанием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4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 - 2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67320" y="2205000"/>
                <a:ext cx="347184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1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Вычисли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64000" y="35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Ответ: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68360" y="1557360"/>
                <a:ext cx="679932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4643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«Уравнение – это золотой ключ, открывающий все математические сезамы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84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временный польский математик С. Ков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9429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5:57:07Z</dcterms:created>
  <dc:creator>user</dc:creator>
  <dc:description/>
  <dc:language>en-US</dc:language>
  <cp:lastModifiedBy>Vlad</cp:lastModifiedBy>
  <dcterms:modified xsi:type="dcterms:W3CDTF">2010-08-06T11:20:59Z</dcterms:modified>
  <cp:revision>18</cp:revision>
  <dc:subject/>
  <dc:title>«Изобретение логарифмов, сократив работу астронома, продлило ему жизнь» </dc:title>
</cp:coreProperties>
</file>