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FA9-1A86-4791-94A4-5A60A83B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C3A1-4214-4C57-8D79-49D02EE3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8F2-09C1-48BA-BB88-10515D23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880-B05F-4588-A127-18201D0E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E30-A6F1-404F-88C6-46E7D46E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B5A7-F9B5-4963-9EE0-31303CAA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16A-995D-46E6-8777-BCA404E0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6AC-34AE-41C2-847F-B12D083A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427-22BF-4B60-8546-DA490BC3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E76-BDA3-4D5B-A03B-7AA77D1F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5D8-AEDF-46AB-BB34-2A3AD430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81C0-29D2-43EB-92EB-07119FD9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755A-456B-47B1-9A8D-0D9C6F123C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56000" y="907920"/>
            <a:ext cx="4962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907920"/>
            <a:ext cx="457200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460836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60400" y="1628640"/>
            <a:ext cx="7423200" cy="4392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404640"/>
            <a:ext cx="77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тоит ли продолжать?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93800" y="1628640"/>
            <a:ext cx="57564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1844280"/>
            <a:ext cx="83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Прежде чем начать писать, я задаю себе три вопроса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очу написать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написать и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ля чег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написать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.Горь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5432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23955" t="15699" r="10556" b="19833"/>
          <a:stretch/>
        </p:blipFill>
        <p:spPr>
          <a:xfrm>
            <a:off x="1692360" y="189000"/>
            <a:ext cx="6033960" cy="4525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23955" t="15699" r="10556" b="19833"/>
          <a:stretch/>
        </p:blipFill>
        <p:spPr>
          <a:xfrm>
            <a:off x="755640" y="260280"/>
            <a:ext cx="6033960" cy="4525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166760" y="4960800"/>
            <a:ext cx="686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16480" y="4916520"/>
            <a:ext cx="667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считаю(думаю, уверен, не сомневаюсь, знаю), ч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337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5694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04960" y="547560"/>
            <a:ext cx="3932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47640" y="727200"/>
            <a:ext cx="640908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43280" y="90792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3:42:35Z</dcterms:created>
  <dc:creator>Пользователь</dc:creator>
  <dc:description/>
  <dc:language>en-US</dc:language>
  <cp:lastModifiedBy>1</cp:lastModifiedBy>
  <dcterms:modified xsi:type="dcterms:W3CDTF">2010-01-27T19:21:08Z</dcterms:modified>
  <cp:revision>2</cp:revision>
  <dc:subject/>
  <dc:title>Слайд 1</dc:title>
</cp:coreProperties>
</file>