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E86-93B1-49B9-9036-E7E0FAD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15C-0F35-4AEB-8B87-1DECD95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EEC-2220-4A43-92F6-EC173835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454-61BE-40FF-8046-020874CB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C4E-3739-4A6E-8519-7CE6A6FF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8B9-1A81-4B7E-AC8C-3E6866FF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984-791E-4554-989D-1519001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747-41F8-420E-A8BC-6E04A8F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E40-2508-4367-9A0C-790A01AE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651-7A8D-4D07-9905-E53BB81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6B3-AD75-440F-97CD-2CE3A91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491-BE6E-4789-AEE2-B0578B2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664-88E8-4908-A822-91524ADEC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962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572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608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0400" y="1628640"/>
            <a:ext cx="7423200" cy="439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404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оит ли продолжать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3800" y="1628640"/>
            <a:ext cx="57564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8442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режде чем начать писать, я задаю себе три вопроса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чу написать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писать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че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писать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543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3955" t="15699" r="10556" b="19833"/>
          <a:stretch/>
        </p:blipFill>
        <p:spPr>
          <a:xfrm>
            <a:off x="1692360" y="189000"/>
            <a:ext cx="603396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3955" t="15699" r="10556" b="19833"/>
          <a:stretch/>
        </p:blipFill>
        <p:spPr>
          <a:xfrm>
            <a:off x="755640" y="260280"/>
            <a:ext cx="603396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66760" y="4960800"/>
            <a:ext cx="68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6480" y="4916520"/>
            <a:ext cx="667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считаю(думаю, уверен, не сомневаюсь, знаю)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33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569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04960" y="547560"/>
            <a:ext cx="3932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727200"/>
            <a:ext cx="64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90792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42:35Z</dcterms:created>
  <dc:creator>Пользователь</dc:creator>
  <dc:description/>
  <dc:language>en-US</dc:language>
  <cp:lastModifiedBy>1</cp:lastModifiedBy>
  <dcterms:modified xsi:type="dcterms:W3CDTF">2010-01-27T19:21:08Z</dcterms:modified>
  <cp:revision>2</cp:revision>
  <dc:subject/>
  <dc:title>Слайд 1</dc:title>
</cp:coreProperties>
</file>