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D2E-00C9-44AA-8E8F-D265CCBB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13E-5850-4E32-A091-AAA8CB4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4A3-0283-4D91-8309-F624C0DC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29F-AA05-4E6E-AC41-5B23E64E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CD50-E3C4-46B5-837D-83C703E5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CFE-7094-491E-A93E-3EDBE9C6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537-D057-4159-BA54-6EF239B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B11D-3BD4-4B7E-975A-1AB0986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6AFC-4E97-40BC-9E5F-E2E7C18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102-7E92-4755-A1C5-797CD19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22EB-9528-413A-AC92-ECC1283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195-E04D-40A5-80C0-08D4DD2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B68-F574-42A7-BC5F-2F43C0E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B8E4-6D61-4174-86F0-4E5BA63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9FC-8C6C-4F3F-867D-3A3C6AE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00A-9D2C-4D54-B016-739DCD40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708-C38C-4EEF-AD34-CC580E5D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B4D-0BF6-438D-B00F-FA82B41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ED0-E175-468F-8A13-45E05321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B2D-D0A4-427D-9FCC-3B701C5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C7E-7E5F-489F-A4E8-18298C5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3B7-A1DC-4150-BFE4-BAD77F8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3C8-DAEC-4B03-A4BA-C20BDF8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1E2-8402-4FA1-B30F-ABA32F8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B29-EC19-4589-A43B-B56BBE55D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7513-83A3-4609-A6B2-EBA50D2C7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тгадайте тему уро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914400"/>
          <a:ext cx="8305200" cy="5637600"/>
        </p:xfrm>
        <a:graphic>
          <a:graphicData uri="http://schemas.openxmlformats.org/drawingml/2006/table">
            <a:tbl>
              <a:tblPr/>
              <a:tblGrid>
                <a:gridCol w="1549080"/>
                <a:gridCol w="844200"/>
                <a:gridCol w="844560"/>
                <a:gridCol w="844560"/>
                <a:gridCol w="844560"/>
                <a:gridCol w="844200"/>
                <a:gridCol w="844560"/>
                <a:gridCol w="844560"/>
                <a:gridCol w="844920"/>
              </a:tblGrid>
              <a:tr h="8056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русском языке имею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514368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Игра «Объясни»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 Звезд с неба не схв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) Попав впрос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) Убив двух зай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) Прогоняв лоды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) Попав в переп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) Пустив козла в о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) Вставив палки в ко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не достав рукой до не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попав в какую-нибудь расщели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результат удачной ох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бегать и выгонять лоды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заклеить или зашить что-либо в переплет книги или журн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открыв козлу туда кали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сделать тормозное устройство для ко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449568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Что нового вы узнали о деепричастии?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епричастие может переходить в другие части речи, в частности, в наречие.  В этом случае оно не выделяется запяты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яя работа : подготовиться к контрольному диктанту по теме «Деепричастие», повторить все виды ра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72040" y="22096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обираем» (формулируем) тезис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епричастие может перейти в наречие, если у него утрачивается значение добавочного действия и появляется признак действия или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12571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лиц - 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иц–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озможен ли переход одной части речи в другую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и каких условиях одна часть речи переходит в другую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то означает деепричас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Что обозначает наречие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равните два предложения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Лежа на диване, Вася читал книгу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Лежал и читал – значение действия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Лежа хлеба не добудешь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Лежа обозначает «без труда», то есть признак действия. Значит, здесь деепричастие перешло в наречие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ие деепричастия перешли в наречия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ном, в наречие перешли деепричастия, закрепившиеся во фразеологизмах: лежа, сидя, стоя, молча и так да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369576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Игра «Кто, что и как?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я? Царь или дитя? Говорит он не 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ями, крытыми ковром, В санях он … правит,И гонит всех, и д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… с ума свела Такого молодца, –подумала Овц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долго … отступали,  Досадно было, боя жда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, наверное, паша –Говорил он …,–Я отец государю, Вам приказ я отда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Жила царевна припеваючи, с делами, справившис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т милое дит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агнул назад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, опрокинувшись, уп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Игра «Перевертыши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шать …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ичать … дых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чаться … язы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отать … рук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отать … рук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отать … р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удиться … сп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ушать вним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чать, не переста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чаться быс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ть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ть хорош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ть усер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иться усер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495288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Игра «Фразы растерялись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е. Сформулировать верно «растерявшиеся» фразы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апа крепко поругал меня, намылив лоб так, что я надолго запом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бята, пожелав мне ни пуха ни костей, уехали до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шив по-своему, он так и делал, хоть палку на голове те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риехав с флотской службы, Федор казался нам семи пядей в пл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бежав от ребят, он грозил показать нам, где раки ноч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Узнав об обмане товарища, ребята решили вывести его на чистую проруб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олько посмотрев на отца, Мишка струхнул, и его как ураганом сдуло с л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ильно испугавшись, можно сказать: «У меня душа в сердце ушл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рослыв честным человеком, Дмитрий никогда не кривил у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ытно поев и выспавшись, мальчик подумал, что он теперь будет, как сыр в молоке кататься, живя у родственников мате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ыйдя на субботник, люди трудились не покладая лопат, все, от мала до больш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Игра «Кто быстрее?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гда выпьешь воду, вспомни об источнике.2. Друзьям и смерть не страшна, когда они верят друг другу.3. Когда идешь за плохим, плохое и найдешь.4. Если солгал один раз, будешь весь век лгуном.5. Если вытянулся на диване, денег не заработ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Он стоял в надменной позе и свысока смотрел на всех.2. Мы обходим рубежи родных морей и с ветром спорим.3. Когда путешествуешь, приобретаешь много знаний.4. Когда грачи укладываются на ночлег, они шумно кричат.5. Мы подошли ближе к реке, так как желали сделать интересные фот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495288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13T19:49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