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4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12.jpeg" ContentType="image/jpeg"/>
  <Override PartName="/ppt/media/image34.png" ContentType="image/png"/>
  <Override PartName="/ppt/media/image46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567-EF06-4DDC-A79A-8968F57B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A9C-B7F2-40CD-966C-D4F94FC2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625-51A3-43B3-A96D-6B9C4B38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309-FD1E-477C-9B73-78A12D95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9C4-BE08-432D-BAD6-D2C13491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DB4-1792-4293-B16B-47D2F0CA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2A3-FABD-4669-8D92-EAB2456D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E8F-0CE6-4F1E-BD46-74E12D78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59A-FEF2-4644-AC64-A56FD29C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51B-699F-4A31-8BA8-AFDBB028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5A4-04E4-44EF-B5A2-6CD63378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1FA-E333-4113-BC27-9CEBAB90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383B-21F3-4AFA-BD9D-1009D1AE1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9280" y="115920"/>
            <a:ext cx="871380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Arial"/>
              </a:rPr>
              <a:t>«Мы дети и внуки Гайдара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ы к уроку внеклассного чтения в 4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788000" y="2708280"/>
            <a:ext cx="424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СОШ №13 г. Хадыже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шеро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шенко Светла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6381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дыженск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Без имени-4"/>
          <p:cNvPicPr/>
          <p:nvPr/>
        </p:nvPicPr>
        <p:blipFill>
          <a:blip r:embed="rId1"/>
          <a:stretch/>
        </p:blipFill>
        <p:spPr>
          <a:xfrm>
            <a:off x="755640" y="1700280"/>
            <a:ext cx="3305160" cy="4392720"/>
          </a:xfrm>
          <a:prstGeom prst="rect">
            <a:avLst/>
          </a:prstGeom>
          <a:ln w="0">
            <a:noFill/>
          </a:ln>
        </p:spPr>
      </p:pic>
      <p:pic>
        <p:nvPicPr>
          <p:cNvPr id="46" name="01 Chi mai (prima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ae3b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е расска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Без имени-1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0920" y="1628640"/>
            <a:ext cx="313848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492360" y="3500280"/>
            <a:ext cx="5400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й рассказа «Винтовка» Сашка Комаров без должного внимания относился к своему личному оружию, винтовку использовал как подручный материал. При задержании двух белогвардейцев рванул затвор винтовки, а патроны из нее вылетели. От плена Сашку спасло почти чудо – двое телефонистов, которые шли чинить про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Книга"/>
          <p:cNvPicPr/>
          <p:nvPr/>
        </p:nvPicPr>
        <p:blipFill>
          <a:blip r:embed="rId2"/>
          <a:stretch/>
        </p:blipFill>
        <p:spPr>
          <a:xfrm>
            <a:off x="5468760" y="0"/>
            <a:ext cx="3675240" cy="5445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3567240" y="1628640"/>
            <a:ext cx="239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евой прик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ервая 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интов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Без имени-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492360" y="1628640"/>
            <a:ext cx="358920" cy="35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Без имени-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3492360" y="2205000"/>
            <a:ext cx="358920" cy="351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Без имени-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3492360" y="2708280"/>
            <a:ext cx="358920" cy="35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111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3492360" y="1628640"/>
            <a:ext cx="2990880" cy="388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00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6588000" y="1628640"/>
            <a:ext cx="2237040" cy="3876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115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айдар шёл по дорогам войны не просто как солдат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о как зоркий наблюдатель, чуткий художни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485520" y="5568840"/>
            <a:ext cx="21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фронте. 194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586200" y="5518080"/>
            <a:ext cx="20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рта боевых дор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 Гайда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-98640" y="1484280"/>
            <a:ext cx="363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юбимых детских книг т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верный друг реб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н жил, как должен жить боец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умер, как солд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520" y="2924280"/>
            <a:ext cx="354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. Гайдар награжд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ом Отече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йн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и (посмерт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аду принял с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ателя –Тиму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Орден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24000" y="4437000"/>
            <a:ext cx="230796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ои Гайд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3"/>
          <p:cNvPicPr/>
          <p:nvPr/>
        </p:nvPicPr>
        <p:blipFill>
          <a:blip r:embed="rId1"/>
          <a:stretch/>
        </p:blipFill>
        <p:spPr>
          <a:xfrm>
            <a:off x="179280" y="1484280"/>
            <a:ext cx="1635120" cy="194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0"/>
          <p:cNvPicPr/>
          <p:nvPr/>
        </p:nvPicPr>
        <p:blipFill>
          <a:blip r:embed="rId2"/>
          <a:stretch/>
        </p:blipFill>
        <p:spPr>
          <a:xfrm>
            <a:off x="7524720" y="4581360"/>
            <a:ext cx="1522440" cy="194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2"/>
          <p:cNvPicPr/>
          <p:nvPr/>
        </p:nvPicPr>
        <p:blipFill>
          <a:blip r:embed="rId3"/>
          <a:stretch/>
        </p:blipFill>
        <p:spPr>
          <a:xfrm>
            <a:off x="4849920" y="4581360"/>
            <a:ext cx="1369800" cy="194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ез имени-2"/>
          <p:cNvPicPr/>
          <p:nvPr/>
        </p:nvPicPr>
        <p:blipFill>
          <a:blip r:embed="rId4"/>
          <a:stretch/>
        </p:blipFill>
        <p:spPr>
          <a:xfrm>
            <a:off x="5508720" y="2276640"/>
            <a:ext cx="3311280" cy="2082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908000" y="1484280"/>
            <a:ext cx="3600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го полюбили недар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нимал он ребячьи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тому и герои Гайд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нами ря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нами на «ты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79280" y="34290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Голубая чаш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52"/>
          <p:cNvPicPr/>
          <p:nvPr/>
        </p:nvPicPr>
        <p:blipFill>
          <a:blip r:embed="rId5"/>
          <a:stretch/>
        </p:blipFill>
        <p:spPr>
          <a:xfrm>
            <a:off x="5508720" y="115920"/>
            <a:ext cx="3276360" cy="1932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5508720" y="198900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Чук и Ге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508720" y="429264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Р.В.С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427640" y="65260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Судьба барабанщи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7413480" y="652608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Военная тай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5" descr="44"/>
          <p:cNvPicPr/>
          <p:nvPr/>
        </p:nvPicPr>
        <p:blipFill>
          <a:blip r:embed="rId6"/>
          <a:stretch/>
        </p:blipFill>
        <p:spPr>
          <a:xfrm>
            <a:off x="179280" y="3789360"/>
            <a:ext cx="4032360" cy="2556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6"/>
          <p:cNvSpPr/>
          <p:nvPr/>
        </p:nvSpPr>
        <p:spPr>
          <a:xfrm>
            <a:off x="179280" y="638172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Горячий каме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28 Restless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75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Тимур и его команд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Без имени-1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724360" y="2852640"/>
            <a:ext cx="2619720" cy="38894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4427640" y="1197000"/>
            <a:ext cx="471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нами рядом герои Гайда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с они окрыляют в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недаром, ребята, нед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ш девиз: «Людям радость нест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4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95280" y="1268280"/>
            <a:ext cx="3529080" cy="2281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Без 1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95280" y="3860640"/>
            <a:ext cx="3529080" cy="2482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0" y="3573360"/>
            <a:ext cx="49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муровское движение в г.Хадыженске. 70-е г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95280" y="638172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ионерские отряды 8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За Родину, добро и справедливость! Будь готов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900000" y="1557360"/>
            <a:ext cx="46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ы тимуровцы, внуки Гайд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значит: всегда мы в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недаром, ребята, нед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ш девиз: «Людям счастье нест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7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5640" y="3429000"/>
            <a:ext cx="3384720" cy="2211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7"/>
          <p:cNvPicPr/>
          <p:nvPr/>
        </p:nvPicPr>
        <p:blipFill>
          <a:blip r:embed="rId2"/>
          <a:stretch/>
        </p:blipFill>
        <p:spPr>
          <a:xfrm>
            <a:off x="4932360" y="3429000"/>
            <a:ext cx="3384720" cy="22194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0" y="5877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ионерский отря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ка. Руководитель патриотического клуба «Память» - Н.А.Калабашк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pioner3"/>
          <p:cNvPicPr/>
          <p:nvPr/>
        </p:nvPicPr>
        <p:blipFill>
          <a:blip r:embed="rId3"/>
          <a:stretch/>
        </p:blipFill>
        <p:spPr>
          <a:xfrm>
            <a:off x="6156360" y="1413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159" name="72 Chi mai (terzia - violins and piano solo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67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ae3b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067280" y="1268280"/>
            <a:ext cx="482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шей семье все с увлечением в детстве читали книги Гайдара и сейчас перечитыв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и бабушки и прадедушка вспоминают увлекательную игру тимуровцев, советские времена и пионерскую организ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 прадедушка, к сожалению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ственный ветеран Великой Отечественной войны в нашем роду. Мы очень любим его, благодарны ему. В декабре 2009 года ему исполнилось 85 лет. К этой дате его правнук написал очерк о нём, который был опубликован в районной газете «Апшеронский рабоч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ые трад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6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79280" y="1341360"/>
            <a:ext cx="1874880" cy="338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Без имени-2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4797360"/>
            <a:ext cx="4067280" cy="2060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6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95640" y="1341360"/>
            <a:ext cx="182880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Книга"/>
          <p:cNvPicPr/>
          <p:nvPr/>
        </p:nvPicPr>
        <p:blipFill>
          <a:blip r:embed="rId1"/>
          <a:stretch/>
        </p:blipFill>
        <p:spPr>
          <a:xfrm>
            <a:off x="-1946160" y="-316080"/>
            <a:ext cx="11774520" cy="8856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6227640" y="1268280"/>
            <a:ext cx="2916360" cy="54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олях своих рукописей, писем к друзьям и дневников Гайдар рисовал пятиконечную звездочку. Она была как сигнал: я в строю! Мои книги в стро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словно маяк, как присяга: с винтовкой ли, с пером ли, я – твой боец, Родин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т звездочки освещал всю жизнь    Гайдара и его героев. Он горит, не потухая, на страницах его книг и светит нам – читателям, и зовет вперед. Пусть светит всегд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айдаровская звезд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Без имени-1"/>
          <p:cNvPicPr/>
          <p:nvPr/>
        </p:nvPicPr>
        <p:blipFill>
          <a:blip r:embed="rId2"/>
          <a:stretch/>
        </p:blipFill>
        <p:spPr>
          <a:xfrm rot="20630400">
            <a:off x="755640" y="2852280"/>
            <a:ext cx="2763720" cy="2662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325080" cy="6858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ная карта Куб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Рисунок2"/>
          <p:cNvPicPr/>
          <p:nvPr/>
        </p:nvPicPr>
        <p:blipFill>
          <a:blip r:embed="rId1"/>
          <a:stretch/>
        </p:blipFill>
        <p:spPr>
          <a:xfrm>
            <a:off x="3564000" y="1341360"/>
            <a:ext cx="3638520" cy="504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Рисунок4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95280" y="4005360"/>
            <a:ext cx="1665360" cy="23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Рисунок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7308720" y="1341360"/>
            <a:ext cx="1648080" cy="225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95280" y="1341360"/>
            <a:ext cx="1704960" cy="2374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395280" y="6308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.Ф.Варав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95280" y="3718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Н.Дедюр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7236000" y="3573360"/>
            <a:ext cx="16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Д.Знаме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P1000246"/>
          <p:cNvPicPr/>
          <p:nvPr/>
        </p:nvPicPr>
        <p:blipFill>
          <a:blip r:embed="rId5"/>
          <a:stretch/>
        </p:blipFill>
        <p:spPr>
          <a:xfrm>
            <a:off x="7348680" y="3933720"/>
            <a:ext cx="1616040" cy="23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7308720" y="638172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.Д.Петриш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Без имени-4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2484360" y="2492280"/>
            <a:ext cx="1681200" cy="223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4"/>
          <p:cNvSpPr/>
          <p:nvPr/>
        </p:nvSpPr>
        <p:spPr>
          <a:xfrm>
            <a:off x="2484360" y="47242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П.Гайд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7388E-006 L 0.17587 -0.04719 E">
                                      <p:cBhvr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280000" y="28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37335E-006 L 0.16146 0.25075 E">
                                      <p:cBhvr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Без имени-3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42960" y="981000"/>
            <a:ext cx="4000320" cy="568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йдар шагает впер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онь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643280" y="981000"/>
            <a:ext cx="4154760" cy="568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5261c"/>
              </a:gs>
              <a:gs pos="100000">
                <a:srgbClr val="55261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Обыкновенная биография в необыкновенное врем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6920" y="6021000"/>
            <a:ext cx="28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7454455"/>
          <p:cNvPicPr/>
          <p:nvPr/>
        </p:nvPicPr>
        <p:blipFill>
          <a:blip r:embed="rId1"/>
          <a:stretch/>
        </p:blipFill>
        <p:spPr>
          <a:xfrm>
            <a:off x="2571840" y="1628640"/>
            <a:ext cx="3495600" cy="4497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1476360" y="602136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195640" y="602136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411280" y="602136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351960" y="609300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Голиков Аркадий из Арзам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дители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Без имени-7"/>
          <p:cNvPicPr/>
          <p:nvPr/>
        </p:nvPicPr>
        <p:blipFill>
          <a:blip r:embed="rId1"/>
          <a:stretch/>
        </p:blipFill>
        <p:spPr>
          <a:xfrm>
            <a:off x="2484360" y="4414680"/>
            <a:ext cx="3605400" cy="2202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Без имени-6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588000" y="1197000"/>
            <a:ext cx="161460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Без имени-5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971640" y="1197000"/>
            <a:ext cx="1620720" cy="2187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898560" y="3429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р Исидорович Го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588000" y="3429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алья Аркадьевна Салькова (Голик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156360" y="5300640"/>
            <a:ext cx="259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Ль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, в котором родился А. Гайдар. 195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36720" y="1700280"/>
            <a:ext cx="4032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80000"/>
                </a:solidFill>
                <a:latin typeface="Arial"/>
              </a:rPr>
              <a:t>«Пусть разгор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8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80000"/>
                </a:solidFill>
                <a:latin typeface="Arial"/>
              </a:rPr>
              <a:t>ярким ог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80000"/>
                </a:solidFill>
                <a:latin typeface="Arial"/>
              </a:rPr>
              <a:t>Божия иск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8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c80000"/>
                </a:solidFill>
                <a:latin typeface="Arial"/>
              </a:rPr>
              <a:t>в сердце твое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60 60 seconds to what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5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тво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01"/>
          <p:cNvPicPr/>
          <p:nvPr/>
        </p:nvPicPr>
        <p:blipFill>
          <a:blip r:embed="rId1"/>
          <a:stretch/>
        </p:blipFill>
        <p:spPr>
          <a:xfrm>
            <a:off x="179280" y="1341360"/>
            <a:ext cx="4043520" cy="456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79280" y="602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кадий с матерью, сестрами и тетей Дашей. Арзамас 1914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2"/>
          <p:cNvPicPr/>
          <p:nvPr/>
        </p:nvPicPr>
        <p:blipFill>
          <a:blip r:embed="rId2"/>
          <a:stretch/>
        </p:blipFill>
        <p:spPr>
          <a:xfrm>
            <a:off x="4284720" y="1341360"/>
            <a:ext cx="4718160" cy="2852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4356000" y="4365720"/>
            <a:ext cx="460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замас. Дом, в котором жили Голик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1964г. – Мемориальный дом-музей А.П.Гайд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Любите Красную армию, которая бьется за счастье люде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00"/>
          <p:cNvPicPr/>
          <p:nvPr/>
        </p:nvPicPr>
        <p:blipFill>
          <a:blip r:embed="rId1"/>
          <a:stretch/>
        </p:blipFill>
        <p:spPr>
          <a:xfrm>
            <a:off x="684360" y="1557360"/>
            <a:ext cx="300168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2771640" y="61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851280" y="1557360"/>
            <a:ext cx="49687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«То, что люди поняли, осознали в детстве, прививается им на всю жизнь. Это самые прочные, самые верные навыки. Чести, смелости люди учатся с самых ранних лет. Тот, кто честен, смел и правдив с детства, будет хорошим человеком и хорошим бойцом».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подпись"/>
          <p:cNvPicPr/>
          <p:nvPr/>
        </p:nvPicPr>
        <p:blipFill>
          <a:blip r:embed="rId2"/>
          <a:stretch/>
        </p:blipFill>
        <p:spPr>
          <a:xfrm>
            <a:off x="3924360" y="4336920"/>
            <a:ext cx="521964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24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йдар на Куб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SCN4612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08000" y="1341360"/>
            <a:ext cx="3529080" cy="292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SCN4615"/>
          <p:cNvPicPr/>
          <p:nvPr/>
        </p:nvPicPr>
        <p:blipFill>
          <a:blip r:embed="rId2"/>
          <a:stretch/>
        </p:blipFill>
        <p:spPr>
          <a:xfrm>
            <a:off x="3924360" y="1341360"/>
            <a:ext cx="5111640" cy="2938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79280" y="4365720"/>
            <a:ext cx="8785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… Я нахожусь сейчас на Кубани, на внутренних фронтах против белых. Хорошо здесь, - красивая природа, богатая растительность, вообще обильная, но неспокойная сторона…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… Отсюда иногда виднеются снежные вершины Кавказских гор, на которых красиво играет заходящее солн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Я живу по-волчьи, командую ротой, деремся с бандитами вовс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писем А.П.Гайдара. 1920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5 Le marginal (edit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49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ь о Гайдаре в рай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DSCN4617"/>
          <p:cNvPicPr/>
          <p:nvPr/>
        </p:nvPicPr>
        <p:blipFill>
          <a:blip r:embed="rId1"/>
          <a:stretch/>
        </p:blipFill>
        <p:spPr>
          <a:xfrm>
            <a:off x="6300720" y="126828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DSCN4618"/>
          <p:cNvPicPr/>
          <p:nvPr/>
        </p:nvPicPr>
        <p:blipFill>
          <a:blip r:embed="rId2"/>
          <a:stretch/>
        </p:blipFill>
        <p:spPr>
          <a:xfrm>
            <a:off x="6372360" y="422100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DSCN4619"/>
          <p:cNvPicPr/>
          <p:nvPr/>
        </p:nvPicPr>
        <p:blipFill>
          <a:blip r:embed="rId3"/>
          <a:stretch/>
        </p:blipFill>
        <p:spPr>
          <a:xfrm>
            <a:off x="468360" y="4221000"/>
            <a:ext cx="2521080" cy="1892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3203640" y="4508640"/>
            <a:ext cx="295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м грозы грохо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етер завыв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мы заним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инский перева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DSCN4630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68360" y="1268280"/>
            <a:ext cx="1998720" cy="26654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179280" y="6237360"/>
            <a:ext cx="86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йдаровский зал краеведческого музея Апшеро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843280" y="386064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ный знак А.П.Гайда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Поддубный"/>
          <p:cNvPicPr/>
          <p:nvPr/>
        </p:nvPicPr>
        <p:blipFill>
          <a:blip r:embed="rId5"/>
          <a:stretch/>
        </p:blipFill>
        <p:spPr>
          <a:xfrm>
            <a:off x="3564000" y="1268280"/>
            <a:ext cx="182232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03:42:34Z</dcterms:created>
  <dc:creator>Admin</dc:creator>
  <dc:description/>
  <dc:language>en-US</dc:language>
  <cp:lastModifiedBy>TATA</cp:lastModifiedBy>
  <dcterms:modified xsi:type="dcterms:W3CDTF">2010-07-07T18:40:22Z</dcterms:modified>
  <cp:revision>24</cp:revision>
  <dc:subject/>
  <dc:title>Литературная карта Кубани</dc:title>
</cp:coreProperties>
</file>