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257-9E14-4FA0-848C-B00C6B5D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607-0879-466C-B590-8D01138A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7A4-62FD-459E-B9EB-F7DF1218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B8B-B223-459B-B118-3E05AC52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ECB-3023-4991-A841-D38EC7E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D3E-0586-4121-94AC-533C9024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436-B4FF-48A8-90D9-920589A2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27E-27C8-45AE-B446-77C434C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5E5-EFD3-4310-A070-093BCCCD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35B-2C54-4429-809D-A38A098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1B9-E95C-4C86-B093-3C9D566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A48-09A5-469F-A80F-83C5801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299-E6C6-4D2C-BDFC-DF4D5725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вижение крови по сосудам. Причины движения крови по со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яное давление – давление крови на стенки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давления в артериях и венах, является основной причиной непрерывного движения крови по сосу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перемещается к месту наименьше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ысокое давление в аорте, меньше в крупных артериях, еще меньше в капиллярах и самое низкое в в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Артериальный пульс – ритмичные колебания стенок артерий в результате поступления крови в аорту при систоле левого желу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Пульс можно обнаружить на ощупь там, где артерии лежат ближе к поверхности тела: в области лучевой артерии нижней трети предплечья, в поверхностно-височной артерии и тыльной артерии ст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7 из 21"/>
          <p:cNvPicPr/>
          <p:nvPr/>
        </p:nvPicPr>
        <p:blipFill>
          <a:blip r:embed="rId2"/>
          <a:stretch/>
        </p:blipFill>
        <p:spPr>
          <a:xfrm>
            <a:off x="958680" y="1600200"/>
            <a:ext cx="30337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482580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змерение пульса на лучевой артерии (практическая работа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мите артерию в точке В, так чтобы движение крови прекрат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мся, что в точке А пульс не пропадает, хотя кровь о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жмем артерию в точке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мкнем ее стенки и остановим пульсов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ывод – Чтобы узнать, остановлена ли кровь, надо прощупывать пульс ниже пере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59280" y="1600200"/>
          <a:ext cx="3616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00200"/>
                    <a:ext cx="3616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103640" cy="518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Частота пульса (сердечных сокращений) позволяет судить о здоровье человека, о работе его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Если число сердечных сокращений после нагрузки увеличилось в 1,3 раза и меньше, то хорошие показ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Если более, чем в 1,3 раза – относительно посредственые показания (недостаточность движений, гиподинам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норме сердечная деятельность после нагрузки должна вернуться к исходному уровню за 2 минуты! Если раньше – очень хорошо, позже – посредственно, а если более, чем за 3 минуты, то это указывает на плохое физическ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ыт Мосс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оличество крови в организме может перераспределяться. Чтобы это доказать познакомимся с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Итальянский учёный Анджело Моссо положил человека поверх больших, но очень чувствительных весов так, что головная и противоположная половины туловища были строго уравновеш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Когда учёный предложил испытуемому решить математическую задачу, весы потеряли равновеси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(Кровь приливает к головному мозгу, так как активизируется деятельность головного мозг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Куда будет идти приток крови, если человек обедает, делает заряд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Известно, что во время сна количество крови в головном мозге уменьшается на 40%. Почему взволнованный человек не может усну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80"/>
                </a:solidFill>
                <a:uFillTx/>
                <a:latin typeface="Arial"/>
              </a:rPr>
              <a:t>Определение скорости кровотока в сосудах ногтевого ложа большого пальца руки.</a:t>
            </a:r>
            <a:r>
              <a:rPr b="1" i="1" lang="en-US" sz="3200" spc="-1" strike="noStrike" u="sng">
                <a:solidFill>
                  <a:srgbClr val="008080"/>
                </a:solidFill>
                <a:uFillTx/>
                <a:latin typeface="Arial"/>
              </a:rPr>
              <a:t>                                        </a:t>
            </a:r>
            <a:r>
              <a:rPr b="1" i="1" lang="en-US" sz="2400" spc="-1" strike="noStrike" u="sng">
                <a:solidFill>
                  <a:srgbClr val="008080"/>
                </a:solidFill>
                <a:uFillTx/>
                <a:latin typeface="Arial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змерьте длину ногтя от корня, до прозрачной части, которую обычно срезают. Это путь который проходит кровь, от корня ногтя до конца ногтевого л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авите кровь из сосудов ногтевого ложа, нажимая на ноготь, ноготь должен побел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екратите давить на ноготь большого пальца и подсчитайте, через сколько секунд он снова покраснеет. За это время кровь успевает заполнить сосуды ногтевого л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знайте скорость крови по формуле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 = L / t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корость крови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– длина пути,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–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риальное кровя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ее (си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ее (диа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пульса (сердечных сокращ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верить изменение скорости кровотока при никотиновом голоде и после курения (с.91 учебника) на курящих взрослых с большим стажем ку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 приложения в учебнике (с.262) проанализировать фокус с монетой и объясни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араграф №19, р.т. №69,70,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нквейн по теме регуляция работы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Спасибо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cc3300"/>
                </a:solidFill>
                <a:latin typeface="Arial"/>
              </a:rPr>
              <a:t>Надеюсь работа вам понравилась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ижение крови по сосудам возможно благодаря разности давлений в начале и в конце круга кровообращ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Кровяное давление в аорте и крупных артериях составляет 110-120 мм.рт.ст. (т.е. на 110-120- мм.рт.ст. выше атмосферн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ях 6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альном и венозном концах капилляра – 30-15 соответст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венах конечностей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кро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аорте (наибольшая)- 0,5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полых венах –      0,2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апиллярах (наименьшая) –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5-1,2 м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ровяное давление у человека измеряют с помощью ртутного или пружинного тонометра в плечевой артерии (артериальное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аксимальное (си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систолы желудочков                (110-120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инимальное (диа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диастолы желудочков         (60-80 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Пульсовое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разность между систолическим и диастолическим да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149720"/>
            <a:ext cx="82296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3829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743280" cy="2519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авление мало зависит от пола, но зато изменяется с возрастом. Ученые опытным путем установили формулу, по которой каждый человек до 20 лет может рассчитать свое нормальное давление в состоянии покоя. (Людям старше этого возраста эта формула не подход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верхнее = 1,7 х возраст +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нижнее = 1,6 х возраст +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Д –артериальное давление, возраст берется в целых год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5050"/>
                </a:solidFill>
                <a:uFillTx/>
                <a:latin typeface="Arial"/>
              </a:rPr>
              <a:t>Для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верхнее = 106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нижнее =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= 106,8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/</a:t>
            </a: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9447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олебания давления должны изменяться в определенных границах. Если колебания превышают норму, сосуды могут не выдержать, разорваться, что нередко приводит к гибели бо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суль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ажение сосудов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фарк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оражение определенного участка сердечной мыш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инфаркта, пораженный участок не функционирует, т.к. мышечная ткань замещена рубцовой соединительной тканью, которая не способна сокра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Гипертони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овышени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ровяног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овышение артериального давления происходит при тяжелой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 возрастом эластичность стенок артерий уменьшается, поэтому давление в них становится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1729080" cy="215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02320" y="3938760"/>
            <a:ext cx="195732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Гипотония – понижение кровя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ония симптом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лабость и уста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дражительн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вышенная чувствительность к жаре (в частности — плохое самочувствие в бане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 физической деятельности самочувствие лучше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ердцебиение при физических нагрузк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нижение наблюдается при больших кровопотерях, сильных травмах, отравлениях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онометр"/>
          <p:cNvPicPr/>
          <p:nvPr/>
        </p:nvPicPr>
        <p:blipFill>
          <a:blip r:embed="rId1"/>
          <a:stretch/>
        </p:blipFill>
        <p:spPr>
          <a:xfrm>
            <a:off x="5292720" y="328464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5445000"/>
            <a:ext cx="130500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осле физических нагруз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У тренированного и здорового человека верхнее давление поднимается высоко, а нижнее –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Если нижнее тоже поднимается, то это указывает о низкой динамическ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22:28Z</dcterms:created>
  <dc:creator>аве5</dc:creator>
  <dc:description/>
  <dc:language>en-US</dc:language>
  <cp:lastModifiedBy>Vlad</cp:lastModifiedBy>
  <dcterms:modified xsi:type="dcterms:W3CDTF">2010-06-03T18:45:22Z</dcterms:modified>
  <cp:revision>15</cp:revision>
  <dc:subject/>
  <dc:title>Движение крови по сосудам. Причины движения крови по сосудам.</dc:title>
</cp:coreProperties>
</file>