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A39D-492C-4DD3-9A48-D2B185430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2DC8-AC28-4B06-B6D7-4739B0F55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F053-A94A-4C6B-A18A-B42EADD09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4E7C-C081-4BAA-A9F7-D1CA97F22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00C5-EF4C-4865-87A8-8D7623FC7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6E81-817F-4526-B220-70E067490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A3E2-02B3-46DB-8AFF-6914044AB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12D2-E842-4BC9-BDA2-36A6242B2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9D2F-E7DD-40FE-B8D2-94A2AE471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F380-EC63-4F9A-BE59-31B9AD5A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6023-E8BE-47F4-9F3B-C0D8051C8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8178-78EB-421A-ADA1-6E1C77F75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26779-6A5B-4EA7-8A49-669D6C3B7B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ff"/>
                </a:solidFill>
                <a:latin typeface="Arial"/>
              </a:rPr>
              <a:t>Школа-интернат </a:t>
            </a: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VI </a:t>
            </a:r>
            <a:r>
              <a:rPr b="1" lang="ru-RU" sz="4000" spc="-1" strike="noStrike">
                <a:solidFill>
                  <a:srgbClr val="0066ff"/>
                </a:solidFill>
                <a:latin typeface="Arial"/>
              </a:rPr>
              <a:t>вида </a:t>
            </a:r>
            <a:br>
              <a:rPr sz="4000"/>
            </a:br>
            <a:r>
              <a:rPr b="1" lang="ru-RU" sz="4000" spc="-1" strike="noStrike">
                <a:solidFill>
                  <a:srgbClr val="0066ff"/>
                </a:solidFill>
                <a:latin typeface="Arial"/>
              </a:rPr>
              <a:t>г. Волгодонс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Разработка уро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«Счастливый случай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Урок-игра по тем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З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акрепление сведений 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технологии изготовления швейных издели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Разработала учитель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ДЕНИСЕНКО ИРИНА МИХАЙЛОВ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г. Волгодонс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009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016600" y="1600200"/>
            <a:ext cx="3668760" cy="50292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Arial"/>
              </a:rPr>
              <a:t>Малыш и Карлсо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6705360" cy="548820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Три девицы под окном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пряли поздно вечерком…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600200" y="1447920"/>
            <a:ext cx="5943600" cy="52005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Arial"/>
              </a:rPr>
              <a:t>Назови полотн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477120" y="1905120"/>
            <a:ext cx="182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990000"/>
                </a:solidFill>
                <a:latin typeface="Arial"/>
              </a:rPr>
              <a:t>Ж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5773680" cy="3319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Arial"/>
              </a:rPr>
              <a:t>Назови ткан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362320" y="2895120"/>
            <a:ext cx="167616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0000"/>
                </a:solidFill>
                <a:latin typeface="Arial"/>
              </a:rPr>
              <a:t>ш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733920" y="1981080"/>
            <a:ext cx="338292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ff"/>
                </a:solidFill>
                <a:latin typeface="Arial"/>
              </a:rPr>
              <a:t>Незнайк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943600" y="3733920"/>
            <a:ext cx="2476440" cy="2971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486400" y="1066680"/>
            <a:ext cx="3352680" cy="2538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0" y="1371600"/>
            <a:ext cx="5486400" cy="4734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Иллюстрации </a:t>
            </a:r>
            <a:br>
              <a:rPr sz="4800"/>
            </a:b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к заданиям</a:t>
            </a:r>
            <a:br>
              <a:rPr sz="4800"/>
            </a:b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урока </a:t>
            </a:r>
            <a:br>
              <a:rPr sz="4800"/>
            </a:b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«Счастливый случай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800"/>
            </a:br>
            <a:r>
              <a:rPr b="1" lang="en-US" sz="9600" spc="-1" strike="noStrike">
                <a:solidFill>
                  <a:srgbClr val="cc3300"/>
                </a:solidFill>
                <a:latin typeface="Arial"/>
              </a:rPr>
              <a:t>По заслугам    и честь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5105160"/>
            <a:ext cx="83059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              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Русская народная послови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cc"/>
                </a:solidFill>
                <a:latin typeface="Arial"/>
              </a:rPr>
              <a:t>Алиса в стране чуде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09680" y="1143000"/>
            <a:ext cx="4367160" cy="54100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1760" y="0"/>
            <a:ext cx="83818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Винни – Пух и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Все, Все, Вс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4299120" cy="5029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648320" y="2176560"/>
            <a:ext cx="4267080" cy="32018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Arial"/>
              </a:rPr>
              <a:t>Гадкий утёно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8600" y="1471680"/>
            <a:ext cx="4495680" cy="4341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257800" y="3962520"/>
            <a:ext cx="3200400" cy="2778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876920" y="1066680"/>
            <a:ext cx="3852720" cy="27939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00"/>
                </a:solidFill>
                <a:latin typeface="Arial"/>
              </a:rPr>
              <a:t>Убери лишнее слов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Пальто, платье,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халат, пододеяльник,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туфли, пижама.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Марья-искусниц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514600" y="1066680"/>
            <a:ext cx="4113360" cy="5639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514600" y="1066680"/>
            <a:ext cx="4113360" cy="56390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2514600" y="1066680"/>
            <a:ext cx="4113360" cy="56390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	</a:t>
            </a:r>
            <a:br>
              <a:rPr sz="5400"/>
            </a:b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Василиса</a:t>
            </a:r>
            <a:br>
              <a:rPr sz="5400"/>
            </a:b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  Премудра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4114800" cy="2932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04920" y="3809880"/>
            <a:ext cx="3809880" cy="2737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343400" y="2438280"/>
            <a:ext cx="4648320" cy="34862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4343400" y="2438280"/>
            <a:ext cx="4648320" cy="3486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4343400" y="2438280"/>
            <a:ext cx="4648320" cy="34862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el</cp:lastModifiedBy>
  <dcterms:modified xsi:type="dcterms:W3CDTF">2010-05-24T06:20:55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