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BDE-F689-4DEB-AE28-4848C350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289-8A26-418B-971E-62E28890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524-6729-45C5-8CEC-03B012D8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F62-ECCA-44BF-949A-7BC9B4CD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6D5-0B3F-4377-89FA-3ED9838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472-C640-40C3-9205-524D848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E61-5F65-4688-A043-EE27BA29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B08-B361-4B4E-9174-584BE2B3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7E8-F023-4219-BE7E-F6AC9925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708-88FC-41E2-8A18-6D0FB3C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5E6-CBA0-44AE-A38E-99A12E01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651-19BC-48A3-9216-28D1C36A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4553-9234-4DA0-AB94-FE58389ED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Школа-интернат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VI 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вида </a:t>
            </a: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г. Волгодон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азработка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Счастливый случа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Урок-игра по 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акрепление сведений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ехнологии изготовления швейных издел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азработала учител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ДЕНИСЕНКО ИРИНА МИХАЙЛ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г. Волгодонс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16600" y="1600200"/>
            <a:ext cx="36687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Малыш и 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488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ри девицы под окном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ряли поздно вечерком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943600" cy="520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Назови поло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7120" y="1905120"/>
            <a:ext cx="182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00"/>
                </a:solidFill>
                <a:latin typeface="Arial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5773680" cy="331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Arial"/>
              </a:rPr>
              <a:t>Назови тка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2320" y="2895120"/>
            <a:ext cx="1676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Arial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3382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ff"/>
                </a:solidFill>
                <a:latin typeface="Arial"/>
              </a:rPr>
              <a:t>Незнай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47644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1066680"/>
            <a:ext cx="335268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548640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Иллюстрации </a:t>
            </a:r>
            <a:br>
              <a:rPr sz="4800"/>
            </a:b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к заданиям</a:t>
            </a:r>
            <a:br>
              <a:rPr sz="4800"/>
            </a:b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урока </a:t>
            </a:r>
            <a:br>
              <a:rPr sz="4800"/>
            </a:b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Счастливый случа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en-US" sz="9600" spc="-1" strike="noStrike">
                <a:solidFill>
                  <a:srgbClr val="cc3300"/>
                </a:solidFill>
                <a:latin typeface="Arial"/>
              </a:rPr>
              <a:t>По заслугам    и чес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усская народная посл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Алиса в стране чуде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36716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инни – Пух и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се, Все, Вс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299120" cy="502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2176560"/>
            <a:ext cx="426708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Гадкий утё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471680"/>
            <a:ext cx="4495680" cy="434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200400" cy="277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1066680"/>
            <a:ext cx="385272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Убери лишнее сло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Пальто, платье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халат, пододеяльник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туфли, пижама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Марья-искусни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113360" cy="563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113360" cy="563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14600" y="1066680"/>
            <a:ext cx="41133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br>
              <a:rPr sz="5400"/>
            </a:b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Василиса</a:t>
            </a:r>
            <a:br>
              <a:rPr sz="5400"/>
            </a:b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  Премудр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4114800" cy="2932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809880" cy="273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343400" y="24382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34340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0-05-24T06:20:5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