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wmf" ContentType="image/x-wmf"/>
  <Override PartName="/ppt/media/image6.jpeg" ContentType="image/jpeg"/>
  <Override PartName="/ppt/media/image19.wmf" ContentType="image/x-wmf"/>
  <Override PartName="/ppt/media/image25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7.jpeg" ContentType="image/jpeg"/>
  <Override PartName="/ppt/media/image28.jpeg" ContentType="image/jpeg"/>
  <Override PartName="/ppt/media/image9.wmf" ContentType="image/x-wmf"/>
  <Override PartName="/ppt/media/image26.png" ContentType="image/png"/>
  <Override PartName="/ppt/media/image11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30.wmf" ContentType="image/x-wmf"/>
  <Override PartName="/ppt/media/image13.wmf" ContentType="image/x-wmf"/>
  <Override PartName="/ppt/media/image27.jpeg" ContentType="image/jpeg"/>
  <Override PartName="/ppt/media/image12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171E-2322-44E8-85AC-D2D3386EAF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E1BA-4A33-4856-AF05-7EFC8C3A39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8C18-E38B-413B-8A18-E737661FA3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BA62-E3B6-456C-A840-8FE325B337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969B-2E72-4D1D-95D1-9A6F03AA47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447E-2A89-4AAA-820C-10AE2AAD7E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DF4A-2A25-4921-AF76-871434678C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C129-0E58-4A01-868A-51EC5A61AB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6DF2-E2D2-4971-B352-F37FCE2C1B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305F-8B3A-4651-8679-39C75A6C66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494A-C85E-4468-BC0F-8AD415BA37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B7B4-96B9-4BFD-93D7-5DB8D923A4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5BB8-0DF0-47E1-96F1-AD119469C0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E7D1-B253-4579-875F-CF5A272B18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7E57-1DD9-4957-AE9A-1653C21AA2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100A-515D-4E6A-951E-23670B8503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FC10-09B9-4E51-9A30-98A30EEF61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15F9-3887-40A9-AB05-A7987AA748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39D3-14AD-472B-BB9B-6B936E69AD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117B-46E3-4D42-A5AE-37B7301B6A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B067-F702-4422-9191-F8193246FB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B728-2601-44FC-8855-40B9FD5B15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1C1D-08E6-452D-9C38-0FB945B899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4BFD-F1E3-4F6B-8182-CFD0FEE71F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3A92-9565-487C-A060-4BBEDC7547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C5B3-3849-4504-B2CB-9C00946D46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7268-F9EE-4561-86D1-D2FEA7A583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2202-084E-41C4-B92F-C374C4B7F6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A607-422A-4780-90DE-22F86F3A48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19C-2C69-4328-A7B2-9862BDBB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D40-D116-4F79-BEA8-232E11E5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A1A-DB1C-4DBE-B88D-03F17398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E51-955E-4941-8D8C-642A0F18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7C01-4B19-4883-8B0A-970058B5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BBA6-9700-4C01-9FF3-11DFCE3D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0967-5D53-4618-958C-8A035271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5B82-E116-4206-9D0B-9D81B3EC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0D0C-F295-492A-A94C-2D2113A2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CE7A-8B7E-44FD-BBD1-39CF523F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AAE5-9D19-47F7-8AEE-D4EDBF31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CAE-9B64-4612-BD43-EDE1DE7E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1AAE-DAA4-4135-908D-3E652D79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D65A-2A9A-47CC-A896-A5646CBC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6F9A-B927-48D9-ABF8-6F564EDB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668C-257C-4CA5-A52A-131C3F13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63F0-898E-40EF-B82A-A23F1588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A0529-6E2B-4AFA-819B-D58DEB71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128B-BCDE-4564-B715-8449DC68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C34BF-0719-45D7-A150-34EAAA67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BA304-1783-4088-A0F4-67F61AB5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080C2-68DC-405C-94C5-673438A6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8BF-A674-46B5-A429-D577B7DE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F7BE2-CBB8-4AF6-B687-A1D7E33C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1D310-EA5B-41F6-A0B3-DAAD0905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CF66-E5EF-4417-AAFC-03BD099B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67CEF-6DA0-4784-8721-111F3307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64BF0-2C69-42B7-994F-8664AE6D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A7414-4312-40E2-A80B-CA728F52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E5428-7F70-4B4A-9788-DA010158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49B7A-8D54-49F8-B927-F76E2F84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199CE-4E8F-4009-A231-99489F74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A4B81-3B72-4F2D-9381-3CA56CF2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51C-4AEF-4A98-B906-2847418C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4A0AE-81AA-475D-9518-461C6E3E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25372-C6B2-4416-8D10-9D4EFAA2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B68AA-0D65-4835-ACB8-FD067190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9726D-4840-437C-BA0C-E2F3469C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B99CD-27AA-4CF5-BA6A-BB33167B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A2C38-1442-49D3-B5A7-8DB2E48E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CF82A-8F67-4E1C-AAB2-59533DAA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4F1E-62B3-4A2F-AFCE-F2B01435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4F618-190D-4BC7-86CB-C3EDC3EC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39F-4B9E-4EE9-858B-38ED7CCA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2777-2E62-4385-95EE-1CF09072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39A-0173-4627-941C-ACBF5CF6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D8D-6621-4171-B431-03C251FE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FD7-DE55-44CC-AA8A-ACEE47A1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D179-8F66-4B94-8AF4-1D66CAC64A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EA1A-F7E0-4F60-B5CB-7445ED875B4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7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135D-F1A2-44BB-8AEB-89F4D5E3C5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B227-19B5-41C3-9581-B6B7B7B0FCA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chr.ru/documents/doc/2440800/2440800-001.htm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hyperlink" Target="http://echr.ru/documents/doc/10003000/10003000-003.htm#463" TargetMode="External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chr.coe.int/" TargetMode="External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58" name="Picture 5" descr="45337734670b92"/>
          <p:cNvPicPr/>
          <p:nvPr/>
        </p:nvPicPr>
        <p:blipFill>
          <a:blip r:embed="rId1"/>
          <a:stretch/>
        </p:blipFill>
        <p:spPr>
          <a:xfrm>
            <a:off x="468360" y="2565360"/>
            <a:ext cx="5545080" cy="357048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pic>
        <p:nvPicPr>
          <p:cNvPr id="259" name="Picture 6" descr="L13_p1"/>
          <p:cNvPicPr/>
          <p:nvPr/>
        </p:nvPicPr>
        <p:blipFill>
          <a:blip r:embed="rId2"/>
          <a:stretch/>
        </p:blipFill>
        <p:spPr>
          <a:xfrm>
            <a:off x="4211640" y="4076640"/>
            <a:ext cx="4686120" cy="25718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5400"/>
            </a:b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5400"/>
            </a:br>
            <a:r>
              <a:rPr b="1" i="1" lang="ru-RU" sz="6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4800"/>
            </a:b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9" name="Picture 9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1860480" cy="2087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1941480" cy="2077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1765440" cy="2016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"/>
          <p:cNvPicPr/>
          <p:nvPr/>
        </p:nvPicPr>
        <p:blipFill>
          <a:blip r:embed="rId4"/>
          <a:stretch/>
        </p:blipFill>
        <p:spPr>
          <a:xfrm>
            <a:off x="6877080" y="1268280"/>
            <a:ext cx="1798560" cy="20685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3"/>
          <p:cNvSpPr/>
          <p:nvPr/>
        </p:nvSpPr>
        <p:spPr>
          <a:xfrm>
            <a:off x="4932360" y="18900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Нарушались ли Ваши пра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14" descr=""/>
          <p:cNvPicPr/>
          <p:nvPr/>
        </p:nvPicPr>
        <p:blipFill>
          <a:blip r:embed="rId5"/>
          <a:stretch/>
        </p:blipFill>
        <p:spPr>
          <a:xfrm>
            <a:off x="2195640" y="4437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5" descr=""/>
          <p:cNvPicPr/>
          <p:nvPr/>
        </p:nvPicPr>
        <p:blipFill>
          <a:blip r:embed="rId6"/>
          <a:stretch/>
        </p:blipFill>
        <p:spPr>
          <a:xfrm>
            <a:off x="250920" y="4437000"/>
            <a:ext cx="1871640" cy="21448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6"/>
          <p:cNvSpPr/>
          <p:nvPr/>
        </p:nvSpPr>
        <p:spPr>
          <a:xfrm>
            <a:off x="611280" y="3429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. Если нарушали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 как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18" descr=""/>
          <p:cNvPicPr/>
          <p:nvPr/>
        </p:nvPicPr>
        <p:blipFill>
          <a:blip r:embed="rId7"/>
          <a:stretch/>
        </p:blipFill>
        <p:spPr>
          <a:xfrm>
            <a:off x="4932360" y="4437000"/>
            <a:ext cx="1725480" cy="204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9" descr=""/>
          <p:cNvPicPr/>
          <p:nvPr/>
        </p:nvPicPr>
        <p:blipFill>
          <a:blip r:embed="rId8"/>
          <a:stretch/>
        </p:blipFill>
        <p:spPr>
          <a:xfrm>
            <a:off x="6877080" y="44370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0"/>
          <p:cNvSpPr/>
          <p:nvPr/>
        </p:nvSpPr>
        <p:spPr>
          <a:xfrm>
            <a:off x="4932360" y="3500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. Наиболее важными правами Вы считает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4"/>
          <p:cNvSpPr/>
          <p:nvPr/>
        </p:nvSpPr>
        <p:spPr>
          <a:xfrm flipV="1" rot="10800000">
            <a:off x="1831680" y="723960"/>
            <a:ext cx="324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3214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22" name="Picture 10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1685880" cy="21304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2"/>
          <p:cNvSpPr/>
          <p:nvPr/>
        </p:nvSpPr>
        <p:spPr>
          <a:xfrm>
            <a:off x="442764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. Соблюдаются ли Ваш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 права Вашего ребенка ) в семь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13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4" descr=""/>
          <p:cNvPicPr/>
          <p:nvPr/>
        </p:nvPicPr>
        <p:blipFill>
          <a:blip r:embed="rId4"/>
          <a:stretch/>
        </p:blipFill>
        <p:spPr>
          <a:xfrm>
            <a:off x="6948360" y="1268280"/>
            <a:ext cx="1906560" cy="21528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5"/>
          <p:cNvSpPr/>
          <p:nvPr/>
        </p:nvSpPr>
        <p:spPr>
          <a:xfrm>
            <a:off x="2340000" y="35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. Что, по-вашему, влияет на соблю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 человека в любой стран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16" descr=""/>
          <p:cNvPicPr/>
          <p:nvPr/>
        </p:nvPicPr>
        <p:blipFill>
          <a:blip r:embed="rId5"/>
          <a:stretch/>
        </p:blipFill>
        <p:spPr>
          <a:xfrm>
            <a:off x="3132000" y="4508640"/>
            <a:ext cx="3111480" cy="2189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9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9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9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законом все рав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должны быть едины на всей территории стра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лективные права граждан не должны противоречить правам лич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ожно ли говорить о существовании правового государства в Росс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ституции РФ записано, ч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7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7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7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2. 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66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6" descr="http://www.wex-bb.de/gebeugterParagraf1.jpg"/>
          <p:cNvPicPr/>
          <p:nvPr/>
        </p:nvPicPr>
        <p:blipFill>
          <a:blip r:embed="rId1"/>
          <a:stretch/>
        </p:blipFill>
        <p:spPr>
          <a:xfrm>
            <a:off x="5578560" y="1628640"/>
            <a:ext cx="3165480" cy="4564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Международный Билль о правах человека: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 декабр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ная задача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вобод человека? Ответ аргументируй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рава человека в нашей стран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7" descr="saharov"/>
          <p:cNvPicPr/>
          <p:nvPr/>
        </p:nvPicPr>
        <p:blipFill>
          <a:blip r:embed="rId1"/>
          <a:stretch/>
        </p:blipFill>
        <p:spPr>
          <a:xfrm>
            <a:off x="2411280" y="2637000"/>
            <a:ext cx="2097360" cy="2736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343" name="Picture 6" descr="portr2"/>
          <p:cNvPicPr/>
          <p:nvPr/>
        </p:nvPicPr>
        <p:blipFill>
          <a:blip r:embed="rId2"/>
          <a:stretch/>
        </p:blipFill>
        <p:spPr>
          <a:xfrm>
            <a:off x="395280" y="1916280"/>
            <a:ext cx="2085840" cy="2808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44" name="Text Box 8"/>
          <p:cNvSpPr/>
          <p:nvPr/>
        </p:nvSpPr>
        <p:spPr>
          <a:xfrm>
            <a:off x="250920" y="570852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Андрей Дмитриевич Сах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>
            <a:off x="1258920" y="260280"/>
            <a:ext cx="6408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СБУРГСКИЙ  СУ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6" name="Picture 3" descr="palais_hommes"/>
          <p:cNvPicPr/>
          <p:nvPr/>
        </p:nvPicPr>
        <p:blipFill>
          <a:blip r:embed="rId1"/>
          <a:stretch/>
        </p:blipFill>
        <p:spPr>
          <a:xfrm>
            <a:off x="0" y="3068640"/>
            <a:ext cx="6300720" cy="3789360"/>
          </a:xfrm>
          <a:prstGeom prst="rect">
            <a:avLst/>
          </a:prstGeom>
          <a:ln w="0">
            <a:noFill/>
          </a:ln>
        </p:spPr>
      </p:pic>
      <p:pic>
        <p:nvPicPr>
          <p:cNvPr id="347" name="aria__angel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5"/>
          <p:cNvSpPr/>
          <p:nvPr/>
        </p:nvSpPr>
        <p:spPr>
          <a:xfrm>
            <a:off x="6478920" y="4219920"/>
            <a:ext cx="266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у 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ы 104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гаков Денис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рбаев Дени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1" name="Picture 6" descr="http://www.info-wr.de/unterricht/weg/kunst/f13.jpg"/>
          <p:cNvPicPr/>
          <p:nvPr/>
        </p:nvPicPr>
        <p:blipFill>
          <a:blip r:embed="rId1"/>
          <a:stretch/>
        </p:blipFill>
        <p:spPr>
          <a:xfrm>
            <a:off x="539640" y="4149720"/>
            <a:ext cx="2087640" cy="20876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59280" y="1557000"/>
            <a:ext cx="5760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Социально-экономические, политические и личные права и своб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Международные документы по правам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Страсбургский су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75164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ИСТОР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84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3 сентября 1953 г.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Европейская конвенция о защите прав человека и основных своб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здала особый механизм защиты прав и своб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н включает в себ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ую Комиссию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ий Суд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омитет министров Сов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logocoe64"/>
          <p:cNvPicPr/>
          <p:nvPr/>
        </p:nvPicPr>
        <p:blipFill>
          <a:blip r:embed="rId2"/>
          <a:stretch/>
        </p:blipFill>
        <p:spPr>
          <a:xfrm>
            <a:off x="6948360" y="5516640"/>
            <a:ext cx="190836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68360" y="83664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естонахождение 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Европейского Суда по правам человека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. - Дворец прав человека в Страсбурге (Франция), где находится и сам Совет Европы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3" descr="Entrance of the ECHR building"/>
          <p:cNvPicPr/>
          <p:nvPr/>
        </p:nvPicPr>
        <p:blipFill>
          <a:blip r:embed="rId2"/>
          <a:stretch/>
        </p:blipFill>
        <p:spPr>
          <a:xfrm>
            <a:off x="4932360" y="2492280"/>
            <a:ext cx="4000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1547640" y="333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4" descr="echr_eng_fr"/>
          <p:cNvPicPr/>
          <p:nvPr/>
        </p:nvPicPr>
        <p:blipFill>
          <a:blip r:embed="rId1"/>
          <a:stretch/>
        </p:blipFill>
        <p:spPr>
          <a:xfrm>
            <a:off x="826920" y="5589720"/>
            <a:ext cx="762012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 Black"/>
              </a:rPr>
              <a:t>Условия, при которых жалоба может быть принят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третьи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четверт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пятых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77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77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77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77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77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77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77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77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77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77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77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4572000" y="20970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дел из России постоянно расте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1 году – 2490 жалоб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2-м – 4716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3-м – 6602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4-м – 7855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5-м – 10 00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редседатель Европейского с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 правам челов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юциус Вильдхаб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0"/>
            <a:ext cx="47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Начав свою деятельность в 1959 г., 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Европейский Суд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к концу 1998 г. рассмотрел более тысячи дел, подавляющее большинство из которых по жалобам граждан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статьей 46 (ч. 3)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Конституции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etter"/>
          <p:cNvSpPr/>
          <p:nvPr/>
        </p:nvSpPr>
        <p:spPr>
          <a:xfrm>
            <a:off x="5940360" y="476280"/>
            <a:ext cx="2266920" cy="1133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23032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omposition"/>
          <p:cNvPicPr/>
          <p:nvPr/>
        </p:nvPicPr>
        <p:blipFill>
          <a:blip r:embed="rId1"/>
          <a:stretch/>
        </p:blipFill>
        <p:spPr>
          <a:xfrm>
            <a:off x="-539640" y="-5821200"/>
            <a:ext cx="2857320" cy="19713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3"/>
          <p:cNvSpPr/>
          <p:nvPr/>
        </p:nvSpPr>
        <p:spPr>
          <a:xfrm>
            <a:off x="318240" y="12223080"/>
            <a:ext cx="543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 судьи от Боснии и Герцеговины в настоящее время вакантно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-41133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5" descr="composition"/>
          <p:cNvPicPr/>
          <p:nvPr/>
        </p:nvPicPr>
        <p:blipFill>
          <a:blip r:embed="rId2"/>
          <a:stretch/>
        </p:blipFill>
        <p:spPr>
          <a:xfrm>
            <a:off x="179280" y="189000"/>
            <a:ext cx="3492720" cy="2349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368" name="Picture 6" descr="http://www.coe.int/t/e/human_rights/execution/default-9.jpg"/>
          <p:cNvPicPr/>
          <p:nvPr/>
        </p:nvPicPr>
        <p:blipFill>
          <a:blip r:embed="rId3"/>
          <a:stretch/>
        </p:blipFill>
        <p:spPr>
          <a:xfrm>
            <a:off x="5508720" y="4508640"/>
            <a:ext cx="3492360" cy="2133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369" name="Rectangle 7"/>
          <p:cNvSpPr/>
          <p:nvPr/>
        </p:nvSpPr>
        <p:spPr>
          <a:xfrm>
            <a:off x="250920" y="4611240"/>
            <a:ext cx="54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годня Россию представля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дья  Анатолий Ковле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3851280" y="239760"/>
            <a:ext cx="529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44040" y="403560"/>
            <a:ext cx="74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ски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о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ужн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т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рес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gistra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-67075 STRASBOURG CEDEX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E 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376720" y="3337200"/>
            <a:ext cx="421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- 67075 Strasbourg-Cede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: 33 (0)3 88 41 20 18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x: 33 (0)3 88 41 27 30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: </a:t>
            </a: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echr.coe.i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607320" y="2923200"/>
            <a:ext cx="81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2"/>
          <a:stretch/>
        </p:blipFill>
        <p:spPr>
          <a:xfrm>
            <a:off x="6372360" y="4467240"/>
            <a:ext cx="27716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2"/>
          <p:cNvSpPr txBox="1"/>
          <p:nvPr/>
        </p:nvSpPr>
        <p:spPr>
          <a:xfrm>
            <a:off x="468360" y="2565360"/>
            <a:ext cx="813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Нормы оценки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10-11 верных ответов – «5»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8-9 – «4»; 6-7 – «3»; менее 5 – «2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68360" y="2997360"/>
          <a:ext cx="8229600" cy="2736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в;  2. г;  3. в;  4. б;  5. 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3, 6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,7;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в; 8. б; 9. г; 10. б; 11. б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б; 2. в; 3. б; 4. а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, 5, 8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а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64" name="Organization Chart 4"/>
          <p:cNvGrpSpPr/>
          <p:nvPr/>
        </p:nvGrpSpPr>
        <p:grpSpPr>
          <a:xfrm>
            <a:off x="457200" y="1600200"/>
            <a:ext cx="8229240" cy="4529880"/>
            <a:chOff x="457200" y="1600200"/>
            <a:chExt cx="8229240" cy="4529880"/>
          </a:xfrm>
        </p:grpSpPr>
        <p:cxnSp>
          <p:nvCxnSpPr>
            <p:cNvPr id="265" name="_s1028"/>
            <p:cNvCxnSpPr>
              <a:stCxn id="266" idx="0"/>
              <a:endCxn id="267" idx="2"/>
            </p:cNvCxnSpPr>
            <p:nvPr/>
          </p:nvCxnSpPr>
          <p:spPr>
            <a:xfrm flipV="1" rot="16200000">
              <a:off x="5225760" y="2756520"/>
              <a:ext cx="906840" cy="22161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1029"/>
            <p:cNvCxnSpPr>
              <a:stCxn id="269" idx="0"/>
              <a:endCxn id="267" idx="2"/>
            </p:cNvCxnSpPr>
            <p:nvPr/>
          </p:nvCxnSpPr>
          <p:spPr>
            <a:xfrm flipH="1" flipV="1" rot="5400000">
              <a:off x="3011400" y="2757600"/>
              <a:ext cx="906840" cy="22143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7" name="_s1030"/>
            <p:cNvSpPr/>
            <p:nvPr/>
          </p:nvSpPr>
          <p:spPr>
            <a:xfrm>
              <a:off x="2673000" y="1600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3300"/>
                  </a:solidFill>
                  <a:latin typeface="Tahoma"/>
                </a:rPr>
                <a:t>Различие понятий «права человека» и «свободы челове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_s1031"/>
            <p:cNvSpPr/>
            <p:nvPr/>
          </p:nvSpPr>
          <p:spPr>
            <a:xfrm>
              <a:off x="45720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Права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храняемые и обеспечиваемые государством возможности что-то делать, осуществлять; то, что разрешено законом и соответствует природе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_s1032"/>
            <p:cNvSpPr/>
            <p:nvPr/>
          </p:nvSpPr>
          <p:spPr>
            <a:xfrm>
              <a:off x="488844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Свободы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тсутствие каких-либо ограничений в деятельности или поведен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40360" y="2349000"/>
            <a:ext cx="468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е о естественных правах разработал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жон Лок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нглийский философ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ественные права появляютс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рождения и неотъемл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6" descr="lokk"/>
          <p:cNvPicPr/>
          <p:nvPr/>
        </p:nvPicPr>
        <p:blipFill>
          <a:blip r:embed="rId1"/>
          <a:stretch/>
        </p:blipFill>
        <p:spPr>
          <a:xfrm>
            <a:off x="755640" y="2708280"/>
            <a:ext cx="3127320" cy="3481560"/>
          </a:xfrm>
          <a:prstGeom prst="rect">
            <a:avLst/>
          </a:prstGeom>
          <a:ln w="57240">
            <a:solidFill>
              <a:srgbClr val="f8a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3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3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3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79280" y="1700280"/>
          <a:ext cx="8785440" cy="5051520"/>
        </p:xfrm>
        <a:graphic>
          <a:graphicData uri="http://schemas.openxmlformats.org/drawingml/2006/table">
            <a:tbl>
              <a:tblPr/>
              <a:tblGrid>
                <a:gridCol w="4321440"/>
                <a:gridCol w="4464000"/>
              </a:tblGrid>
              <a:tr h="55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Естественные прав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Основны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Други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-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на жизн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- на свободу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- на собственность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на имущество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на личност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на свои действия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на свой труд и его    результа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- на равенство (пра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- на охрану своей собственности: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своей жизни, свободы, имуществ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-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на восстание против тиранической власти, посягающей на естественные права и свободы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76" name="Organization Chart 6"/>
          <p:cNvGrpSpPr/>
          <p:nvPr/>
        </p:nvGrpSpPr>
        <p:grpSpPr>
          <a:xfrm>
            <a:off x="179280" y="1844640"/>
            <a:ext cx="8713080" cy="4607280"/>
            <a:chOff x="179280" y="1844640"/>
            <a:chExt cx="8713080" cy="4607280"/>
          </a:xfrm>
        </p:grpSpPr>
        <p:cxnSp>
          <p:nvCxnSpPr>
            <p:cNvPr id="277" name="_s2052"/>
            <p:cNvCxnSpPr>
              <a:stCxn id="278" idx="0"/>
              <a:endCxn id="279" idx="2"/>
            </p:cNvCxnSpPr>
            <p:nvPr/>
          </p:nvCxnSpPr>
          <p:spPr>
            <a:xfrm flipV="1" rot="16200000">
              <a:off x="5769360" y="2453040"/>
              <a:ext cx="921960" cy="338904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0" name="_s2053"/>
            <p:cNvCxnSpPr>
              <a:stCxn id="281" idx="0"/>
              <a:endCxn id="279" idx="2"/>
            </p:cNvCxnSpPr>
            <p:nvPr/>
          </p:nvCxnSpPr>
          <p:spPr>
            <a:xfrm flipV="1" rot="16200000">
              <a:off x="4639680" y="3582720"/>
              <a:ext cx="921960" cy="11296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2" name="_s2054"/>
            <p:cNvCxnSpPr>
              <a:stCxn id="283" idx="0"/>
              <a:endCxn id="279" idx="2"/>
            </p:cNvCxnSpPr>
            <p:nvPr/>
          </p:nvCxnSpPr>
          <p:spPr>
            <a:xfrm flipH="1" flipV="1" rot="5400000">
              <a:off x="3511440" y="3583800"/>
              <a:ext cx="921960" cy="11278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4" name="_s2055"/>
            <p:cNvCxnSpPr>
              <a:stCxn id="285" idx="0"/>
              <a:endCxn id="279" idx="2"/>
            </p:cNvCxnSpPr>
            <p:nvPr/>
          </p:nvCxnSpPr>
          <p:spPr>
            <a:xfrm flipH="1" flipV="1" rot="5400000">
              <a:off x="2380680" y="2453040"/>
              <a:ext cx="921960" cy="338940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9" name="_s2056"/>
            <p:cNvSpPr/>
            <p:nvPr/>
          </p:nvSpPr>
          <p:spPr>
            <a:xfrm>
              <a:off x="3567960" y="184464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Пра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челове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_s2057"/>
            <p:cNvSpPr/>
            <p:nvPr/>
          </p:nvSpPr>
          <p:spPr>
            <a:xfrm>
              <a:off x="179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Граждан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(личные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2058"/>
            <p:cNvSpPr/>
            <p:nvPr/>
          </p:nvSpPr>
          <p:spPr>
            <a:xfrm>
              <a:off x="2438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Полит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_s2059"/>
            <p:cNvSpPr/>
            <p:nvPr/>
          </p:nvSpPr>
          <p:spPr>
            <a:xfrm>
              <a:off x="4697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Эконом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_s2060"/>
            <p:cNvSpPr/>
            <p:nvPr/>
          </p:nvSpPr>
          <p:spPr>
            <a:xfrm>
              <a:off x="6956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ahoma"/>
                </a:rPr>
                <a:t>Социальны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Organization Chart 20"/>
          <p:cNvGrpSpPr/>
          <p:nvPr/>
        </p:nvGrpSpPr>
        <p:grpSpPr>
          <a:xfrm>
            <a:off x="179280" y="243000"/>
            <a:ext cx="8712720" cy="6354000"/>
            <a:chOff x="179280" y="243000"/>
            <a:chExt cx="8712720" cy="6354000"/>
          </a:xfrm>
        </p:grpSpPr>
        <p:cxnSp>
          <p:nvCxnSpPr>
            <p:cNvPr id="289" name="_s3076"/>
            <p:cNvCxnSpPr>
              <a:stCxn id="290" idx="0"/>
              <a:endCxn id="291" idx="2"/>
            </p:cNvCxnSpPr>
            <p:nvPr/>
          </p:nvCxnSpPr>
          <p:spPr>
            <a:xfrm flipV="1">
              <a:off x="688140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2" name="_s3077"/>
            <p:cNvCxnSpPr>
              <a:stCxn id="293" idx="1"/>
              <a:endCxn id="294" idx="2"/>
            </p:cNvCxnSpPr>
            <p:nvPr/>
          </p:nvCxnSpPr>
          <p:spPr>
            <a:xfrm rot="10800000">
              <a:off x="2189160" y="4863240"/>
              <a:ext cx="670680" cy="115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5" name="_s3078"/>
            <p:cNvCxnSpPr>
              <a:stCxn id="294" idx="0"/>
              <a:endCxn id="296" idx="2"/>
            </p:cNvCxnSpPr>
            <p:nvPr/>
          </p:nvCxnSpPr>
          <p:spPr>
            <a:xfrm flipV="1">
              <a:off x="218988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7" name="_s3079"/>
            <p:cNvCxnSpPr>
              <a:stCxn id="291" idx="0"/>
              <a:endCxn id="298" idx="2"/>
            </p:cNvCxnSpPr>
            <p:nvPr/>
          </p:nvCxnSpPr>
          <p:spPr>
            <a:xfrm flipV="1" rot="16200000">
              <a:off x="5419800" y="513720"/>
              <a:ext cx="578160" cy="234576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9" name="_s3080"/>
            <p:cNvCxnSpPr>
              <a:stCxn id="296" idx="0"/>
              <a:endCxn id="298" idx="2"/>
            </p:cNvCxnSpPr>
            <p:nvPr/>
          </p:nvCxnSpPr>
          <p:spPr>
            <a:xfrm flipH="1" flipV="1" rot="5400000">
              <a:off x="3073680" y="513360"/>
              <a:ext cx="578160" cy="234684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98" name="_s3081"/>
            <p:cNvSpPr/>
            <p:nvPr/>
          </p:nvSpPr>
          <p:spPr>
            <a:xfrm>
              <a:off x="2525400" y="24300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ahoma"/>
                </a:rPr>
                <a:t>Права человек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_s3082"/>
            <p:cNvSpPr/>
            <p:nvPr/>
          </p:nvSpPr>
          <p:spPr>
            <a:xfrm>
              <a:off x="17928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Личные: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обеспечивают само</a:t>
              </a: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существова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человека и защиту от государственного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произвол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_s3083"/>
            <p:cNvSpPr/>
            <p:nvPr/>
          </p:nvSpPr>
          <p:spPr>
            <a:xfrm>
              <a:off x="487080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Политически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участие граждан  в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олитической жизни стран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_s3084"/>
            <p:cNvSpPr/>
            <p:nvPr/>
          </p:nvSpPr>
          <p:spPr>
            <a:xfrm>
              <a:off x="17928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Экономически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свободное распоряжени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редметами потребления и основным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факторами хозяйственной деятельно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_s3085"/>
            <p:cNvSpPr/>
            <p:nvPr/>
          </p:nvSpPr>
          <p:spPr>
            <a:xfrm>
              <a:off x="2860200" y="544176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ультурны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духовно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развитие и самореализаци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3086"/>
            <p:cNvSpPr/>
            <p:nvPr/>
          </p:nvSpPr>
          <p:spPr>
            <a:xfrm>
              <a:off x="487080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Социальны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благосостояние 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достойный уровень жизн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1" name="Picture 3" descr="ch1"/>
          <p:cNvPicPr/>
          <p:nvPr/>
        </p:nvPicPr>
        <p:blipFill>
          <a:blip r:embed="rId1"/>
          <a:stretch/>
        </p:blipFill>
        <p:spPr>
          <a:xfrm>
            <a:off x="395280" y="981000"/>
            <a:ext cx="3005280" cy="3743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2" name="Picture 4" descr="ch3"/>
          <p:cNvPicPr/>
          <p:nvPr/>
        </p:nvPicPr>
        <p:blipFill>
          <a:blip r:embed="rId2"/>
          <a:stretch/>
        </p:blipFill>
        <p:spPr>
          <a:xfrm>
            <a:off x="1476360" y="3213000"/>
            <a:ext cx="2744640" cy="34434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3" name="Picture 5" descr="ch4"/>
          <p:cNvPicPr/>
          <p:nvPr/>
        </p:nvPicPr>
        <p:blipFill>
          <a:blip r:embed="rId3"/>
          <a:stretch/>
        </p:blipFill>
        <p:spPr>
          <a:xfrm>
            <a:off x="5796000" y="907920"/>
            <a:ext cx="2755800" cy="345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4" name="Picture 6" descr="ch7"/>
          <p:cNvPicPr/>
          <p:nvPr/>
        </p:nvPicPr>
        <p:blipFill>
          <a:blip r:embed="rId4"/>
          <a:stretch/>
        </p:blipFill>
        <p:spPr>
          <a:xfrm>
            <a:off x="4932360" y="3284640"/>
            <a:ext cx="2924280" cy="3359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50920" y="1600200"/>
          <a:ext cx="8713800" cy="5000760"/>
        </p:xfrm>
        <a:graphic>
          <a:graphicData uri="http://schemas.openxmlformats.org/drawingml/2006/table">
            <a:tbl>
              <a:tblPr/>
              <a:tblGrid>
                <a:gridCol w="1743120"/>
                <a:gridCol w="1742760"/>
                <a:gridCol w="1741680"/>
                <a:gridCol w="1743120"/>
                <a:gridCol w="1743120"/>
              </a:tblGrid>
              <a:tr h="1039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рава и свободы граждан РФ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Обязан-ности граждан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ст. 15, 44, 57, 58, 59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Личные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, ст. 19-25, 27, 28, 45-54, 59, 60-6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олит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, ст. 29-3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Социаль-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, ст. 38-4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Эконом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, ст. 34-37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6:16:12Z</dcterms:created>
  <dc:creator>User</dc:creator>
  <dc:description/>
  <dc:language>en-US</dc:language>
  <cp:lastModifiedBy>Adel</cp:lastModifiedBy>
  <dcterms:modified xsi:type="dcterms:W3CDTF">2010-05-16T20:49:54Z</dcterms:modified>
  <cp:revision>16</cp:revision>
  <dc:subject/>
  <dc:title>Международные документы по правам человека</dc:title>
</cp:coreProperties>
</file>