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751-C7F6-4F91-8341-BE56B37AF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545-2C40-4289-BD0D-2E3385784C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8E5D-1AEB-4BFC-9DA2-F475ECF89A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934-C476-4386-A055-E7AFEEA81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7C3-0F09-4D2E-BC5E-C0B02EE4E6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1A9-74B4-488D-9996-366BA2C658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C26-E11B-43C7-92AA-51C2B0289D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4B23-A26E-46D1-8DDD-A045B04009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373-5C72-4711-BF47-7AF5870F30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463-6EEB-4CD8-9E1E-2B487C5362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766-EE9E-4391-9FD3-713B8D5178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E98-C504-43E7-8DD4-F17A956DBB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F39-8D08-48AE-A3F4-FBDF54AC7F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6608-D38B-4540-A0AD-0E584DE791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8534-8D3E-4974-BB5A-2975CE5D6E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D357-7094-47B8-92C4-68240325A7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3FB-0CD8-4D2B-9E66-6D9F01A458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CE4-7DDE-4540-9223-EEB9AE5646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691-C66D-421F-97DA-1CC1E2150E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C234-D6C8-4D40-BB2D-E560144A63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D8A-F486-4207-BF70-A50A417D8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FEC-9625-4125-9770-9A4D946CBD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4413-A8E1-4B0F-AC64-9AD0374E2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86C-7A74-40EC-8637-0A4E97DB04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7C20-C20D-4B52-BB03-128CA4C72C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42D9-8F6D-42DC-99A4-E9EADC689E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9B8-05BD-422A-8E9F-5B6080D1B0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D09D-2075-4841-AD8D-9A5D359797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E68-910F-44D6-A532-E559B42120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7E9-81EB-4F00-B3FF-21006078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127-50F3-4A44-9BF2-44915E63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905-AB40-4192-835A-670705D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332-961D-49E7-884E-5ABE8878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FB70-6F12-4480-8475-18678659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C23-AD44-4914-8B84-4B140514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4B9B-3F2C-4841-84CD-2C5D74EF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B7C-F6C8-47F3-9FD2-C88BA490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85B-6ECC-47C1-9B22-64E4384D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D7D-05E4-4E43-91F2-C3F2474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CC7-2CCD-4ECF-9ACB-205CA78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A94-F34A-4F2F-85F2-4AFB7BC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2803-F207-46D7-BFB8-29F5D64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AA2E-63BB-45DE-9396-890E394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6F2C-EC5B-4B26-9484-9420C7A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B24-1B27-4EB8-AD30-5E133312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B5CA-4863-4F2E-9E7D-90925000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7A00-6526-45D2-89B5-670D3A11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16C8-4744-4CD9-857A-6F98170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0605-156D-46C3-82DE-CE577CA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E05E-5B44-45E7-A08E-9F65FB34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656B-DC20-4EFD-923B-96D329BF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250-8A3D-4592-8899-4C1DB91D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93B3-4FC4-4D4E-A254-2F1691C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4AD5-DFBB-4F15-AC60-30670CB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E951-CB4C-4A91-8194-EBE3265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5CEC-83A0-4421-8321-5C78407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7FA0-BE7B-437E-8CF1-5B4B5161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1BD9-F019-4096-8AE4-6458B147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915E-56EE-437F-BCB8-2D6263C9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571E-8000-4440-8048-C0D7B01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4E96-1C75-4316-A955-6C27F0DB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BB00-3144-414C-B5B6-BC810AE1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438-2C1B-4057-A654-8F330C6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F1C2-7251-4C3B-AA31-8E6CA885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5849-6D5D-4933-9A38-034AC56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5DF4-BC95-409F-ABE0-5437F27A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1132-BC14-44D6-960F-7B172444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21E5-FCF1-48C0-816F-F648B23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68A1-C569-42AA-BE1A-9AFB2CB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0151-1D31-40B0-9721-5F8DF8E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A6AF-9175-48C3-9469-0A447092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1C39-506E-44CD-8BA0-89417E3E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D16-5A34-4C12-BE60-00187AD7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268-2EA4-417D-9ACE-C1E260F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EFA-AAB0-4A51-9233-38E5229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D66-25F8-46EA-8C6C-17C073D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D87-B2CC-4976-8BA9-1DA6D04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A55C-C0F6-43C3-B706-D90AB4043A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0D3-2D99-4773-AC9E-65C289BB1F2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D443-57A8-445B-931D-1C98467C55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7D2-4CC2-4A11-B642-79308B0794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hr.ru/documents/doc/2440800/2440800-001.htm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hyperlink" Target="http://echr.ru/documents/doc/10003000/10003000-003.htm#463" TargetMode="Externa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565360"/>
            <a:ext cx="5545080" cy="357048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4076640"/>
            <a:ext cx="4686120" cy="25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22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43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44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47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logocoe64"/>
          <p:cNvPicPr/>
          <p:nvPr/>
        </p:nvPicPr>
        <p:blipFill>
          <a:blip r:embed="rId2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68360" y="836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ого Суда по правам человека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Entrance of the ECHR building"/>
          <p:cNvPicPr/>
          <p:nvPr/>
        </p:nvPicPr>
        <p:blipFill>
          <a:blip r:embed="rId2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ий Суд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татьей 46 (ч. 3)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etter"/>
          <p:cNvSpPr/>
          <p:nvPr/>
        </p:nvSpPr>
        <p:spPr>
          <a:xfrm>
            <a:off x="5940360" y="476280"/>
            <a:ext cx="2266920" cy="1133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68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69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4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5" name="_s1028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1029"/>
            <p:cNvCxnSpPr>
              <a:stCxn id="269" idx="0"/>
              <a:endCxn id="267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7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5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Естественные прав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сновны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руг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собственност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охрану своей собственности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6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77" name="_s2052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2053"/>
            <p:cNvCxnSpPr>
              <a:stCxn id="281" idx="0"/>
              <a:endCxn id="279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2054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2055"/>
            <p:cNvCxnSpPr>
              <a:stCxn id="285" idx="0"/>
              <a:endCxn id="279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9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89" name="_s3076"/>
            <p:cNvCxnSpPr>
              <a:stCxn id="290" idx="0"/>
              <a:endCxn id="291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3077"/>
            <p:cNvCxnSpPr>
              <a:stCxn id="293" idx="1"/>
              <a:endCxn id="294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5" name="_s3078"/>
            <p:cNvCxnSpPr>
              <a:stCxn id="294" idx="0"/>
              <a:endCxn id="296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79"/>
            <p:cNvCxnSpPr>
              <a:stCxn id="291" idx="0"/>
              <a:endCxn id="298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80"/>
            <p:cNvCxnSpPr>
              <a:stCxn id="296" idx="0"/>
              <a:endCxn id="298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1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2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3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4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3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ава и свободы граждан РФ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Adel</cp:lastModifiedBy>
  <dcterms:modified xsi:type="dcterms:W3CDTF">2010-05-16T20:49:54Z</dcterms:modified>
  <cp:revision>16</cp:revision>
  <dc:subject/>
  <dc:title>Международные документы по правам человека</dc:title>
</cp:coreProperties>
</file>