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D53-B635-4A6B-9555-D05F3F5C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2C4-F361-466B-A63A-08ED581C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06A-A33A-46FC-A73E-35D4DF8E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F30-BC3C-40AA-AF6A-47210196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D3F8-A56D-4CBE-ACEA-43190361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850D-8622-4462-8633-9F530139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AC35-1950-41F6-8EB8-4AB40136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FF9A-DBCE-41EA-A44D-33B96736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E33A-D28F-4143-9469-B185405A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8533-51AB-4DF7-9516-33BF0791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FF0D-33C2-40EE-B131-370565AE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F40-E7EA-4AC5-A340-C216C6AF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92CD-67EF-4CF4-84D9-E942087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A080-0E60-4277-9FA0-1FACE072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3A6F-24A1-45A7-A5F9-970B9DCF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86A2-1953-4616-94F2-52183E13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45A-C3BC-4BAE-8BCB-10DD683D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B39-BBA5-483F-AD85-B4A906F2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FCA-A981-45D0-A3E4-86B5F020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15D-CCA9-4C41-965D-A958E9C1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716-BF0D-437C-8F88-3CC00AB7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B3D-E9D3-4064-B957-1140DF4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24C-A75B-4326-A7AF-22265D5B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656-C40D-4899-9200-CA3ECC7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F35F-488D-48FF-9E2B-CCE71723CD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657C-1E39-432A-AA0B-EBF04FE71A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38040" y="4195440"/>
            <a:ext cx="5567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логический празд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600200"/>
            <a:ext cx="7772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Зимующие птицы 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Конкурс “ Кто здесь лишний?”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азвания каких птиц здесь зашифрованы, какая птица не является зимующей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828800"/>
          <a:ext cx="8229600" cy="4724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16040"/>
                <a:gridCol w="167652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            </a:t>
            </a: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Конкурс «Узнай птицу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НИЦАСИ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БЕЙРОВО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КАРОСО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ЛИНФИ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КАЛЯПО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ЛУБЬГО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КАРОВКЕД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  МОРОДОКЗИ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НАВО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ЗЕНЬПОЛПО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конкурс «Музыкальный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ы по очереди исполняют песни связанные с птиц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Акция «Помоги зимующей птице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8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29322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Чтоб весною птичек слушать, Дай зимою им покушать!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Конкурс:  « Птичья страничка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1851120"/>
            <a:ext cx="541044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Коман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DownRibbonSharp"/>
          <p:cNvSpPr/>
          <p:nvPr/>
        </p:nvSpPr>
        <p:spPr>
          <a:xfrm>
            <a:off x="0" y="3352680"/>
            <a:ext cx="5867280" cy="1219320"/>
          </a:xfrm>
          <a:custGeom>
            <a:avLst/>
            <a:gdLst>
              <a:gd name="textAreaLeft" fmla="*/ 1466640 w 5867280"/>
              <a:gd name="textAreaRight" fmla="*/ 4400640 w 5867280"/>
              <a:gd name="textAreaTop" fmla="*/ 15228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b5481"/>
                </a:solidFill>
                <a:latin typeface="Arial"/>
              </a:rPr>
              <a:t>клест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DownRibbonSharp"/>
          <p:cNvSpPr/>
          <p:nvPr/>
        </p:nvSpPr>
        <p:spPr>
          <a:xfrm>
            <a:off x="2438280" y="1600200"/>
            <a:ext cx="5791320" cy="1219320"/>
          </a:xfrm>
          <a:custGeom>
            <a:avLst/>
            <a:gdLst>
              <a:gd name="textAreaLeft" fmla="*/ 1447920 w 5791320"/>
              <a:gd name="textAreaRight" fmla="*/ 4343760 w 5791320"/>
              <a:gd name="textAreaTop" fmla="*/ 15228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негир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257800"/>
            <a:ext cx="6781680" cy="1219320"/>
          </a:xfrm>
          <a:custGeom>
            <a:avLst/>
            <a:gdLst>
              <a:gd name="textAreaLeft" fmla="*/ 1695240 w 6781680"/>
              <a:gd name="textAreaRight" fmla="*/ 5086440 w 6781680"/>
              <a:gd name="textAreaTop" fmla="*/ 15228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воробуш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Конкурс « Подбери клюв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41640" y="2290680"/>
            <a:ext cx="4860720" cy="1366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1079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По изображениями клювов разных птиц, нужно определить, чем они питаю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e5ffff"/>
                </a:solidFill>
                <a:latin typeface="Tahoma"/>
              </a:rPr>
              <a:t>конкурс. «Птичья столовая»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29000" y="1600200"/>
            <a:ext cx="1447920" cy="1444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4191120"/>
            <a:ext cx="16765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очек с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191120"/>
            <a:ext cx="190476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годы ряб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257800"/>
            <a:ext cx="175248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ше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4191120"/>
            <a:ext cx="2133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солнеч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5257800"/>
            <a:ext cx="19814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едровые оре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105520" y="160020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781680" y="1600200"/>
            <a:ext cx="157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e5ffff"/>
                </a:solidFill>
                <a:latin typeface="Tahoma"/>
              </a:rPr>
              <a:t>Конкурс «Загадки»</a:t>
            </a: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Спинкою зеленовата, брюшком желтова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Чёрненькая шапочка и полоска шарф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2. Чернокрылый, красногрудый он везде найдёт прию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е боится он простуды – с первым снегом тут как ту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Птичка-невеличка ножки имеет, а ходить не уме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Хочет сделать шажок- получается прыжо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4. Он по-рабочему одет- удобно, просто, лов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а нем малиновый берет и пестрая спецовк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. Кто там прыгает, шуршит, клювом шишки потроши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н бесстрашней всех в природе, ведь зимой птенцов выводит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. Непоседа пестрая, птица длиннохвоста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тица говорливая, самая болтлива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конкурс « Птичья викторина»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Когда температура тела воробья ниже: зимой или лет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Почему снегиря назвали снегире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Какая птица выводит своих птенцов зимо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Почему снегири и синицы любят водить компанию с дятл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Почему поползня называют лесным акробат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Жизнь какой птицы тесно связана с человек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Эта птица может поворачивать голову на 180 и даже на 270 градус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Почему в сильные морозы птицы сидят нахохлившис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Почему в сильные морозы куропатки прячутся под снег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 Почему основная масса птиц Хабаровского края улетает с наступлением зимы в теплые края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                        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конкурс </a:t>
            </a:r>
            <a:br>
              <a:rPr sz="3200"/>
            </a:b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«Аудиовикторина – Голоса птиц»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43434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2590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419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14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514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4197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580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63868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29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61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732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577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8828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0:47:18Z</dcterms:created>
  <dc:creator>МАМА</dc:creator>
  <dc:description/>
  <dc:language>en-US</dc:language>
  <cp:lastModifiedBy>Миша</cp:lastModifiedBy>
  <dcterms:modified xsi:type="dcterms:W3CDTF">2010-05-23T09:22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