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55B3-89B4-4931-9327-F685B780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177F-2A14-421B-AB8B-821F9DC3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13AB-4EC5-44F7-A161-AF5C110B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E01-626A-4D61-8734-124C1004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388C-916E-4CF7-ACA0-8CD3A0D5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0AD5-C8E0-48FB-91BE-5E622D00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D32E-2646-4C03-86C1-7EBAEB15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E68C-6BFA-42FA-950B-1DF75D97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1414-0582-492E-87F1-FE021DBB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C356-F55E-422E-8966-B377F8C8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935E-8A4F-43C6-918F-B06BADCE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DFF1-A751-4853-AA9B-4FABBCD3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4A3C-A813-42E7-99D6-8CA784BA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D6A3-9279-490B-9110-FBE7B51E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7E82-EE28-4907-AFA8-1AA17F17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507C-0CAB-49C9-8302-7C0A8828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6B28-48DB-4B76-A4A7-F0F7643D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A91-1ECF-4E0B-9D8B-8A54A347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7D5-351D-4CF1-A48B-0262981A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A44-87FB-4B04-B3DF-DA3CB28E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57CC-A1AE-4D33-9008-FFE5548C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9591-610E-496D-B168-5D4CE5F9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8DF2-EC36-423A-8C51-CF81305E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43B-A1DC-4B0D-8D0C-C6A4C215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C4E7-2B10-44D8-B246-42B17EED20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7C10-A4CD-490A-AD15-A647C55ACB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38040" y="4195440"/>
            <a:ext cx="55674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логический празд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600200"/>
            <a:ext cx="77724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 Зимующие птицы 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ffff"/>
                </a:solidFill>
                <a:latin typeface="Tahoma"/>
              </a:rPr>
              <a:t>Конкурс “ Кто здесь лишний?”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Названия каких птиц здесь зашифрованы, какая птица не является зимующей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828800"/>
          <a:ext cx="8229600" cy="47242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16040"/>
                <a:gridCol w="167652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ffff"/>
                </a:solidFill>
                <a:latin typeface="Tahoma"/>
              </a:rPr>
              <a:t>            </a:t>
            </a:r>
            <a:r>
              <a:rPr b="1" i="1" lang="en-US" sz="3200" spc="-1" strike="noStrike">
                <a:solidFill>
                  <a:srgbClr val="e5ffff"/>
                </a:solidFill>
                <a:latin typeface="Tahoma"/>
              </a:rPr>
              <a:t>Конкурс «Узнай птицу»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НИЦАСИ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БЕЙРОВО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КАРОСО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ЛИНФИ…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КАЛЯПО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ЛУБЬГО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. КАРОВКЕД…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.  МОРОДОКЗИ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. НАВОР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.ЗЕНЬПОЛПО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e5ffff"/>
                </a:solidFill>
                <a:latin typeface="Tahoma"/>
              </a:rPr>
              <a:t>конкурс «Музыкальный»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манды по очереди исполняют песни связанные с птица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5ffff"/>
                </a:solidFill>
                <a:latin typeface="Tahoma"/>
              </a:rPr>
              <a:t>Акция «Помоги зимующей птице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181480" y="1828800"/>
            <a:ext cx="3429000" cy="2876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581280" y="3733920"/>
            <a:ext cx="293220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«Чтоб весною птичек слушать, Дай зимою им покушать!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9250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5ffff"/>
                </a:solidFill>
                <a:latin typeface="Tahoma"/>
              </a:rPr>
              <a:t>Конкурс:  « Птичья страничка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52480" y="1851120"/>
            <a:ext cx="541044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Команд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DownRibbonSharp"/>
          <p:cNvSpPr/>
          <p:nvPr/>
        </p:nvSpPr>
        <p:spPr>
          <a:xfrm>
            <a:off x="0" y="3352680"/>
            <a:ext cx="5867280" cy="1219320"/>
          </a:xfrm>
          <a:custGeom>
            <a:avLst/>
            <a:gdLst>
              <a:gd name="textAreaLeft" fmla="*/ 1466640 w 5867280"/>
              <a:gd name="textAreaRight" fmla="*/ 4400640 w 5867280"/>
              <a:gd name="textAreaTop" fmla="*/ 15228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2700"/>
                </a:moveTo>
                <a:lnTo>
                  <a:pt x="5400" y="2700"/>
                </a:lnTo>
                <a:lnTo>
                  <a:pt x="5400" y="18900"/>
                </a:lnTo>
              </a:path>
              <a:path fill="none" w="21600" h="21600">
                <a:moveTo>
                  <a:pt x="5400" y="2700"/>
                </a:moveTo>
                <a:lnTo>
                  <a:pt x="8100" y="0"/>
                </a:lnTo>
              </a:path>
              <a:path fill="none" w="21600" h="21600">
                <a:moveTo>
                  <a:pt x="13500" y="2700"/>
                </a:moveTo>
                <a:lnTo>
                  <a:pt x="16200" y="2700"/>
                </a:lnTo>
                <a:lnTo>
                  <a:pt x="16200" y="18900"/>
                </a:lnTo>
              </a:path>
              <a:path fill="none" w="21600" h="21600">
                <a:moveTo>
                  <a:pt x="16200" y="2700"/>
                </a:moveTo>
                <a:lnTo>
                  <a:pt x="135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b5481"/>
                </a:solidFill>
                <a:latin typeface="Arial"/>
              </a:rPr>
              <a:t>клест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DownRibbonSharp"/>
          <p:cNvSpPr/>
          <p:nvPr/>
        </p:nvSpPr>
        <p:spPr>
          <a:xfrm>
            <a:off x="2438280" y="1600200"/>
            <a:ext cx="5791320" cy="1219320"/>
          </a:xfrm>
          <a:custGeom>
            <a:avLst/>
            <a:gdLst>
              <a:gd name="textAreaLeft" fmla="*/ 1447920 w 5791320"/>
              <a:gd name="textAreaRight" fmla="*/ 4343760 w 5791320"/>
              <a:gd name="textAreaTop" fmla="*/ 15228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2700"/>
                </a:moveTo>
                <a:lnTo>
                  <a:pt x="5400" y="2700"/>
                </a:lnTo>
                <a:lnTo>
                  <a:pt x="5400" y="18900"/>
                </a:lnTo>
              </a:path>
              <a:path fill="none" w="21600" h="21600">
                <a:moveTo>
                  <a:pt x="5400" y="2700"/>
                </a:moveTo>
                <a:lnTo>
                  <a:pt x="8100" y="0"/>
                </a:lnTo>
              </a:path>
              <a:path fill="none" w="21600" h="21600">
                <a:moveTo>
                  <a:pt x="13500" y="2700"/>
                </a:moveTo>
                <a:lnTo>
                  <a:pt x="16200" y="2700"/>
                </a:lnTo>
                <a:lnTo>
                  <a:pt x="16200" y="18900"/>
                </a:lnTo>
              </a:path>
              <a:path fill="none" w="21600" h="21600">
                <a:moveTo>
                  <a:pt x="16200" y="2700"/>
                </a:moveTo>
                <a:lnTo>
                  <a:pt x="13500" y="0"/>
                </a:ln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снегир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5257800"/>
            <a:ext cx="6781680" cy="1219320"/>
          </a:xfrm>
          <a:custGeom>
            <a:avLst/>
            <a:gdLst>
              <a:gd name="textAreaLeft" fmla="*/ 1695240 w 6781680"/>
              <a:gd name="textAreaRight" fmla="*/ 5086440 w 6781680"/>
              <a:gd name="textAreaTop" fmla="*/ 15228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воробуш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Tahoma"/>
              </a:rPr>
              <a:t>Конкурс « Подбери клюв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41640" y="2290680"/>
            <a:ext cx="4860720" cy="1366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4107960"/>
            <a:ext cx="822960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Задание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По изображениями клювов разных птиц, нужно определить, чем они питаю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e5ffff"/>
                </a:solidFill>
                <a:latin typeface="Tahoma"/>
              </a:rPr>
              <a:t>конкурс. «Птичья столовая»</a:t>
            </a:r>
            <a:endParaRPr b="0" lang="en-US" sz="37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1219320" cy="1447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905120" y="1600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429000" y="1600200"/>
            <a:ext cx="1447920" cy="1444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581280" y="4191120"/>
            <a:ext cx="16765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сочек с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191120"/>
            <a:ext cx="190476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ягоды ряб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5257800"/>
            <a:ext cx="175248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ше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4191120"/>
            <a:ext cx="213372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м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солнеч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5257800"/>
            <a:ext cx="198144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едровые орех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5105520" y="1600200"/>
            <a:ext cx="1447560" cy="1371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6781680" y="1600200"/>
            <a:ext cx="1573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e5ffff"/>
                </a:solidFill>
                <a:latin typeface="Tahoma"/>
              </a:rPr>
              <a:t>Конкурс «Загадки»</a:t>
            </a: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. Спинкою зеленовата, брюшком желтоват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Чёрненькая шапочка и полоска шарф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2. Чернокрылый, красногрудый он везде найдёт прию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Не боится он простуды – с первым снегом тут как ту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. Птичка-невеличка ножки имеет, а ходить не уме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Хочет сделать шажок- получается прыжок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4. Он по-рабочему одет- удобно, просто, лов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На нем малиновый берет и пестрая спецовка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5. Кто там прыгает, шуршит, клювом шишки потрошит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н бесстрашней всех в природе, ведь зимой птенцов выводит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6. Непоседа пестрая, птица длиннохвоста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тица говорливая, самая болтлива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конкурс « Птичья викторина»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Когда температура тела воробья ниже: зимой или лето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Почему снегиря назвали снегире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Какая птица выводит своих птенцов зимой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Почему снегири и синицы любят водить компанию с дятло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Почему поползня называют лесным акробато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 Жизнь какой птицы тесно связана с человеком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 Эта птица может поворачивать голову на 180 и даже на 270 градусов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Почему в сильные морозы птицы сидят нахохлившись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.Почему в сильные морозы куропатки прячутся под снег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. Почему основная масса птиц Хабаровского края улетает с наступлением зимы в теплые края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5ffff"/>
                </a:solidFill>
                <a:latin typeface="Tahoma"/>
              </a:rPr>
              <a:t>                         </a:t>
            </a:r>
            <a:r>
              <a:rPr b="1" i="1" lang="ru-RU" sz="3200" spc="-1" strike="noStrike">
                <a:solidFill>
                  <a:srgbClr val="e5ffff"/>
                </a:solidFill>
                <a:latin typeface="Tahoma"/>
              </a:rPr>
              <a:t>конкурс </a:t>
            </a:r>
            <a:br>
              <a:rPr sz="3200"/>
            </a:br>
            <a:r>
              <a:rPr b="1" i="1" lang="ru-RU" sz="3200" spc="-1" strike="noStrike">
                <a:solidFill>
                  <a:srgbClr val="e5ffff"/>
                </a:solidFill>
                <a:latin typeface="Tahoma"/>
              </a:rPr>
              <a:t>«Аудиовикторина – Голоса птиц»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43434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25909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4197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5146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25146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905120" y="2971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35268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419720" y="2971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8580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5638680" y="4800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6294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2614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732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5774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8828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0:47:18Z</dcterms:created>
  <dc:creator>МАМА</dc:creator>
  <dc:description/>
  <dc:language>en-US</dc:language>
  <cp:lastModifiedBy>Миша</cp:lastModifiedBy>
  <dcterms:modified xsi:type="dcterms:W3CDTF">2010-05-23T09:22:3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