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png" ContentType="image/png"/>
  <Override PartName="/ppt/media/image6.wmf" ContentType="image/x-wmf"/>
  <Override PartName="/ppt/media/image16.gif" ContentType="image/gif"/>
  <Override PartName="/ppt/media/image1.wmf" ContentType="image/x-wmf"/>
  <Override PartName="/ppt/media/image15.png" ContentType="image/png"/>
  <Override PartName="/ppt/media/image9.wmf" ContentType="image/x-wmf"/>
  <Override PartName="/ppt/media/image14.gif" ContentType="image/gif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153-4CB0-4B4D-BC68-0379CD79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05B-2A02-405B-94D4-92FC63D7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771-FF69-4825-9DB0-BEDADF00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4E8-97A3-4579-8313-D704ECFC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E0D-C04D-4519-A5D0-D496C4DF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DB01-AC47-43C9-9788-95BC3BE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3D47-46A8-45CE-B8A6-EF58BB1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965F-B52D-409C-B13F-0D7ABECD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FCB-7DFE-4FBE-8B23-AB0DC13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AE0A-E0B1-41E8-B982-94EC7563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EB70-F8F8-40E4-8069-A4B1CE1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73F-D43F-42F2-A9C4-54E6671B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A850-75E5-4B73-939F-CC855EF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2CF-A278-4A95-98B4-85A081B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DFC-5D1D-40AC-BD53-9A99AF3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52EE-95B4-4F08-A59B-ABFF4B6F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0AA-0CE4-4B9C-B1A5-B9E078A1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F94-0D28-49FF-A0A6-7AA9C15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8A7-BB94-4F5E-8D6C-C7965D06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E83-DAA4-4C6A-8704-2D44F7CF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C05-93FA-4CA2-83DA-701BF07E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F42-9BB2-4915-8077-0EA3CCE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9B5-0475-446E-BA59-79A77C9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924-6EFB-4416-A72C-6AB0331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607F-352C-48DB-B4AA-9F536E5A7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8D2-544E-4D39-AB08-9E119FD8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hyperlink" Target="http://www/" TargetMode="External"/><Relationship Id="rId3" Type="http://schemas.openxmlformats.org/officeDocument/2006/relationships/hyperlink" Target="http://www/" TargetMode="External"/><Relationship Id="rId4" Type="http://schemas.openxmlformats.org/officeDocument/2006/relationships/hyperlink" Target="http://svetlanal.narod.ru/anim.html" TargetMode="External"/><Relationship Id="rId5" Type="http://schemas.openxmlformats.org/officeDocument/2006/relationships/hyperlink" Target="http://svetlanal.narod.ru/anim.html" TargetMode="External"/><Relationship Id="rId6" Type="http://schemas.openxmlformats.org/officeDocument/2006/relationships/hyperlink" Target="http://svetlanal.narod.ru/anim.html" TargetMode="External"/><Relationship Id="rId7" Type="http://schemas.openxmlformats.org/officeDocument/2006/relationships/hyperlink" Target="http://svetlanal.narod.ru/anim.html" TargetMode="External"/><Relationship Id="rId8" Type="http://schemas.openxmlformats.org/officeDocument/2006/relationships/hyperlink" Target="http://svetlanal.narod.ru/anim.html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М.С.Соловейчик. К тайнам </a:t>
            </a:r>
            <a:br>
              <a:rPr sz="2800"/>
            </a:b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нашего языка.</a:t>
            </a:r>
            <a:br>
              <a:rPr sz="2800"/>
            </a:b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2 класс</a:t>
            </a:r>
            <a:endParaRPr b="0" i="1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357720"/>
            <a:ext cx="6337440" cy="2232000"/>
          </a:xfrm>
          <a:prstGeom prst="roundRect">
            <a:avLst>
              <a:gd name="adj" fmla="val 16667"/>
            </a:avLst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по программе «Гармо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 ГОУ СОШ №8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чковой Е.В.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«Собираем родствен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Задания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Напиши сло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Раздели для перенос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Раздели слово на слог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Запиши его транскрипц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Подбери родственные сло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5467320" cy="5897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549360"/>
            <a:ext cx="3816360" cy="4248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248000"/>
              <a:gd name="textAreaBottom" fmla="*/ 4061880 h 424800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орень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же, как и у кус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ень слова есть у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ь внимателен к слов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ыщи в них корень с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с, лесок, лесной, лес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, цветок, цветной, цве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ётчик, самолёт, п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яной, ледовый, л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д, посадка, поса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, родители, ро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дит, выходка, 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й, трудись, тр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 Бетень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66"/>
                </a:solidFill>
                <a:latin typeface="Arial Black"/>
              </a:rPr>
              <a:t>Физминутк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37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54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93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3716280"/>
            <a:ext cx="43200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19653E-006 C -0.01232 -0.27191 0.14653 -0.50659 0.35955 -0.52277 C 0.56337 -0.54243 0.75417 -0.36115 0.76684 -0.09734 C 0.78316 0.1452 0.64914 0.37249 0.45799 0.3889 C 0.28368 0.40139 0.11771 0.25064 0.10487 0.02451 C 0.09237 -0.18266 0.20382 -0.37711 0.36563 -0.39376 C 0.51528 -0.40532 0.65556 -0.2793 0.66528 -0.08971 C 0.67448 0.08093 0.58525 0.24624 0.45157 0.25526 C 0.33073 0.26705 0.21667 0.16971 0.2066 0.01596 C 0.20052 -0.12208 0.26737 -0.25549 0.3724 -0.26358 C 0.46476 -0.27191 0.55643 -0.19884 0.56337 -0.08092 C 0.56962 0.02058 0.52171 0.11723 0.44514 0.12555 C 0.3816 0.13341 0.31476 0.08902 0.31146 0.00809 C 0.30556 -0.05688 0.33073 -0.12647 0.3783 -0.13364 C 0.41684 -0.13364 0.45504 -0.11815 0.46129 -0.07329 C 0.46476 -0.04462 0.45799 -0.01618 0.43941 -0.00416 C 0.42952 -2.19652999999993E-006 0.42309 -2.19652999999993E-006 0.41389 -0.00416 E">
                                      <p:cBhvr>
                                        <p:cTn id="10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7672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C 0.0224 -0.03792 0.04566 -0.08 0.06788 -0.1341 C 0.12952 -0.2867 0.14583 -0.43561 0.10087 -0.45826 C 0.05521 -0.48509 -0.03281 -0.3778 -0.0941 -0.22543 C -0.12656 -0.14474 -0.14583 -0.06844 -0.1526 -0.01063 C -0.16215 0.03491 -0.16528 0.08046 -0.16528 0.13434 C -0.16528 0.30613 -0.12326 0.44832 -0.07396 0.44832 C -0.02569 0.44832 0.01632 0.30613 0.01632 0.13434 C 0.01632 0.05411 0.00695 -0.02266 -0.00937 -0.07561 C -0.01632 -0.12185 -0.03281 -0.17156 -0.05173 -0.2215 C -0.11649 -0.3778 -0.20434 -0.48509 -0.25035 -0.45826 C -0.29514 -0.43191 -0.27864 -0.2867 -0.21389 -0.12994 C -0.18802 -0.05665 -0.1526 0.00416 -0.11649 0.04601 C -0.09045 0.08486 -0.06128 0.11931 -0.02257 0.15306 C 0.0941 0.26382 0.21059 0.31376 0.2434 0.26798 C 0.27274 0.2222 0.20799 0.09595 0.0908 -0.01063 C 0.04236 -0.05665 -0.00937 -0.09133 -0.05173 -0.11422 C -0.09045 -0.13711 -0.13976 -0.15653 -0.19132 -0.16763 C -0.33385 -0.20624 -0.45729 -0.19468 -0.46684 -0.1341 C -0.47951 -0.07561 -0.37292 -1.15607000000101E-006 -0.23038 0.03885 C -0.16528 0.05411 -0.10364 0.06127 -0.05503 0.05757 C -0.01302 0.05757 0.03247 0.05041 0.08125 0.03885 C 0.22379 -1.15607000000101E-006 0.3316 -0.08 0.31771 -0.13711 C 0.30816 -0.19468 0.18472 -0.20971 0.04236 -0.17156 C -0.02569 -0.15214 -0.08785 -0.12578 -0.12951 -0.09549 C -0.16528 -0.07214 -0.20087 -0.04578 -0.23993 -0.01063 C -0.35347 0.10012 -0.42187 0.2222 -0.38906 0.26798 C -0.35972 0.31376 -0.23993 0.26382 -0.12656 0.15676 C -0.07153 0.10358 -0.02569 0.05041 -1.38889E-006 -1.15607E-006 Z">
                                      <p:cBhvr>
                                        <p:cTn id="119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Самостоятельная работ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Упр.285 – спиши слова, выдели в них общую часть – корен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пиши и подчеркни лишне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88280" y="5013360"/>
            <a:ext cx="1444680" cy="148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87280" y="3645000"/>
            <a:ext cx="74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Добрый, чуткий, доб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читель, школьник, ученик, 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иповник, шипеть, ши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одный, вода, вод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Собираем родственников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64000" y="2421000"/>
            <a:ext cx="2347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Итог урок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Чтобы найти корень, нужно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Подобрать …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Выделить  …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115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3614" t="13692" r="45044" b="10396"/>
          <a:stretch/>
        </p:blipFill>
        <p:spPr>
          <a:xfrm>
            <a:off x="395280" y="1773360"/>
            <a:ext cx="4103640" cy="4392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Мы все из одного гнезд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ом, во мне жи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домашняя работа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я на дом зад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страшилка – домо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то не хочет жить со м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разлетимся кто-к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мы родные на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2492280"/>
            <a:ext cx="647640" cy="144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2060640"/>
            <a:ext cx="647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3357720"/>
            <a:ext cx="647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пр. 286; правило, стр.7 (учить);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аписать 5 словарных с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G:\Анимации\141.gif"/>
          <p:cNvPicPr/>
          <p:nvPr/>
        </p:nvPicPr>
        <p:blipFill>
          <a:blip r:embed="rId1"/>
          <a:stretch/>
        </p:blipFill>
        <p:spPr>
          <a:xfrm>
            <a:off x="2428920" y="3357720"/>
            <a:ext cx="343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К, прилетели, кормушке, снегири, и , суетливые, красногрудые, синички.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17840" y="3344400"/>
            <a:ext cx="59846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Рефлекс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G:\Анимации\Солнце.gif"/>
          <p:cNvPicPr/>
          <p:nvPr/>
        </p:nvPicPr>
        <p:blipFill>
          <a:blip r:embed="rId1"/>
          <a:stretch/>
        </p:blipFill>
        <p:spPr>
          <a:xfrm>
            <a:off x="4429080" y="785880"/>
            <a:ext cx="85716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222743507_3D-graphics__003539_"/>
          <p:cNvPicPr/>
          <p:nvPr/>
        </p:nvPicPr>
        <p:blipFill>
          <a:blip r:embed="rId2"/>
          <a:srcRect l="4323" t="3795" r="4323" b="11160"/>
          <a:stretch/>
        </p:blipFill>
        <p:spPr>
          <a:xfrm>
            <a:off x="395280" y="311040"/>
            <a:ext cx="8280360" cy="57819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3959280" y="1428840"/>
            <a:ext cx="37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571680" y="2357280"/>
            <a:ext cx="83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егодня на уроке мы познакомили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Мне было трудн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Я сомнева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Я доволен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:\Анимации\У доски.gif"/>
          <p:cNvPicPr/>
          <p:nvPr/>
        </p:nvPicPr>
        <p:blipFill>
          <a:blip r:embed="rId3"/>
          <a:stretch/>
        </p:blipFill>
        <p:spPr>
          <a:xfrm>
            <a:off x="714240" y="21420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1143000" y="57168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В презентации использованы материалы с сай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1258920" y="263700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alibri"/>
                <a:hlinkClick r:id="rId1"/>
              </a:rPr>
              <a:t>http://www</a:t>
            </a:r>
            <a:r>
              <a:rPr b="1" lang="en-US" sz="3200" spc="-1" strike="noStrike">
                <a:solidFill>
                  <a:srgbClr val="004274"/>
                </a:solidFill>
                <a:latin typeface="Calibri"/>
              </a:rPr>
              <a:t> viki 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alibri"/>
                <a:hlinkClick r:id="rId2"/>
              </a:rPr>
              <a:t>http://www</a:t>
            </a:r>
            <a:r>
              <a:rPr b="1" lang="en-US" sz="3200" spc="-1" strike="noStrike">
                <a:solidFill>
                  <a:srgbClr val="004274"/>
                </a:solidFill>
                <a:latin typeface="Calibri"/>
              </a:rPr>
              <a:t> zavuch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alibri"/>
                <a:hlinkClick r:id="rId3"/>
              </a:rPr>
              <a:t>http://www</a:t>
            </a:r>
            <a:r>
              <a:rPr b="1" lang="en-US" sz="3200" spc="-1" strike="noStrike">
                <a:solidFill>
                  <a:srgbClr val="004274"/>
                </a:solidFill>
                <a:latin typeface="Calibri"/>
              </a:rPr>
              <a:t> wunderkinder narod. 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2766960" y="3983040"/>
            <a:ext cx="3610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28735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1403280" y="479736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6"/>
              </a:rPr>
              <a:t>svetlanal.narod.ru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8"/>
              </a:rPr>
              <a:t>ani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74"/>
                </a:solidFill>
                <a:latin typeface="Times New Roman"/>
              </a:rPr>
              <a:t>http</a:t>
            </a:r>
            <a:r>
              <a:rPr b="1" lang="ru-RU" sz="3200" spc="-1" strike="noStrike">
                <a:solidFill>
                  <a:srgbClr val="004274"/>
                </a:solidFill>
                <a:latin typeface="Times New Roman"/>
              </a:rPr>
              <a:t>://</a:t>
            </a:r>
            <a:r>
              <a:rPr b="1" lang="en-US" sz="3200" spc="-1" strike="noStrike">
                <a:solidFill>
                  <a:srgbClr val="004274"/>
                </a:solidFill>
                <a:latin typeface="Times New Roman"/>
              </a:rPr>
              <a:t>  www.gifpark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99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8064720" cy="220500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Родник родит речку, а река льётся-течёт через всю нашу матушку-землю, через всю Родину, кормит народ. Вы глядите, как это складно выходит: родник, Родина, народ. Все эти слова как бы родня.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К. Паустовский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Моя родня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Мама с папой – моя родня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Нет роднее родни у меня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И сестрёнка родня, и братишка,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И щенок лопоухий Тишка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Я родных своих очень люблю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Скоро всем подарки куплю …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                                               Я. Аким</a:t>
            </a:r>
            <a:endParaRPr b="0" i="1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357720"/>
            <a:ext cx="7129440" cy="2447640"/>
          </a:xfrm>
          <a:prstGeom prst="roundRect">
            <a:avLst>
              <a:gd name="adj" fmla="val 16667"/>
            </a:avLst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ОДСТВЕНН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лова,которые можно объ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помощью одного и того ж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ому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 родственных слов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бщая часть и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ее значе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8190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Словарная работ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7920000" cy="242748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Отгадайте: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6000" y="3566880"/>
            <a:ext cx="6840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Бел, как снег, в чести у все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В рот попал – там и пропал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40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ах   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229360"/>
            <a:ext cx="50328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32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84360" y="620640"/>
            <a:ext cx="453528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Лексическое значение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дин из основных питательных продуктов, белое кристаллическое сладкое вещество, добываемое из свекловицы или из особого вид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ростни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616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Использование в тексте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Речи сахарные, а за пазухой камуше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Соломы воз, сахара кусок - одна ц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8:19:44Z</dcterms:created>
  <dc:creator>Customer</dc:creator>
  <dc:description/>
  <dc:language>en-US</dc:language>
  <cp:lastModifiedBy>надежда</cp:lastModifiedBy>
  <dcterms:modified xsi:type="dcterms:W3CDTF">2010-03-15T21:28:58Z</dcterms:modified>
  <cp:revision>5</cp:revision>
  <dc:subject/>
  <dc:title>Слайд 1</dc:title>
</cp:coreProperties>
</file>