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189B-35C1-4539-8C2B-23D69A6C5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DD16-805A-4247-A353-23BB4294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A904-DA4B-42F0-911B-BE0D778FD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D7B4-5947-4B2D-BDDA-530E7C075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6E9C9-BE92-4DA6-A7A7-7260B6851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53D88-193C-424A-B799-B86A2B88F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D8F58-B2D6-4665-A74F-DB2E6FE68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DF6EE-18C3-41C5-A293-E66EDA0AF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B7825-6710-4585-8419-4D68153A1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5F0C6-D695-4EE7-B50B-FE4EF61EB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49E82-866C-4633-8EB2-2C474F43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5A64-2B58-4D36-B00B-D04C9A0E4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C8BF8-10F8-4473-A972-2EC815FE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31AFE-3BB4-4434-90E8-D95EA14C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13D93-7866-49F6-8AB5-3406336CD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A3389-47D3-4670-B442-16EEA262C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C423A-6D26-4FA7-A789-879E5BA3C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D1BB-8394-401E-A647-8FB6F0C27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15B7-7211-4103-8F4F-FBB4E92F4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D2DA-C21C-4E5C-A537-3FDB4A12C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8E2E-3DA4-4A02-8CD0-BFAF558A4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95B0-41E7-474F-8308-C736C6F3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9A65-7101-43BC-99DE-5554C09B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DBFB-FB7D-425B-A507-36B10C4B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C850A-009D-420E-A88C-BFEF44E50D6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A37DB-E4AA-42BE-B4C7-A420164560B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280360" cy="4248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703dff"/>
                </a:solidFill>
                <a:latin typeface="Comic Sans MS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Фестиваль педагогических идей «Открытый урок»</a:t>
            </a:r>
            <a:br>
              <a:rPr sz="4000"/>
            </a:br>
            <a:br>
              <a:rPr sz="4000"/>
            </a:b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Урок </a:t>
            </a:r>
            <a:br>
              <a:rPr sz="3600"/>
            </a:b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русского языка в 4 классе</a:t>
            </a:r>
            <a:br>
              <a:rPr sz="36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Тема урока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4000" spc="-1" strike="noStrike">
                <a:solidFill>
                  <a:srgbClr val="ff0000"/>
                </a:solidFill>
                <a:latin typeface="Comic Sans MS"/>
              </a:rPr>
              <a:t>«УЧИМСЯ ПИСАТЬ ПИСЬМА»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618920" y="4581360"/>
            <a:ext cx="727380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лайды к уроку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Учитель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начальных классов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МОУ СОШ № 61 г. Краснодара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Камерная М.А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20-067-948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2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20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685800" y="1828800"/>
          <a:ext cx="7696080" cy="3645000"/>
        </p:xfrm>
        <a:graphic>
          <a:graphicData uri="http://schemas.openxmlformats.org/drawingml/2006/table">
            <a:tbl>
              <a:tblPr/>
              <a:tblGrid>
                <a:gridCol w="512640"/>
                <a:gridCol w="514440"/>
                <a:gridCol w="512640"/>
                <a:gridCol w="511200"/>
                <a:gridCol w="514440"/>
                <a:gridCol w="512640"/>
                <a:gridCol w="513000"/>
                <a:gridCol w="511200"/>
                <a:gridCol w="515880"/>
                <a:gridCol w="512640"/>
                <a:gridCol w="514440"/>
                <a:gridCol w="511200"/>
                <a:gridCol w="512640"/>
                <a:gridCol w="514440"/>
                <a:gridCol w="512640"/>
              </a:tblGrid>
              <a:tr h="609480">
                <a:tc gridSpan="6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480">
                <a:tc gridSpan="6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</a:tr>
            </a:tbl>
          </a:graphicData>
        </a:graphic>
      </p:graphicFrame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851280" y="1989000"/>
            <a:ext cx="21924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427640" y="1989000"/>
            <a:ext cx="2188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932360" y="1989000"/>
            <a:ext cx="20016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508720" y="1989000"/>
            <a:ext cx="18072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940360" y="1989000"/>
            <a:ext cx="20952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924360" y="2565360"/>
            <a:ext cx="2188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27640" y="2565360"/>
            <a:ext cx="2188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932360" y="2565360"/>
            <a:ext cx="20952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5435640" y="2565360"/>
            <a:ext cx="19044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5940360" y="2565360"/>
            <a:ext cx="20016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516720" y="2565360"/>
            <a:ext cx="20016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908000" y="3213000"/>
            <a:ext cx="2098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2411280" y="3213000"/>
            <a:ext cx="20952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2916360" y="3213000"/>
            <a:ext cx="17136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419640" y="3213000"/>
            <a:ext cx="19044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924360" y="3213000"/>
            <a:ext cx="19980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427640" y="3213000"/>
            <a:ext cx="20952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5003640" y="3213000"/>
            <a:ext cx="1810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826920" y="3789360"/>
            <a:ext cx="21924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332000" y="3789360"/>
            <a:ext cx="2188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908000" y="3789360"/>
            <a:ext cx="20016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2916360" y="3789360"/>
            <a:ext cx="21564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419640" y="3789360"/>
            <a:ext cx="20952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924360" y="3789360"/>
            <a:ext cx="17136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Ь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427640" y="3789360"/>
            <a:ext cx="2188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2411280" y="3789360"/>
            <a:ext cx="1810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932360" y="3789360"/>
            <a:ext cx="21924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00720" y="4365720"/>
            <a:ext cx="20952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6012000" y="4365720"/>
            <a:ext cx="20952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924360" y="5013360"/>
            <a:ext cx="218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5435640" y="5013360"/>
            <a:ext cx="21600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7020000" y="5013360"/>
            <a:ext cx="218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851280" y="4365720"/>
            <a:ext cx="26676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5003640" y="4365720"/>
            <a:ext cx="17172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5003640" y="5013360"/>
            <a:ext cx="17172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435640" y="4365720"/>
            <a:ext cx="20016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427640" y="5013360"/>
            <a:ext cx="17136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867280" y="5013360"/>
            <a:ext cx="35244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Щ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516720" y="5013360"/>
            <a:ext cx="19044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028000" y="5013360"/>
            <a:ext cx="19044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7524720" y="5013360"/>
            <a:ext cx="21924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339640" y="5373360"/>
            <a:ext cx="6111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иктограмм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403280" y="476280"/>
            <a:ext cx="61930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4941360"/>
            <a:ext cx="769608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3440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619280" y="907920"/>
            <a:ext cx="6337440" cy="46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4360" y="5157360"/>
            <a:ext cx="7696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Узелковое письмо «КИПУ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69134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77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" dur="770" fill="hold"/>
                                        <p:tgtEl>
                                          <p:spTgt spid="1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" dur="77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" dur="77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99640" y="5013360"/>
            <a:ext cx="769644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Древнеегипетские иероглиф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042920" y="620640"/>
            <a:ext cx="65534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-48132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94920" y="188640"/>
            <a:ext cx="8056440" cy="6669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Здравствуй Петр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Я получил твое письмо. Мы обыграли в фудбол 4 «Б». Твое письмо я прочитал с интересом. Некоторые мои однокласники играют только в фудбол, а на уроках считают синиц и отвечают невпопад. Еще я хожу в музыкальную школу. Учусь играть на гитаре. На уроке сольфеджио меня хвалили, потому что я правильно определяю тональность на уроке сольфеджио.  Когда я прихожу из школы, у меня ежовый аппетит. Я нашел котенка, и он стал моим пернатым другом. Моя сестра Оля передает тебе привет. Оля –                  сестра харошая, но с плахим характером.   Приезжай ко мне на день рождени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404640"/>
            <a:ext cx="865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4932360" y="476280"/>
            <a:ext cx="7128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1547640" y="1197000"/>
            <a:ext cx="144720" cy="287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835280" y="1052640"/>
            <a:ext cx="56880" cy="133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</a:t>
            </a:r>
            <a:endParaRPr b="0" lang="en-US" sz="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284360" y="1989000"/>
            <a:ext cx="142920" cy="21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00720" y="1916280"/>
            <a:ext cx="56880" cy="133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</a:t>
            </a:r>
            <a:endParaRPr b="0" lang="en-US" sz="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7164360" y="1484280"/>
            <a:ext cx="57240" cy="133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</a:t>
            </a:r>
            <a:endParaRPr b="0" lang="en-US" sz="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411280" y="2492280"/>
            <a:ext cx="1081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 rot="697200">
            <a:off x="2555640" y="2133720"/>
            <a:ext cx="863640" cy="29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89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орон</a:t>
            </a:r>
            <a:endParaRPr b="0" lang="en-US" sz="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284720" y="3429000"/>
            <a:ext cx="2158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916360" y="4149720"/>
            <a:ext cx="2016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00000" y="4365720"/>
            <a:ext cx="2159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763640" y="4797360"/>
            <a:ext cx="1368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 rot="633000">
            <a:off x="1907640" y="4365720"/>
            <a:ext cx="107964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8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олчий</a:t>
            </a:r>
            <a:endParaRPr b="0" lang="en-US" sz="10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348000" y="5229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76720" y="5300640"/>
            <a:ext cx="1655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00720" y="6021360"/>
            <a:ext cx="1366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4932360" y="5805360"/>
            <a:ext cx="216000" cy="21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76720" y="5661000"/>
            <a:ext cx="66960" cy="152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</a:t>
            </a:r>
            <a:endParaRPr b="0" lang="en-US" sz="10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6803640" y="6237360"/>
            <a:ext cx="144360" cy="21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 rot="480600">
            <a:off x="7020000" y="6092640"/>
            <a:ext cx="144360" cy="71280"/>
          </a:xfrm>
          <a:prstGeom prst="rect">
            <a:avLst/>
          </a:prstGeom>
        </p:spPr>
        <p:txBody>
          <a:bodyPr wrap="none" fromWordArt="1" lIns="90000" rIns="90000" tIns="24840" bIns="2484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я</a:t>
            </a:r>
            <a:endParaRPr b="0" lang="en-US" sz="10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2268000" y="5805360"/>
            <a:ext cx="142920" cy="21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414520" y="5588640"/>
            <a:ext cx="69840" cy="71640"/>
          </a:xfrm>
          <a:prstGeom prst="rect">
            <a:avLst/>
          </a:prstGeom>
        </p:spPr>
        <p:txBody>
          <a:bodyPr wrap="none" fromWordArt="1" lIns="90000" rIns="90000" tIns="25200" bIns="25200" anchor="t" anchorCtr="1">
            <a:prstTxWarp prst="textArchUp">
              <a:avLst>
                <a:gd name="adj" fmla="val 67079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</a:t>
            </a:r>
            <a:endParaRPr b="0" lang="en-US" sz="10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 rot="421200">
            <a:off x="6227640" y="260280"/>
            <a:ext cx="64800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00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етя</a:t>
            </a:r>
            <a:endParaRPr b="0" lang="en-US" sz="10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4427640" cy="3657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хлопот полон ро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ни свет ни зар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считать ворон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волчий аппети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бить баклуш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сломя голову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292720" y="1844640"/>
            <a:ext cx="3627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быстр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ильный, зверски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мног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ан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твлекатьс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бездельнича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/>
          <p:nvPr/>
        </p:nvSpPr>
        <p:spPr>
          <a:xfrm>
            <a:off x="3492360" y="2708280"/>
            <a:ext cx="1871640" cy="1152360"/>
          </a:xfrm>
          <a:prstGeom prst="line">
            <a:avLst/>
          </a:prstGeom>
          <a:ln w="57240">
            <a:solidFill>
              <a:srgbClr val="00b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32000" y="3213000"/>
            <a:ext cx="2232000" cy="1079640"/>
          </a:xfrm>
          <a:prstGeom prst="line">
            <a:avLst/>
          </a:prstGeom>
          <a:ln w="57240">
            <a:solidFill>
              <a:srgbClr val="00b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3564000" y="2781000"/>
            <a:ext cx="1800000" cy="863640"/>
          </a:xfrm>
          <a:prstGeom prst="line">
            <a:avLst/>
          </a:prstGeom>
          <a:ln w="57240">
            <a:solidFill>
              <a:srgbClr val="00b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132000" y="4221000"/>
            <a:ext cx="2232000" cy="576360"/>
          </a:xfrm>
          <a:prstGeom prst="line">
            <a:avLst/>
          </a:prstGeom>
          <a:ln w="57240">
            <a:solidFill>
              <a:srgbClr val="00b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132000" y="2276280"/>
            <a:ext cx="2232000" cy="2447640"/>
          </a:xfrm>
          <a:prstGeom prst="line">
            <a:avLst/>
          </a:prstGeom>
          <a:ln w="57240">
            <a:solidFill>
              <a:srgbClr val="00b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51280" y="2133720"/>
            <a:ext cx="1512720" cy="1008000"/>
          </a:xfrm>
          <a:prstGeom prst="line">
            <a:avLst/>
          </a:prstGeom>
          <a:ln w="57240">
            <a:solidFill>
              <a:srgbClr val="00b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7921440" cy="4824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 txBox="1"/>
          <p:nvPr/>
        </p:nvSpPr>
        <p:spPr>
          <a:xfrm>
            <a:off x="5219640" y="3429000"/>
            <a:ext cx="86688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. Краснодар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732720" y="3429000"/>
            <a:ext cx="63792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х. Ленина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435640" y="3716280"/>
            <a:ext cx="169524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л. Молодёжная, № 36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716360" y="4508640"/>
            <a:ext cx="6858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5003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932360" y="2852640"/>
            <a:ext cx="2324160" cy="2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мерной Марине Алексеевне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187280" y="4797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1547640" y="465300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47640" y="465300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547640" y="486900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92360" y="486900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547640" y="50846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35280" y="465300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835280" y="4653000"/>
            <a:ext cx="21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050920" y="465300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1834920" y="5084640"/>
            <a:ext cx="21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95640" y="5084640"/>
            <a:ext cx="21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411280" y="465264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2195280" y="4653000"/>
            <a:ext cx="21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195640" y="465300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556000" y="458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56000" y="465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56000" y="465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556000" y="458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65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556000" y="4653000"/>
            <a:ext cx="21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555640" y="4653000"/>
            <a:ext cx="21564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556000" y="4869000"/>
            <a:ext cx="21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2555640" y="4869000"/>
            <a:ext cx="21564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187280" y="458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187280" y="465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116000" y="458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916360" y="486900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916360" y="458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916360" y="458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916360" y="465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916360" y="4653000"/>
            <a:ext cx="21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2916000" y="4653000"/>
            <a:ext cx="21564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87280" y="458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187280" y="458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187280" y="458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187280" y="465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187280" y="465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87280" y="465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187280" y="465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116000" y="465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187280" y="458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16000" y="458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7280" y="458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187280" y="458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87280" y="465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187280" y="465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187280" y="458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187280" y="486900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187280" y="486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187280" y="458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332000" y="486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332000" y="486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187280" y="4869000"/>
            <a:ext cx="21600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87280" y="458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187280" y="458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87280" y="458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116000" y="458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187280" y="458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465300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1187280" y="4653000"/>
            <a:ext cx="21600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7:48:53Z</dcterms:created>
  <dc:creator>User</dc:creator>
  <dc:description/>
  <dc:language>en-US</dc:language>
  <cp:lastModifiedBy>User</cp:lastModifiedBy>
  <dcterms:modified xsi:type="dcterms:W3CDTF">2010-01-28T21:12:01Z</dcterms:modified>
  <cp:revision>9</cp:revision>
  <dc:subject/>
  <dc:title>        Урок письма        в 4 классе</dc:title>
</cp:coreProperties>
</file>