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2DC-FCAE-4585-93FD-E829112A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B7C-C801-4BB1-82A9-A9B25AA1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43A-40B5-48F4-95DF-460759D3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AEE-9FD2-4E58-9941-A7CF1FE3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5120-4612-4348-8FAA-CF821881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E3EE-A677-4401-804C-402147E2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DBFC-7B17-43BA-852E-AD6326E7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A648-5BE8-4F87-8AB3-693452E2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A036-053B-4077-B7A2-1B155FD6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5388-3F8C-4CD1-AAFB-CEA49C52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DC0F-39F8-47D2-AEDA-E76427C4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E0B-A063-46B4-89CF-16766AE7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E352-7A39-4C92-ACB0-30C304F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0315-B211-49CD-89D3-F84CC39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3FBC-89F6-40E6-B3EC-C04F18A5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D190-EE20-4430-A807-52FA453D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34F9-F635-45EF-81FE-AF3ED6D8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FF3-0B2A-482E-BF3E-9F103170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A40-6587-40AE-98D0-65C829D0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392-E977-4441-A005-215AD510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8CE-454A-4CC4-80FE-50D33C3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374-54FC-4567-9ED5-9345169D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9B3-3083-4D2D-A795-FB4D9C6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526-F50E-4F58-B061-82125464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5EC6-DAB0-4FF7-B76A-541D369600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3F92-845C-4C3B-9221-FEC816543A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0360" cy="424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703dff"/>
                </a:solidFill>
                <a:latin typeface="Comic Sans MS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естиваль педагогических идей «Открытый урок»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Урок 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русского языка в 4 классе</a:t>
            </a:r>
            <a:br>
              <a:rPr sz="36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ема урок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«УЧИМСЯ ПИСАТЬ ПИСЬМА»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4581360"/>
            <a:ext cx="7273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лайды к уроку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Учител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начальных класс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МОУ СОШ № 61 г. Краснодар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Камерная М.А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20-067-948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85800" y="1828800"/>
          <a:ext cx="7696080" cy="3645000"/>
        </p:xfrm>
        <a:graphic>
          <a:graphicData uri="http://schemas.openxmlformats.org/drawingml/2006/table">
            <a:tbl>
              <a:tblPr/>
              <a:tblGrid>
                <a:gridCol w="512640"/>
                <a:gridCol w="514440"/>
                <a:gridCol w="512640"/>
                <a:gridCol w="511200"/>
                <a:gridCol w="514440"/>
                <a:gridCol w="512640"/>
                <a:gridCol w="513000"/>
                <a:gridCol w="511200"/>
                <a:gridCol w="515880"/>
                <a:gridCol w="512640"/>
                <a:gridCol w="514440"/>
                <a:gridCol w="511200"/>
                <a:gridCol w="512640"/>
                <a:gridCol w="514440"/>
                <a:gridCol w="512640"/>
              </a:tblGrid>
              <a:tr h="609480"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51280" y="1989000"/>
            <a:ext cx="2192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27640" y="198900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932360" y="1989000"/>
            <a:ext cx="200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08720" y="1989000"/>
            <a:ext cx="180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40360" y="198900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24360" y="256536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27640" y="256536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932360" y="256536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435640" y="2565360"/>
            <a:ext cx="1904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940360" y="2565360"/>
            <a:ext cx="200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16720" y="2565360"/>
            <a:ext cx="200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908000" y="3213000"/>
            <a:ext cx="209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11280" y="321300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916360" y="321300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419640" y="3213000"/>
            <a:ext cx="1904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24360" y="3213000"/>
            <a:ext cx="1998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427640" y="321300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3640" y="3213000"/>
            <a:ext cx="181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26920" y="3789360"/>
            <a:ext cx="2192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332000" y="378936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908000" y="3789360"/>
            <a:ext cx="200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916360" y="3789360"/>
            <a:ext cx="2156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419640" y="3789360"/>
            <a:ext cx="209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24360" y="3789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427640" y="3789360"/>
            <a:ext cx="2188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411280" y="3789360"/>
            <a:ext cx="181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32360" y="3789360"/>
            <a:ext cx="2192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00720" y="4365720"/>
            <a:ext cx="209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12000" y="4365720"/>
            <a:ext cx="2095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24360" y="5013360"/>
            <a:ext cx="218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435640" y="5013360"/>
            <a:ext cx="216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020000" y="5013360"/>
            <a:ext cx="218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51280" y="4365720"/>
            <a:ext cx="2667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003640" y="4365720"/>
            <a:ext cx="17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03640" y="5013360"/>
            <a:ext cx="17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435640" y="4365720"/>
            <a:ext cx="2001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427640" y="501336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867280" y="5013360"/>
            <a:ext cx="352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Щ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516720" y="5013360"/>
            <a:ext cx="190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028000" y="5013360"/>
            <a:ext cx="190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524720" y="5013360"/>
            <a:ext cx="2192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339640" y="5373360"/>
            <a:ext cx="6111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иктограм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19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4941360"/>
            <a:ext cx="7696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44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337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696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зелковое письмо «КИПУ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9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5013360"/>
            <a:ext cx="76964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ревнеегипетские иероглиф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55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88640"/>
            <a:ext cx="8056440" cy="666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Здравствуй Петр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Я получил твое письмо. Мы обыграли в фудбол 4 «Б». Твое письмо я прочитал с интересом. Некоторые мои однокласники играют только в фудбол, а на уроках считают синиц и отвечают невпопад. Еще я хожу в музыкальную школу. Учусь играть на гитаре. На уроке сольфеджио меня хвалили, потому что я правильно определяю тональность на уроке сольфеджио.  Когда я прихожу из школы, у меня ежовый аппетит. Я нашел котенка, и он стал моим пернатым другом. Моя сестра Оля передает тебе привет. Оля –                  сестра харошая, но с плахим характером.   Приезжай ко мне на день рожд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464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932360" y="476280"/>
            <a:ext cx="7128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47640" y="1197000"/>
            <a:ext cx="14472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35280" y="1052640"/>
            <a:ext cx="56880" cy="13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84360" y="198900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00720" y="1916280"/>
            <a:ext cx="56880" cy="13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164360" y="1484280"/>
            <a:ext cx="57240" cy="133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49228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 rot="697200">
            <a:off x="2555640" y="2133720"/>
            <a:ext cx="86364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рон</a:t>
            </a:r>
            <a:endParaRPr b="0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3429000"/>
            <a:ext cx="215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149720"/>
            <a:ext cx="20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4365720"/>
            <a:ext cx="215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4797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 rot="633000">
            <a:off x="1907640" y="4365720"/>
            <a:ext cx="10796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лчий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6021360"/>
            <a:ext cx="1366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32360" y="580536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5661000"/>
            <a:ext cx="6696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03640" y="6237360"/>
            <a:ext cx="14436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 rot="480600">
            <a:off x="7020000" y="6092640"/>
            <a:ext cx="144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268000" y="580536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4520" y="5588640"/>
            <a:ext cx="69840" cy="71640"/>
          </a:xfrm>
          <a:prstGeom prst="rect">
            <a:avLst/>
          </a:prstGeom>
        </p:spPr>
        <p:txBody>
          <a:bodyPr wrap="none" fromWordArt="1" lIns="90000" rIns="90000" tIns="25200" bIns="25200" anchor="t" anchorCtr="1">
            <a:prstTxWarp prst="textArchUp">
              <a:avLst>
                <a:gd name="adj" fmla="val 67079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 rot="421200">
            <a:off x="6227640" y="260280"/>
            <a:ext cx="648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тя</a:t>
            </a:r>
            <a:endParaRPr b="0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427640" cy="365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хлопот полон ро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 свет ни зар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читать вор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олчий аппети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бить баклуш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ломя голов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92720" y="1844640"/>
            <a:ext cx="362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ыст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ильный, звер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влека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ездельнич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2708280"/>
            <a:ext cx="1871640" cy="115236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3213000"/>
            <a:ext cx="2232000" cy="107964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564000" y="2781000"/>
            <a:ext cx="1800000" cy="86364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4221000"/>
            <a:ext cx="2232000" cy="57636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132000" y="2276280"/>
            <a:ext cx="2232000" cy="244764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2133720"/>
            <a:ext cx="1512720" cy="1008000"/>
          </a:xfrm>
          <a:prstGeom prst="line">
            <a:avLst/>
          </a:prstGeom>
          <a:ln w="572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1440" cy="482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5219640" y="3429000"/>
            <a:ext cx="8668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Краснодар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732720" y="3429000"/>
            <a:ext cx="6379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. Ленин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435640" y="3716280"/>
            <a:ext cx="16952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л. Молодёжная, № 36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716360" y="4508640"/>
            <a:ext cx="6858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003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932360" y="2852640"/>
            <a:ext cx="23241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мерной Марине Алексеевн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547640" y="465300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486900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4869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547640" y="50846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4653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4653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834920" y="5084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5084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411280" y="4652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195280" y="4653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95640" y="4653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56000" y="4653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55640" y="4653000"/>
            <a:ext cx="215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4869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555640" y="4869000"/>
            <a:ext cx="21564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4869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16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16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916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465300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916000" y="4653000"/>
            <a:ext cx="215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728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4869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2000" y="486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187280" y="4869000"/>
            <a:ext cx="21600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653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187280" y="465300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48:53Z</dcterms:created>
  <dc:creator>User</dc:creator>
  <dc:description/>
  <dc:language>en-US</dc:language>
  <cp:lastModifiedBy>User</cp:lastModifiedBy>
  <dcterms:modified xsi:type="dcterms:W3CDTF">2010-01-28T21:12:01Z</dcterms:modified>
  <cp:revision>9</cp:revision>
  <dc:subject/>
  <dc:title>        Урок письма        в 4 классе</dc:title>
</cp:coreProperties>
</file>