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.gif" ContentType="image/gif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70E-9954-4CC5-8ADD-CC403F8C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9FC-3E0A-4235-91AC-DD6FF588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637-6CCD-4E43-9257-8C7D2344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E51-D955-40A3-8879-5C50A659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D194-15AE-4D99-9D30-58582520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7A8-20C1-42AA-8EB3-E9A73C7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19D2-1E92-4087-9808-8053605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C2E-B941-4722-8DA0-41D24AE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3AD0-C249-4CA6-9350-7C554533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F05-9706-4004-8898-AC0F7637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CE6-BBB6-4DD6-AE52-283D73D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00A-1887-442C-8AF6-2E04F739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C320-4460-4ECF-9CF5-D63A87C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0B3-9B13-4037-AE65-C6E78E13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422-D872-4A48-99EE-C73EF66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0574-01C8-4EC0-8DDC-D4899CBF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E8F-9FE7-4F4D-996A-AEC70DC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03C-77E6-4A3B-95DB-6FD9E938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3D3-44ED-45D3-8211-274A2BC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032-9BFA-436D-AC38-17BB6E34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90B-974D-49D6-A029-ACD132E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7EB-49CE-42BE-AE7D-342CE56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B61-AF5F-4B93-9CDA-F1DD94D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EDF-8051-467A-9538-507DCC4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584-7A0A-4FEB-AE6D-38DD35063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8767-F489-492A-8675-830203A43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1653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На дворе снежок идёт: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Скоро праздник Новый год!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559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5400000">
            <a:off x="-1980720" y="2925000"/>
            <a:ext cx="6264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Ёлочные игруш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Ёлочные игруш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6707160" cy="630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24360" y="2276280"/>
            <a:ext cx="4968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д каким именем этот человек известен на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382920" cy="4681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602136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ятой Николай Чудот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371520"/>
            <a:ext cx="87138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Перв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Когда встречали Новый год наши пред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9520" y="27756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 10 ВЕКА – 1 МА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 1493 ГОДА – 1 СЕНТЯБ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 1700 ГОДА – 1 ЯНВА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751280" cy="410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3120" y="6113520"/>
            <a:ext cx="31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6237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ТОРО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6920" y="1773000"/>
            <a:ext cx="4825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Каждый Новый год к нам приходит Дед Мороз. А где же он живёт всё остальное время?  Где его 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557520" cy="4392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43120" y="208080"/>
            <a:ext cx="48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9640" y="836640"/>
            <a:ext cx="28386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gency FB"/>
              </a:rPr>
              <a:t>Великий Устюг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gency FB"/>
              <a:ea typeface="Agency FB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Дом Деда Моро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43214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РЕТИ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59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де в нашей стране находится самая             высокая новогодняя ёл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97600" y="1916280"/>
            <a:ext cx="3146400" cy="4798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564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Новогодняя ёлка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 Кремл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3276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51:30Z</dcterms:created>
  <dc:creator>Сергей</dc:creator>
  <dc:description/>
  <dc:language>en-US</dc:language>
  <cp:lastModifiedBy>Сергей</cp:lastModifiedBy>
  <dcterms:modified xsi:type="dcterms:W3CDTF">2010-01-04T17:13:52Z</dcterms:modified>
  <cp:revision>18</cp:revision>
  <dc:subject/>
  <dc:title>Слайд 1</dc:title>
</cp:coreProperties>
</file>