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1.gif" ContentType="image/gif"/>
  <Override PartName="/ppt/media/image3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3D8-54BD-407E-9C1D-0B122786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EEF-F883-48A8-AC6F-A3D7ED8E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D994-99E3-418B-AD45-F832FC0B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357-7D04-450F-8E5E-764F22F8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E01-A53E-4BE6-8271-E3FE76E3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15C1-D625-485C-9FD0-CBB894E3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D322-5FC3-4E30-8236-255B6EA3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1124-54A6-4CE3-8C69-1225FBFB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7671-F980-4487-BA85-02F67168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E4F5-313E-4F6A-AA0B-5BF75657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C3E5-D157-4D9B-AFA6-00E7D2E5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B9A-8BBB-4062-BC67-C5020207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85C-C9F3-4630-98EF-AC7D4D51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0926-56C8-4BB7-A47A-159B0F92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0119-F8DF-476E-98BD-D665C195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62CB-B049-4DCD-967E-48D3FF93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5488-47E1-4582-BE19-463515DA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2F8-5D6C-441F-A1DA-EEA96673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5A36-F2EA-441C-AA6F-E41E57CC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233-1A9C-4F80-B39C-B84D9222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326-28D4-4C3E-A41A-F75F2A62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C26-8765-4D2B-9B15-C3872BD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70D-64C7-4E41-8999-240E8E27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99E-84D4-4E2E-B0D2-41DB7542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8D54-3511-4334-AD19-4E682D6611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CAD1-40DD-4206-A269-61888C2065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16536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На дворе снежок идёт: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Скоро праздник Новый год!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559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5400000">
            <a:off x="-1980720" y="2925000"/>
            <a:ext cx="626436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Ёлочные игрушк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Ёлочные игруш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6707160" cy="6309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ИН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24360" y="2276280"/>
            <a:ext cx="4968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д каким именем этот человек известен на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382920" cy="4681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602136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ятой Николай Чудот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680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371520"/>
            <a:ext cx="8713800" cy="6165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Первы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Когда встречали Новый год наши пред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249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9520" y="277560"/>
            <a:ext cx="820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С 10 ВЕКА – 1 МАР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 1493 ГОДА – 1 СЕНТЯБ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 1700 ГОДА – 1 ЯНВАР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751280" cy="4105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3120" y="6113520"/>
            <a:ext cx="318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6237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ТОРО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66920" y="1773000"/>
            <a:ext cx="4825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Каждый Новый год к нам приходит Дед Мороз. А где же он живёт всё остальное время?  Где его д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557520" cy="4392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43120" y="208080"/>
            <a:ext cx="48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539640" y="836640"/>
            <a:ext cx="283860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gency FB"/>
              </a:rPr>
              <a:t>Великий Устюг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gency FB"/>
              <a:ea typeface="Agency FB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Дом Деда Мороз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64000" cy="3240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3284640"/>
            <a:ext cx="43214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569080" cy="53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40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ТРЕТИЙ ТУ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4581360"/>
            <a:ext cx="5975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де в нашей стране находится самая             высокая новогодняя ёл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997600" y="1916280"/>
            <a:ext cx="3146400" cy="4798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580000" y="333000"/>
            <a:ext cx="35640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Новогодняя ёлка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в Кремле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3276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2:51:30Z</dcterms:created>
  <dc:creator>Сергей</dc:creator>
  <dc:description/>
  <dc:language>en-US</dc:language>
  <cp:lastModifiedBy>Сергей</cp:lastModifiedBy>
  <dcterms:modified xsi:type="dcterms:W3CDTF">2010-01-04T17:13:52Z</dcterms:modified>
  <cp:revision>18</cp:revision>
  <dc:subject/>
  <dc:title>Слайд 1</dc:title>
</cp:coreProperties>
</file>