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8.wmf" ContentType="image/x-wmf"/>
  <Override PartName="/ppt/media/image26.png" ContentType="image/png"/>
  <Override PartName="/ppt/media/image23.wmf" ContentType="image/x-wmf"/>
  <Override PartName="/ppt/media/image22.jpeg" ContentType="image/jpeg"/>
  <Override PartName="/ppt/media/image21.wmf" ContentType="image/x-wmf"/>
  <Override PartName="/ppt/media/image19.wmf" ContentType="image/x-wmf"/>
  <Override PartName="/ppt/media/image20.gif" ContentType="image/gif"/>
  <Override PartName="/ppt/media/image18.gif" ContentType="image/gif"/>
  <Override PartName="/ppt/media/image17.gif" ContentType="image/gif"/>
  <Override PartName="/ppt/media/image9.gif" ContentType="image/gif"/>
  <Override PartName="/ppt/media/image39.gif" ContentType="image/gif"/>
  <Override PartName="/ppt/media/image11.gif" ContentType="image/gif"/>
  <Override PartName="/ppt/media/image41.gif" ContentType="image/gif"/>
  <Override PartName="/ppt/media/image4.png" ContentType="image/png"/>
  <Override PartName="/ppt/media/image16.gif" ContentType="image/gif"/>
  <Override PartName="/ppt/media/image12.wmf" ContentType="image/x-wmf"/>
  <Override PartName="/ppt/media/image27.png" ContentType="image/png"/>
  <Override PartName="/ppt/media/image30.wmf" ContentType="image/x-wmf"/>
  <Override PartName="/ppt/media/image13.gif" ContentType="image/gif"/>
  <Override PartName="/ppt/media/image34.jpeg" ContentType="image/jpeg"/>
  <Override PartName="/ppt/media/image15.gif" ContentType="image/gif"/>
  <Override PartName="/ppt/media/image35.jpeg" ContentType="image/jpeg"/>
  <Override PartName="/ppt/media/image5.png" ContentType="image/png"/>
  <Override PartName="/ppt/media/image38.jpeg" ContentType="image/jpeg"/>
  <Override PartName="/ppt/media/image31.wmf" ContentType="image/x-wmf"/>
  <Override PartName="/ppt/media/image36.wmf" ContentType="image/x-wmf"/>
  <Override PartName="/ppt/media/image6.wmf" ContentType="image/x-wmf"/>
  <Override PartName="/ppt/media/image40.gif" ContentType="image/gif"/>
  <Override PartName="/ppt/media/image10.gif" ContentType="image/gif"/>
  <Override PartName="/ppt/media/image8.wmf" ContentType="image/x-wmf"/>
  <Override PartName="/ppt/media/image2.gif" ContentType="image/gif"/>
  <Override PartName="/ppt/media/image32.gif" ContentType="image/gif"/>
  <Override PartName="/ppt/media/image3.wmf" ContentType="image/x-wmf"/>
  <Override PartName="/ppt/media/image33.wmf" ContentType="image/x-wmf"/>
  <Override PartName="/ppt/media/image7.gif" ContentType="image/gif"/>
  <Override PartName="/ppt/media/image37.gif" ContentType="image/gif"/>
  <Override PartName="/ppt/media/image1.png" ContentType="image/png"/>
  <Override PartName="/ppt/media/image24.png" ContentType="image/png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726-2D4D-4559-B0C2-46AA47EE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91B-2B2F-49E2-B3BA-10F9EB56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346-BC82-449D-9141-DA5B326C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E5F-6894-449E-8F6E-23CEDA87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8D9-C905-4712-B03D-56A4902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76F-57AA-4C15-8379-A73CF4DD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1A0-656D-4A1B-B40F-9F8A902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B1A-9E01-44D3-B855-BB3855CD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DB3-1C40-4856-AC46-1DBA5FBB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7AF-3E05-4F34-A5A5-84C93019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DB3-F0AC-4850-B95A-65DEBE9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F31-9DBB-46AB-A287-45987EB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07D-AF38-416B-9457-A024CF24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3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18.gi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3.gif"/><Relationship Id="rId5" Type="http://schemas.openxmlformats.org/officeDocument/2006/relationships/image" Target="../media/image31.wmf"/><Relationship Id="rId6" Type="http://schemas.openxmlformats.org/officeDocument/2006/relationships/image" Target="../media/image32.gi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24.xml"/><Relationship Id="rId13" Type="http://schemas.openxmlformats.org/officeDocument/2006/relationships/slide" Target="slide25.xml"/><Relationship Id="rId14" Type="http://schemas.openxmlformats.org/officeDocument/2006/relationships/slide" Target="slide26.xml"/><Relationship Id="rId15" Type="http://schemas.openxmlformats.org/officeDocument/2006/relationships/slide" Target="slide27.xml"/><Relationship Id="rId16" Type="http://schemas.openxmlformats.org/officeDocument/2006/relationships/slide" Target="slide28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33cc33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476280"/>
            <a:ext cx="806436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ловек 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4005360"/>
            <a:ext cx="54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я иг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885080" y="549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6659640" y="105264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627280" y="105264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24000" y="2781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1258920" y="47628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812000" y="2852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611280" y="371628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885080" y="486900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4427640" y="5084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endshow"/>
          </p:cNvPr>
          <p:cNvPicPr/>
          <p:nvPr/>
        </p:nvPicPr>
        <p:blipFill>
          <a:blip r:embed="rId12"/>
          <a:stretch/>
        </p:blipFill>
        <p:spPr>
          <a:xfrm>
            <a:off x="1979640" y="537372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endshow"/>
          </p:cNvPr>
          <p:cNvPicPr/>
          <p:nvPr/>
        </p:nvPicPr>
        <p:blipFill>
          <a:blip r:embed="rId13"/>
          <a:stretch/>
        </p:blipFill>
        <p:spPr>
          <a:xfrm>
            <a:off x="6516720" y="5516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14"/>
          <a:stretch/>
        </p:blipFill>
        <p:spPr>
          <a:xfrm>
            <a:off x="395280" y="242100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endshow"/>
          </p:cNvPr>
          <p:cNvPicPr/>
          <p:nvPr/>
        </p:nvPicPr>
        <p:blipFill>
          <a:blip r:embed="rId15"/>
          <a:stretch/>
        </p:blipFill>
        <p:spPr>
          <a:xfrm>
            <a:off x="6300720" y="2852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endshow"/>
          </p:cNvPr>
          <p:cNvPicPr/>
          <p:nvPr/>
        </p:nvPicPr>
        <p:blipFill>
          <a:blip r:embed="rId16"/>
          <a:stretch/>
        </p:blipFill>
        <p:spPr>
          <a:xfrm>
            <a:off x="539640" y="515772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endshow"/>
          </p:cNvPr>
          <p:cNvPicPr/>
          <p:nvPr/>
        </p:nvPicPr>
        <p:blipFill>
          <a:blip r:embed="rId17"/>
          <a:stretch/>
        </p:blipFill>
        <p:spPr>
          <a:xfrm>
            <a:off x="7740720" y="5805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endshow"/>
          </p:cNvPr>
          <p:cNvPicPr/>
          <p:nvPr/>
        </p:nvPicPr>
        <p:blipFill>
          <a:blip r:embed="rId18"/>
          <a:stretch/>
        </p:blipFill>
        <p:spPr>
          <a:xfrm>
            <a:off x="3276720" y="595008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endshow"/>
          </p:cNvPr>
          <p:cNvPicPr/>
          <p:nvPr/>
        </p:nvPicPr>
        <p:blipFill>
          <a:blip r:embed="rId19"/>
          <a:stretch/>
        </p:blipFill>
        <p:spPr>
          <a:xfrm>
            <a:off x="3203640" y="4581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endshow"/>
          </p:cNvPr>
          <p:cNvPicPr/>
          <p:nvPr/>
        </p:nvPicPr>
        <p:blipFill>
          <a:blip r:embed="rId20"/>
          <a:stretch/>
        </p:blipFill>
        <p:spPr>
          <a:xfrm>
            <a:off x="1042920" y="616572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endshow"/>
          </p:cNvPr>
          <p:cNvPicPr/>
          <p:nvPr/>
        </p:nvPicPr>
        <p:blipFill>
          <a:blip r:embed="rId21"/>
          <a:stretch/>
        </p:blipFill>
        <p:spPr>
          <a:xfrm>
            <a:off x="5796000" y="472428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endshow"/>
          </p:cNvPr>
          <p:cNvPicPr/>
          <p:nvPr/>
        </p:nvPicPr>
        <p:blipFill>
          <a:blip r:embed="rId22"/>
          <a:stretch/>
        </p:blipFill>
        <p:spPr>
          <a:xfrm>
            <a:off x="5076720" y="5950080"/>
            <a:ext cx="395280" cy="3553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3780000" y="4724280"/>
            <a:ext cx="16938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907920"/>
            <a:ext cx="864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Через какой орган чувств в нам поступает тактильная информац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859280" y="4941720"/>
            <a:ext cx="882720" cy="100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340000" y="3573360"/>
            <a:ext cx="18781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33336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Чувственный образ объекта, в данный момент нами не воспринимаемого, но воспринятого ранее, называют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19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765000"/>
            <a:ext cx="8640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Arial"/>
              </a:rPr>
              <a:t>Опознай объект по его свойств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Письменный, обеденный, круглый, дубовый, компьютерны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564000" y="2421000"/>
            <a:ext cx="1800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413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Arial"/>
              </a:rPr>
              <a:t>Что вызывают у нас отдельные свойства объектов окружающего мира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132000" y="4076640"/>
            <a:ext cx="25196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260280"/>
            <a:ext cx="8353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 называется логический приём мысленного соединения в единое целое частей объекта или его признаков, полученных в процессе анали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64000" y="5516640"/>
            <a:ext cx="1584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549360"/>
            <a:ext cx="7921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 чём идёт ре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руглый, упругий, прыгучий, используется в игре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7561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90792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акие понятия как «компьютер», «карандаш»,  «молоко», «ледник», называю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1393920" cy="1651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149400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16560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476280"/>
            <a:ext cx="856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ассматривается отношение между понятиями: вид – р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Вид –                 , род -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16360" y="3238560"/>
            <a:ext cx="2447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333360"/>
            <a:ext cx="8713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4489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В. Маяковский пис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«Если тебе «корова» и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У тебя должно быть молоко и вымя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статочно ли признаков, указанных поэтом, для определения понятия «коров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23608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991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должи сужд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се мальчишки любят футбол. Вася – мальчик. Значи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635280" y="4292640"/>
            <a:ext cx="1512720" cy="2086920"/>
            <a:chOff x="3635280" y="4292640"/>
            <a:chExt cx="1512720" cy="208692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3635280" y="4292640"/>
              <a:ext cx="1512720" cy="19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187880" y="5979960"/>
              <a:ext cx="461520" cy="399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80808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647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ить и обобщить знания по теме «Человек и информац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ершенствовать умение логически мыс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ершенствовать умение обоб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ершенствовать умение решать лог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0920" y="189000"/>
            <a:ext cx="75564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 rot="10800000">
            <a:off x="759600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404640"/>
            <a:ext cx="82087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трой сложное суждение из прост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се любят оценку «пя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 все любят выполнять 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1002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3360"/>
            <a:ext cx="914400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ите отношение между следующими поняти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авносторонний треугольник» и «равнобедренный треугольник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221000"/>
            <a:ext cx="2232000" cy="180036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089200">
            <a:off x="4500360" y="4868640"/>
            <a:ext cx="2232000" cy="223200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203640" y="5013360"/>
            <a:ext cx="792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333360"/>
            <a:ext cx="7920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е условие является необходимым для следующего собы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я того чтобы выводить созданные на компьютере документы на бумагу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должи с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11280" y="4941720"/>
            <a:ext cx="1496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76500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какому виду простых суждений относится следующее высказы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которые телевизоры – жидкокристалличес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140360" y="508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3240000" cy="2184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47628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В году может быть 366 или 365 дней. В 2007 году не 366 дней. Сколько дней в 2007 год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547640" y="4149720"/>
            <a:ext cx="110808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348000" y="3716280"/>
            <a:ext cx="2027160" cy="2508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5508720" y="3068640"/>
            <a:ext cx="1842840" cy="230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093080" y="4508640"/>
            <a:ext cx="1868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4936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Построй правильное 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Если ни одна курица не умеет плавать, а все утки плавают, 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576520" cy="1717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19368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6120" y="260280"/>
            <a:ext cx="8081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строй просты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ражения из сложно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то написано перо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о не вырубишь топо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j0233992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14173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89647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строй сложное выражение из прост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Петя поедет в деревню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Будет хорошая погода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Петя пойдёт на рыбалк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782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404640"/>
            <a:ext cx="6985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познай пословиц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сплей неча пенять, коли видеокарта крив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1504800" cy="19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807840" cy="1152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55640" y="1268280"/>
            <a:ext cx="647640" cy="489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050920" y="1197000"/>
            <a:ext cx="733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40000" y="1159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ccff"/>
                </a:solidFill>
                <a:latin typeface="Arial"/>
              </a:rPr>
              <a:t>Твоя   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836640"/>
            <a:ext cx="8569080" cy="703440"/>
          </a:xfrm>
          <a:prstGeom prst="rect">
            <a:avLst/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44640"/>
            <a:ext cx="8569080" cy="7034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2. Чу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076640"/>
            <a:ext cx="8569080" cy="7034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. 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924280"/>
            <a:ext cx="856908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3.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229360"/>
            <a:ext cx="8569080" cy="7034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5. 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836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299736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8508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8508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 rot="10800000">
            <a:off x="838800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76500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Arial"/>
              </a:rPr>
              <a:t>Знания, которые человек получает из различных источников – это…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348000" y="3716280"/>
            <a:ext cx="23036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33360"/>
            <a:ext cx="8496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 какой группе знаний можно отнести следующее высказы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У равностороннего треугольника все стороны равны и все углы по 60 градус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084640"/>
            <a:ext cx="1584360" cy="12970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98100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33360"/>
            <a:ext cx="7920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тивно ли для вас следующее сооб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ука о способах и формах мышления (таких как понятие, суждение и умозаключение), называется лог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92360" y="1847880"/>
            <a:ext cx="2160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765000"/>
            <a:ext cx="871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должи предлож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Для того, чтобы правильно решить пример по математике нужно знать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419640" y="4508640"/>
            <a:ext cx="2232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765000"/>
            <a:ext cx="8893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се знания, которыми обладает каждый из нас, условно можно разделить на две групп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Как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05264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Целостное отражение объекта, непосредственно воздействующего на наши органы чувств, называю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780000" y="4437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4:54:15Z</dcterms:created>
  <dc:creator>Коновалова</dc:creator>
  <dc:description/>
  <dc:language>en-US</dc:language>
  <cp:lastModifiedBy>Коновалова</cp:lastModifiedBy>
  <dcterms:modified xsi:type="dcterms:W3CDTF">2007-05-04T15:58:38Z</dcterms:modified>
  <cp:revision>37</cp:revision>
  <dc:subject/>
  <dc:title>Слайд 1</dc:title>
</cp:coreProperties>
</file>