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5.wmf" ContentType="image/x-wmf"/>
  <Override PartName="/ppt/media/image28.wmf" ContentType="image/x-wmf"/>
  <Override PartName="/ppt/media/image26.png" ContentType="image/png"/>
  <Override PartName="/ppt/media/image23.wmf" ContentType="image/x-wmf"/>
  <Override PartName="/ppt/media/image22.jpeg" ContentType="image/jpeg"/>
  <Override PartName="/ppt/media/image21.wmf" ContentType="image/x-wmf"/>
  <Override PartName="/ppt/media/image19.wmf" ContentType="image/x-wmf"/>
  <Override PartName="/ppt/media/image20.gif" ContentType="image/gif"/>
  <Override PartName="/ppt/media/image18.gif" ContentType="image/gif"/>
  <Override PartName="/ppt/media/image17.gif" ContentType="image/gif"/>
  <Override PartName="/ppt/media/image9.gif" ContentType="image/gif"/>
  <Override PartName="/ppt/media/image39.gif" ContentType="image/gif"/>
  <Override PartName="/ppt/media/image11.gif" ContentType="image/gif"/>
  <Override PartName="/ppt/media/image41.gif" ContentType="image/gif"/>
  <Override PartName="/ppt/media/image4.png" ContentType="image/png"/>
  <Override PartName="/ppt/media/image16.gif" ContentType="image/gif"/>
  <Override PartName="/ppt/media/image12.wmf" ContentType="image/x-wmf"/>
  <Override PartName="/ppt/media/image27.png" ContentType="image/png"/>
  <Override PartName="/ppt/media/image30.wmf" ContentType="image/x-wmf"/>
  <Override PartName="/ppt/media/image13.gif" ContentType="image/gif"/>
  <Override PartName="/ppt/media/image34.jpeg" ContentType="image/jpeg"/>
  <Override PartName="/ppt/media/image15.gif" ContentType="image/gif"/>
  <Override PartName="/ppt/media/image35.jpeg" ContentType="image/jpeg"/>
  <Override PartName="/ppt/media/image5.png" ContentType="image/png"/>
  <Override PartName="/ppt/media/image38.jpeg" ContentType="image/jpeg"/>
  <Override PartName="/ppt/media/image31.wmf" ContentType="image/x-wmf"/>
  <Override PartName="/ppt/media/image36.wmf" ContentType="image/x-wmf"/>
  <Override PartName="/ppt/media/image6.wmf" ContentType="image/x-wmf"/>
  <Override PartName="/ppt/media/image40.gif" ContentType="image/gif"/>
  <Override PartName="/ppt/media/image10.gif" ContentType="image/gif"/>
  <Override PartName="/ppt/media/image8.wmf" ContentType="image/x-wmf"/>
  <Override PartName="/ppt/media/image2.gif" ContentType="image/gif"/>
  <Override PartName="/ppt/media/image32.gif" ContentType="image/gif"/>
  <Override PartName="/ppt/media/image3.wmf" ContentType="image/x-wmf"/>
  <Override PartName="/ppt/media/image33.wmf" ContentType="image/x-wmf"/>
  <Override PartName="/ppt/media/image7.gif" ContentType="image/gif"/>
  <Override PartName="/ppt/media/image37.gif" ContentType="image/gif"/>
  <Override PartName="/ppt/media/image1.png" ContentType="image/png"/>
  <Override PartName="/ppt/media/image24.png" ContentType="image/png"/>
  <Override PartName="/ppt/media/image1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D74-ACEA-447C-86BC-B3C9EFA7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375-CCF7-4FD5-A3F6-B356CF9A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ABA9-3F4B-4E8D-8B9B-8CE7D068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7E50-A07E-42CC-B995-71EC69CB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F3C6-3E51-479E-A6D1-3E077EA8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8DE-6C14-4897-9C26-81918B98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1AE-C8A5-4775-B79E-0A3A76D7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4431-1202-4DF2-8587-BD9316E3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76E4-9762-4D5C-A1DE-C9B446B0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891-32B4-4882-98AF-F8336838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A7D4-2FC5-4006-9735-25825BDB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EFC-ED1B-423A-84CE-C87DD4DB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091C-4096-480D-B00B-4FE3AD90D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3.wm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11.gi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18.gif"/><Relationship Id="rId4" Type="http://schemas.openxmlformats.org/officeDocument/2006/relationships/image" Target="../media/image19.wm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13.gif"/><Relationship Id="rId5" Type="http://schemas.openxmlformats.org/officeDocument/2006/relationships/image" Target="../media/image31.wmf"/><Relationship Id="rId6" Type="http://schemas.openxmlformats.org/officeDocument/2006/relationships/image" Target="../media/image32.gi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38.jpeg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image" Target="../media/image41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24.xml"/><Relationship Id="rId13" Type="http://schemas.openxmlformats.org/officeDocument/2006/relationships/slide" Target="slide25.xml"/><Relationship Id="rId14" Type="http://schemas.openxmlformats.org/officeDocument/2006/relationships/slide" Target="slide26.xml"/><Relationship Id="rId15" Type="http://schemas.openxmlformats.org/officeDocument/2006/relationships/slide" Target="slide27.xml"/><Relationship Id="rId16" Type="http://schemas.openxmlformats.org/officeDocument/2006/relationships/slide" Target="slide28.xm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33cc33"/>
            </a:gs>
            <a:gs pos="100000">
              <a:srgbClr val="8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476280"/>
            <a:ext cx="8064360" cy="30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ловек 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формац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5280" y="4005360"/>
            <a:ext cx="5457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я игр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7885080" y="54936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6659640" y="1052640"/>
            <a:ext cx="395280" cy="355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2627280" y="1052640"/>
            <a:ext cx="395280" cy="355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2124000" y="278136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1258920" y="47628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7812000" y="285264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611280" y="371628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hlinkshowjump?jump=endshow"/>
          </p:cNvPr>
          <p:cNvPicPr/>
          <p:nvPr/>
        </p:nvPicPr>
        <p:blipFill>
          <a:blip r:embed="rId10"/>
          <a:stretch/>
        </p:blipFill>
        <p:spPr>
          <a:xfrm>
            <a:off x="7885080" y="4869000"/>
            <a:ext cx="395280" cy="355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4427640" y="508464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hlinkshowjump?jump=endshow"/>
          </p:cNvPr>
          <p:cNvPicPr/>
          <p:nvPr/>
        </p:nvPicPr>
        <p:blipFill>
          <a:blip r:embed="rId12"/>
          <a:stretch/>
        </p:blipFill>
        <p:spPr>
          <a:xfrm>
            <a:off x="1979640" y="537372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hlinkshowjump?jump=endshow"/>
          </p:cNvPr>
          <p:cNvPicPr/>
          <p:nvPr/>
        </p:nvPicPr>
        <p:blipFill>
          <a:blip r:embed="rId13"/>
          <a:stretch/>
        </p:blipFill>
        <p:spPr>
          <a:xfrm>
            <a:off x="6516720" y="551664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hlinkshowjump?jump=endshow"/>
          </p:cNvPr>
          <p:cNvPicPr/>
          <p:nvPr/>
        </p:nvPicPr>
        <p:blipFill>
          <a:blip r:embed="rId14"/>
          <a:stretch/>
        </p:blipFill>
        <p:spPr>
          <a:xfrm>
            <a:off x="395280" y="242100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" action="ppaction://hlinkshowjump?jump=endshow"/>
          </p:cNvPr>
          <p:cNvPicPr/>
          <p:nvPr/>
        </p:nvPicPr>
        <p:blipFill>
          <a:blip r:embed="rId15"/>
          <a:stretch/>
        </p:blipFill>
        <p:spPr>
          <a:xfrm>
            <a:off x="6300720" y="285264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hlinkshowjump?jump=endshow"/>
          </p:cNvPr>
          <p:cNvPicPr/>
          <p:nvPr/>
        </p:nvPicPr>
        <p:blipFill>
          <a:blip r:embed="rId16"/>
          <a:stretch/>
        </p:blipFill>
        <p:spPr>
          <a:xfrm>
            <a:off x="539640" y="515772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hlinkshowjump?jump=endshow"/>
          </p:cNvPr>
          <p:cNvPicPr/>
          <p:nvPr/>
        </p:nvPicPr>
        <p:blipFill>
          <a:blip r:embed="rId17"/>
          <a:stretch/>
        </p:blipFill>
        <p:spPr>
          <a:xfrm>
            <a:off x="7740720" y="580536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hlinkshowjump?jump=endshow"/>
          </p:cNvPr>
          <p:cNvPicPr/>
          <p:nvPr/>
        </p:nvPicPr>
        <p:blipFill>
          <a:blip r:embed="rId18"/>
          <a:stretch/>
        </p:blipFill>
        <p:spPr>
          <a:xfrm>
            <a:off x="3276720" y="5950080"/>
            <a:ext cx="395280" cy="355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hlinkshowjump?jump=endshow"/>
          </p:cNvPr>
          <p:cNvPicPr/>
          <p:nvPr/>
        </p:nvPicPr>
        <p:blipFill>
          <a:blip r:embed="rId19"/>
          <a:stretch/>
        </p:blipFill>
        <p:spPr>
          <a:xfrm>
            <a:off x="3203640" y="458136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" action="ppaction://hlinkshowjump?jump=endshow"/>
          </p:cNvPr>
          <p:cNvPicPr/>
          <p:nvPr/>
        </p:nvPicPr>
        <p:blipFill>
          <a:blip r:embed="rId20"/>
          <a:stretch/>
        </p:blipFill>
        <p:spPr>
          <a:xfrm>
            <a:off x="1042920" y="616572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hlinkshowjump?jump=endshow"/>
          </p:cNvPr>
          <p:cNvPicPr/>
          <p:nvPr/>
        </p:nvPicPr>
        <p:blipFill>
          <a:blip r:embed="rId21"/>
          <a:stretch/>
        </p:blipFill>
        <p:spPr>
          <a:xfrm>
            <a:off x="5796000" y="4724280"/>
            <a:ext cx="395280" cy="355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hlinkshowjump?jump=endshow"/>
          </p:cNvPr>
          <p:cNvPicPr/>
          <p:nvPr/>
        </p:nvPicPr>
        <p:blipFill>
          <a:blip r:embed="rId22"/>
          <a:stretch/>
        </p:blipFill>
        <p:spPr>
          <a:xfrm>
            <a:off x="5076720" y="5950080"/>
            <a:ext cx="395280" cy="35532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2f383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3"/>
          <a:stretch/>
        </p:blipFill>
        <p:spPr>
          <a:xfrm>
            <a:off x="3780000" y="4724280"/>
            <a:ext cx="16938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907920"/>
            <a:ext cx="864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Через какой орган чувств в нам поступает тактильная информац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859280" y="4941720"/>
            <a:ext cx="882720" cy="100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340000" y="3573360"/>
            <a:ext cx="18781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4000" y="33336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Чувственный образ объекта, в данный момент нами не воспринимаемого, но воспринятого ранее, называют 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11280" y="4653000"/>
            <a:ext cx="1197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765000"/>
            <a:ext cx="86407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  <a:ea typeface="Arial"/>
              </a:rPr>
              <a:t>Опознай объект по его свойств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Arial"/>
              </a:rPr>
              <a:t>Письменный, обеденный, круглый, дубовый, компьютерны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564000" y="2421000"/>
            <a:ext cx="18000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4000" y="141300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  <a:ea typeface="Arial"/>
              </a:rPr>
              <a:t>Что вызывают у нас отдельные свойства объектов окружающего мира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132000" y="4076640"/>
            <a:ext cx="25196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7c8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260280"/>
            <a:ext cx="8353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ак называется логический приём мысленного соединения в единое целое частей объекта или его признаков, полученных в процессе анали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564000" y="5516640"/>
            <a:ext cx="15843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7c8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11280" y="549360"/>
            <a:ext cx="79214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 чём идёт реч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руглый, упругий, прыгучий, используется в игре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8360" y="3789360"/>
            <a:ext cx="75610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7c8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4000" y="907920"/>
            <a:ext cx="84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Такие понятия как «компьютер», «карандаш»,  «молоко», «ледник», называют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042920" y="4221000"/>
            <a:ext cx="1393920" cy="1651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492360" y="4292640"/>
            <a:ext cx="1494000" cy="1584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867280" y="4437000"/>
            <a:ext cx="16560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7c8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0920" y="476280"/>
            <a:ext cx="85690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Рассматривается отношение между понятиями: вид – род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Вид –                 , род -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916360" y="3238560"/>
            <a:ext cx="244764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7c8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0920" y="333360"/>
            <a:ext cx="87138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4489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.В. Маяковский пис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89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89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«Если тебе «корова» и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89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У тебя должно быть молоко и вымя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89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89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остаточно ли признаков, указанных поэтом, для определения понятия «коров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39640" y="5084640"/>
            <a:ext cx="236088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ccffcc"/>
            </a:gs>
            <a:gs pos="100000">
              <a:srgbClr val="cc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4360" y="765000"/>
            <a:ext cx="79912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должи сужд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се мальчишки любят футбол. Вася – мальчик. Значит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635280" y="4292640"/>
            <a:ext cx="1512720" cy="2086920"/>
            <a:chOff x="3635280" y="4292640"/>
            <a:chExt cx="1512720" cy="2086920"/>
          </a:xfrm>
        </p:grpSpPr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3635280" y="4292640"/>
              <a:ext cx="1512720" cy="19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187880" y="5979960"/>
              <a:ext cx="461520" cy="399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80808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89647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вторить и обобщить знания по теме «Человек и информац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99"/>
                </a:solidFill>
                <a:latin typeface="Arial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овершенствовать умение логически мыс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овершенствовать умение обоб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овершенствовать умение решать логические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50920" y="189000"/>
            <a:ext cx="755640" cy="68112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2f383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 rot="10800000">
            <a:off x="759600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2f383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ccffcc"/>
            </a:gs>
            <a:gs pos="100000">
              <a:srgbClr val="cc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404640"/>
            <a:ext cx="820872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трой сложное суждение из прост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7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се любят оценку «пять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7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е все любят выполнять 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659640" y="1341360"/>
            <a:ext cx="210024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ccffcc"/>
            </a:gs>
            <a:gs pos="100000">
              <a:srgbClr val="cc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33360"/>
            <a:ext cx="9144000" cy="56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становите отношение между следующими понятия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равносторонний треугольник» и «равнобедренный треугольник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4221000"/>
            <a:ext cx="2232000" cy="180036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8089200">
            <a:off x="4500360" y="4868640"/>
            <a:ext cx="2232000" cy="2232000"/>
          </a:xfrm>
          <a:prstGeom prst="rtTriangl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203640" y="5013360"/>
            <a:ext cx="79200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ccffcc"/>
            </a:gs>
            <a:gs pos="100000">
              <a:srgbClr val="cc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9640" y="333360"/>
            <a:ext cx="7920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ое условие является необходимым для следующего событ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ля того чтобы выводить созданные на компьютере документы на бумагу,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должи суж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11280" y="4941720"/>
            <a:ext cx="14968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ccffcc"/>
            </a:gs>
            <a:gs pos="100000">
              <a:srgbClr val="cc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9640" y="765000"/>
            <a:ext cx="792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 какому виду простых суждений относится следующее высказыва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екоторые телевизоры – жидкокристаллическ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140360" y="5084640"/>
            <a:ext cx="1008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cccc00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3240000" cy="2184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5280" y="476280"/>
            <a:ext cx="849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В году может быть 366 или 365 дней. В 2007 году не 366 дней. Сколько дней в 2007 году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1547640" y="4149720"/>
            <a:ext cx="1108080" cy="1800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3348000" y="3716280"/>
            <a:ext cx="2027160" cy="2508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5508720" y="3068640"/>
            <a:ext cx="1842840" cy="2303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7093080" y="4508640"/>
            <a:ext cx="18684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cccc00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549360"/>
            <a:ext cx="91440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Построй правильное заключ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Если ни одна курица не умеет плавать, а все утки плавают, то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572000" y="4724280"/>
            <a:ext cx="2576520" cy="1717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476360" y="4869000"/>
            <a:ext cx="193680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cccc00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6120" y="260280"/>
            <a:ext cx="80812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строй простые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ыражения из сложног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Что написано пером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то не вырубишь топор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j0233992" descr=""/>
          <p:cNvPicPr/>
          <p:nvPr/>
        </p:nvPicPr>
        <p:blipFill>
          <a:blip r:embed="rId3"/>
          <a:stretch/>
        </p:blipFill>
        <p:spPr>
          <a:xfrm>
            <a:off x="3780000" y="2205000"/>
            <a:ext cx="141732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cccc00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15920"/>
            <a:ext cx="896472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строй сложное выражение из просты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Петя поедет в деревню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Будет хорошая погода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Петя пойдёт на рыбалку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250920" y="5300640"/>
            <a:ext cx="7826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cccc00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87280" y="404640"/>
            <a:ext cx="69850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познай пословиц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 дисплей неча пенять, коли видеокарта крива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1504800" cy="1966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807840" cy="1152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755640" y="1268280"/>
            <a:ext cx="647640" cy="4892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2050920" y="1197000"/>
            <a:ext cx="7336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340000" y="1159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ccff"/>
                </a:solidFill>
                <a:latin typeface="Arial"/>
              </a:rPr>
              <a:t>Твоя    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836640"/>
            <a:ext cx="8569080" cy="703440"/>
          </a:xfrm>
          <a:prstGeom prst="rect">
            <a:avLst/>
          </a:prstGeom>
          <a:solidFill>
            <a:srgbClr val="808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.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844640"/>
            <a:ext cx="8569080" cy="7034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2. Чув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4076640"/>
            <a:ext cx="8569080" cy="7034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4. Су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924280"/>
            <a:ext cx="8569080" cy="703440"/>
          </a:xfrm>
          <a:prstGeom prst="rect">
            <a:avLst/>
          </a:prstGeom>
          <a:solidFill>
            <a:srgbClr val="ffff99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3.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229360"/>
            <a:ext cx="8569080" cy="703440"/>
          </a:xfrm>
          <a:prstGeom prst="rect">
            <a:avLst/>
          </a:prstGeom>
          <a:solidFill>
            <a:srgbClr val="cce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5. У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40360" y="90792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90792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2000" y="90792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48360" y="90792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885080" y="90792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40360" y="414972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76720" y="414972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414972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414972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85080" y="414972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99556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6720" y="299556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2000" y="299556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48360" y="299556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85080" y="299736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191628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191628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191628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191628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85080" y="191628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530064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530064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530064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48360" y="530064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885080" y="530064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 rot="10800000">
            <a:off x="8388000" y="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2f383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765000"/>
            <a:ext cx="820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cc"/>
                </a:solidFill>
                <a:latin typeface="Arial"/>
              </a:rPr>
              <a:t>Знания, которые человек получает из различных источников – это…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348000" y="3716280"/>
            <a:ext cx="23036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333360"/>
            <a:ext cx="849636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К какой группе знаний можно отнести следующее высказыв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У равностороннего треугольника все стороны равны и все углы по 60 градус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5084640"/>
            <a:ext cx="1584360" cy="12970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981000"/>
            <a:ext cx="849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333360"/>
            <a:ext cx="79200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формативно ли для вас следующее сообщ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Наука о способах и формах мышления (таких как понятие, суждение и умозаключение), называется лог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492360" y="1847880"/>
            <a:ext cx="21607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0920" y="765000"/>
            <a:ext cx="8713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должи предлож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Для того, чтобы правильно решить пример по математике нужно знать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419640" y="4508640"/>
            <a:ext cx="22320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765000"/>
            <a:ext cx="8893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се знания, которыми обладает каждый из нас, условно можно разделить на две групп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Каки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924360" y="508464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1052640"/>
            <a:ext cx="8642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Целостное отражение объекта, непосредственно воздействующего на наши органы чувств, называют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780000" y="443700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04:54:15Z</dcterms:created>
  <dc:creator>Коновалова</dc:creator>
  <dc:description/>
  <dc:language>en-US</dc:language>
  <cp:lastModifiedBy>Коновалова</cp:lastModifiedBy>
  <dcterms:modified xsi:type="dcterms:W3CDTF">2007-05-04T15:58:38Z</dcterms:modified>
  <cp:revision>37</cp:revision>
  <dc:subject/>
  <dc:title>Слайд 1</dc:title>
</cp:coreProperties>
</file>