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061-8A82-4747-9601-2B59A0CD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112-B4E9-414D-A9B5-6FA035BA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EA2-9977-4762-92F2-B9C67003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8BB-8CF5-4385-9BE9-36F7D684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9C08-071D-4A65-8DD7-C672FDD8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B04E-5C69-4278-AE7E-91D76F81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A645-A6A2-4E98-B93B-4D02C44A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98A5-7B6D-4118-81DE-A5B5370F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9E7D-FA7F-4D4C-8760-4D12BDB4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1CD9-3861-4551-9AD1-4052975B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9E18-458E-4124-9473-84C2B486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A67-0410-4904-974C-DD5B1732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6F2F-E313-47F4-842A-F2339739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A82C-24FB-4EC3-8206-BE6CFAAE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3E97-71C4-453C-AB2E-F4DFB8CD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B61D-AF9F-4AE8-B6AA-5A5CF29E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9007-0A28-4C03-96C7-DF6F7E0B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D49-3880-4A35-9403-D5FEA9B0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6C4-393C-492B-B618-AF87BD67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E39-B13D-48E5-89E5-8EF526C6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4CA-C77C-47A3-8792-DB3A9B15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95E-2B0B-4690-BF58-4ACC671E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565-9940-40A8-ADFA-34379424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397-EB00-4B65-A50D-9E8C928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F8BF-AAFC-46D0-A7D1-A95F2B19FEB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308A-8050-43C4-B6A3-F6390325A5C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Урок русского языка по теме: </a:t>
            </a: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«Понятия частей речи» </a:t>
            </a: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3 класс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633560"/>
            <a:ext cx="56120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итникова Наталья Александровна, учитель второй квалификационной категории МОУ «Моряковская СОШ» Томского района Томской области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Упражнение № 368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066680"/>
          <a:ext cx="8229600" cy="5657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ущ.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ил.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л.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иса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журавль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ости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бед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увшин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орлышко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ос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ружба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узкое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линный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овет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варила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ъела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тоит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ишла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ончилась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СПАСИБО</a:t>
            </a: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 за</a:t>
            </a: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 РАБОТУ!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у, ответь скорей, дружок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ы готов начать урок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сё ль на мес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се ли вмес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то ж, пора нам начина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ему новую узнать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191124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673280" cy="1801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1412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асшифруй ребусы 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 запиши слов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1905120" cy="1996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32320" y="1600200"/>
            <a:ext cx="2660760" cy="1922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52480" y="4073400"/>
            <a:ext cx="3255840" cy="1806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775480" y="3473280"/>
            <a:ext cx="21366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Древняя пословица права.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Да, язык – великое богатство.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Только надо записать слова,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А не то бесследно разлетятся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Толковый словарь Ожегов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Язык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движный мышечный орган в полости рт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Язык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сторически сложившаяся система звуковых, словарных и грамматических средств, являющаяся орудием общения, обмена мыслями и взаимного понимания людей в обществ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Язык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ародная нация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Имя существительно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Имя прилагательно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Имя девочк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Местоимени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Глаго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Имя числительно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Наречи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Предлог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Союзы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ЧАСТИ РЕЧ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280" y="1295280"/>
          <a:ext cx="8763120" cy="4647960"/>
        </p:xfrm>
        <a:graphic>
          <a:graphicData uri="http://schemas.openxmlformats.org/drawingml/2006/table">
            <a:tbl>
              <a:tblPr/>
              <a:tblGrid>
                <a:gridCol w="2318400"/>
                <a:gridCol w="2414880"/>
                <a:gridCol w="1866600"/>
                <a:gridCol w="2163240"/>
              </a:tblGrid>
              <a:tr h="148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Имя </a:t>
                      </a:r>
                      <a:endParaRPr b="0" lang="en-US" sz="21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существительное</a:t>
                      </a:r>
                      <a:endParaRPr b="0" lang="en-US" sz="21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Имя 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Глагол 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Предлог 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лужит для связки слов в предложении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то?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акой?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акая?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акое?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акие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Что делать?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Что сделать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азбейте слова на групп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красны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слова, обозначающие предмет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зелёны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слова, обозначающие действи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сини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слова, обозначающие признак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жёлты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слова, к которым нельзя поставить вопрос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верь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1173240"/>
                <a:gridCol w="1171440"/>
                <a:gridCol w="1293840"/>
                <a:gridCol w="1359000"/>
                <a:gridCol w="1471680"/>
                <a:gridCol w="17604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свет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у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лисица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8000"/>
                          </a:solidFill>
                          <a:latin typeface="Verdana"/>
                          <a:ea typeface="Arial"/>
                        </a:rPr>
                        <a:t>бежать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за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8000"/>
                          </a:solidFill>
                          <a:latin typeface="Verdana"/>
                          <a:ea typeface="Arial"/>
                        </a:rPr>
                        <a:t>учить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Verdana"/>
                          <a:ea typeface="Arial"/>
                        </a:rPr>
                        <a:t>рыжий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на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медведь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8000"/>
                          </a:solidFill>
                          <a:latin typeface="Verdana"/>
                          <a:ea typeface="Arial"/>
                        </a:rPr>
                        <a:t>жарит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Verdana"/>
                          <a:ea typeface="Arial"/>
                        </a:rPr>
                        <a:t>вкусные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Verdana"/>
                          <a:ea typeface="Arial"/>
                        </a:rPr>
                        <a:t>синее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8000"/>
                          </a:solidFill>
                          <a:latin typeface="Verdana"/>
                          <a:ea typeface="Arial"/>
                        </a:rPr>
                        <a:t>пишет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от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Verdana"/>
                          <a:ea typeface="Arial"/>
                        </a:rPr>
                        <a:t>нежный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Verdana"/>
                          <a:ea typeface="Arial"/>
                        </a:rPr>
                        <a:t>красивый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до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домик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огород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8000"/>
                          </a:solidFill>
                          <a:latin typeface="Verdana"/>
                          <a:ea typeface="Arial"/>
                        </a:rPr>
                        <a:t>смотрит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mp</cp:lastModifiedBy>
  <dcterms:modified xsi:type="dcterms:W3CDTF">2004-01-21T21:17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