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B46D-5540-4E25-8B25-07CB4966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B073-E006-4A64-BF78-0A1DCC0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C500-0195-480E-A93C-6C25017B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2DD2-97A3-4C05-8B94-E010570C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F04B-3CCF-4817-807A-3BB50144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16B2-0BAC-4522-ABB5-469C889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32D6-021D-4224-8FEB-EB5BC4F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6B18-77E1-490E-8249-FBC0E4B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771-F63C-45DC-8B14-F081FD8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C5D9-5C79-4926-B628-D14E8CA6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DFE9-D77B-4390-B133-29E5C51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00BC-8411-4B3C-81ED-CBC718B5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A651-066B-4C9B-B8CD-2714401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2ED0-1315-49D6-A5F8-E0F9B97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10D-EC0B-43AF-8646-9F1D0F15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8D49-26F9-4BFE-8D23-8E1567D8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0C8-E69D-44DF-9FA4-FFD26E8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2F76-0520-49BF-B720-443E4B7F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6E2C-25D9-4E06-BBA0-6F2F34D1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E324-C666-49E7-9B73-3B80C92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2E85-5F88-4742-9CEE-58EE2B7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9CC8-F877-4EE9-89F9-FD78788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B01A-A78C-451E-B8C0-B1364F6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DC80-7F01-407F-867C-F84ECAC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D0A-66F8-40D1-B71F-DA83BAE8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892-F407-4F2A-BBE8-477AD439A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37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Число 6. Состав 6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ма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Доровская А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319120" cy="20764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52472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116720" y="619920"/>
            <a:ext cx="68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крась пары чисел, составляющие 6, одинаковым цв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2916360" y="907920"/>
            <a:ext cx="3085920" cy="2514240"/>
            <a:chOff x="2916360" y="907920"/>
            <a:chExt cx="3085920" cy="2514240"/>
          </a:xfrm>
        </p:grpSpPr>
        <p:sp>
          <p:nvSpPr>
            <p:cNvPr id="556" name="AutoShape 6"/>
            <p:cNvSpPr/>
            <p:nvPr/>
          </p:nvSpPr>
          <p:spPr>
            <a:xfrm>
              <a:off x="3487680" y="1365120"/>
              <a:ext cx="1942920" cy="148572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 </a:t>
              </a:r>
              <a:r>
                <a:rPr b="0" lang="ru-RU" sz="72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6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3373200" y="90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8"/>
            <p:cNvSpPr/>
            <p:nvPr/>
          </p:nvSpPr>
          <p:spPr>
            <a:xfrm>
              <a:off x="2916360" y="18223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9"/>
            <p:cNvSpPr/>
            <p:nvPr/>
          </p:nvSpPr>
          <p:spPr>
            <a:xfrm>
              <a:off x="3487680" y="285084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10"/>
            <p:cNvSpPr/>
            <p:nvPr/>
          </p:nvSpPr>
          <p:spPr>
            <a:xfrm>
              <a:off x="4859280" y="285084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11"/>
            <p:cNvSpPr/>
            <p:nvPr/>
          </p:nvSpPr>
          <p:spPr>
            <a:xfrm>
              <a:off x="5430960" y="18223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12"/>
            <p:cNvSpPr/>
            <p:nvPr/>
          </p:nvSpPr>
          <p:spPr>
            <a:xfrm>
              <a:off x="4973760" y="90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13"/>
          <p:cNvSpPr/>
          <p:nvPr/>
        </p:nvSpPr>
        <p:spPr>
          <a:xfrm>
            <a:off x="917280" y="3499560"/>
            <a:ext cx="24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Дополни до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1187280" y="4365720"/>
            <a:ext cx="5943240" cy="1143000"/>
            <a:chOff x="1187280" y="4365720"/>
            <a:chExt cx="5943240" cy="1143000"/>
          </a:xfrm>
        </p:grpSpPr>
        <p:grpSp>
          <p:nvGrpSpPr>
            <p:cNvPr id="565" name="Group 15"/>
            <p:cNvGrpSpPr/>
            <p:nvPr/>
          </p:nvGrpSpPr>
          <p:grpSpPr>
            <a:xfrm>
              <a:off x="1187280" y="4365720"/>
              <a:ext cx="1828800" cy="1143000"/>
              <a:chOff x="1187280" y="4365720"/>
              <a:chExt cx="1828800" cy="1143000"/>
            </a:xfrm>
          </p:grpSpPr>
          <p:sp>
            <p:nvSpPr>
              <p:cNvPr id="566" name="Rectangle 16"/>
              <p:cNvSpPr/>
              <p:nvPr/>
            </p:nvSpPr>
            <p:spPr>
              <a:xfrm>
                <a:off x="1187280" y="4365720"/>
                <a:ext cx="182880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17"/>
              <p:cNvSpPr/>
              <p:nvPr/>
            </p:nvSpPr>
            <p:spPr>
              <a:xfrm>
                <a:off x="14158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18"/>
              <p:cNvSpPr/>
              <p:nvPr/>
            </p:nvSpPr>
            <p:spPr>
              <a:xfrm>
                <a:off x="18730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19"/>
              <p:cNvSpPr/>
              <p:nvPr/>
            </p:nvSpPr>
            <p:spPr>
              <a:xfrm>
                <a:off x="2330280" y="44798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20"/>
              <p:cNvSpPr/>
              <p:nvPr/>
            </p:nvSpPr>
            <p:spPr>
              <a:xfrm>
                <a:off x="1415880" y="49370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Oval 21"/>
              <p:cNvSpPr/>
              <p:nvPr/>
            </p:nvSpPr>
            <p:spPr>
              <a:xfrm>
                <a:off x="1873080" y="493704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2"/>
            <p:cNvGrpSpPr/>
            <p:nvPr/>
          </p:nvGrpSpPr>
          <p:grpSpPr>
            <a:xfrm>
              <a:off x="3130200" y="4365720"/>
              <a:ext cx="1942920" cy="1143000"/>
              <a:chOff x="3130200" y="4365720"/>
              <a:chExt cx="1942920" cy="1143000"/>
            </a:xfrm>
          </p:grpSpPr>
          <p:sp>
            <p:nvSpPr>
              <p:cNvPr id="573" name="Rectangle 23"/>
              <p:cNvSpPr/>
              <p:nvPr/>
            </p:nvSpPr>
            <p:spPr>
              <a:xfrm>
                <a:off x="3130200" y="4365720"/>
                <a:ext cx="194292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utoShape 24"/>
              <p:cNvSpPr/>
              <p:nvPr/>
            </p:nvSpPr>
            <p:spPr>
              <a:xfrm>
                <a:off x="34729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utoShape 25"/>
              <p:cNvSpPr/>
              <p:nvPr/>
            </p:nvSpPr>
            <p:spPr>
              <a:xfrm>
                <a:off x="39301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utoShape 26"/>
              <p:cNvSpPr/>
              <p:nvPr/>
            </p:nvSpPr>
            <p:spPr>
              <a:xfrm>
                <a:off x="4387320" y="44798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utoShape 27"/>
              <p:cNvSpPr/>
              <p:nvPr/>
            </p:nvSpPr>
            <p:spPr>
              <a:xfrm>
                <a:off x="3472920" y="4937040"/>
                <a:ext cx="45720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8"/>
            <p:cNvGrpSpPr/>
            <p:nvPr/>
          </p:nvGrpSpPr>
          <p:grpSpPr>
            <a:xfrm>
              <a:off x="5187600" y="4365720"/>
              <a:ext cx="1942920" cy="1143000"/>
              <a:chOff x="5187600" y="4365720"/>
              <a:chExt cx="1942920" cy="1143000"/>
            </a:xfrm>
          </p:grpSpPr>
          <p:sp>
            <p:nvSpPr>
              <p:cNvPr id="579" name="Rectangle 29"/>
              <p:cNvSpPr/>
              <p:nvPr/>
            </p:nvSpPr>
            <p:spPr>
              <a:xfrm>
                <a:off x="5187600" y="4365720"/>
                <a:ext cx="1942920" cy="11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30"/>
              <p:cNvSpPr/>
              <p:nvPr/>
            </p:nvSpPr>
            <p:spPr>
              <a:xfrm>
                <a:off x="530172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31"/>
              <p:cNvSpPr/>
              <p:nvPr/>
            </p:nvSpPr>
            <p:spPr>
              <a:xfrm>
                <a:off x="587340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32"/>
              <p:cNvSpPr/>
              <p:nvPr/>
            </p:nvSpPr>
            <p:spPr>
              <a:xfrm>
                <a:off x="6444720" y="447984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1546920" y="619920"/>
            <a:ext cx="61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Найди признак разбиения, разбей, допиши раве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1692360" y="1484280"/>
            <a:ext cx="5829120" cy="2171880"/>
            <a:chOff x="1692360" y="1484280"/>
            <a:chExt cx="5829120" cy="2171880"/>
          </a:xfrm>
        </p:grpSpPr>
        <p:sp>
          <p:nvSpPr>
            <p:cNvPr id="586" name="Oval 7"/>
            <p:cNvSpPr/>
            <p:nvPr/>
          </p:nvSpPr>
          <p:spPr>
            <a:xfrm>
              <a:off x="1692360" y="1598400"/>
              <a:ext cx="68544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8"/>
            <p:cNvSpPr/>
            <p:nvPr/>
          </p:nvSpPr>
          <p:spPr>
            <a:xfrm>
              <a:off x="2606760" y="1941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"/>
            <p:cNvSpPr/>
            <p:nvPr/>
          </p:nvSpPr>
          <p:spPr>
            <a:xfrm>
              <a:off x="3292200" y="1598400"/>
              <a:ext cx="342720" cy="342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>
              <a:off x="1692360" y="2627280"/>
              <a:ext cx="685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1"/>
            <p:cNvSpPr/>
            <p:nvPr/>
          </p:nvSpPr>
          <p:spPr>
            <a:xfrm>
              <a:off x="2606760" y="27417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292200" y="2513160"/>
              <a:ext cx="342720" cy="34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4092480" y="1712880"/>
              <a:ext cx="914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6699"/>
                  </a:solidFill>
                  <a:latin typeface="Times New Roman"/>
                  <a:ea typeface="MS Mincho"/>
                </a:rPr>
                <a:t>4 +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52354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61498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7064280" y="1484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52354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18"/>
            <p:cNvSpPr/>
            <p:nvPr/>
          </p:nvSpPr>
          <p:spPr>
            <a:xfrm>
              <a:off x="61498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7064280" y="20556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20"/>
            <p:cNvSpPr/>
            <p:nvPr/>
          </p:nvSpPr>
          <p:spPr>
            <a:xfrm>
              <a:off x="52354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21"/>
            <p:cNvSpPr/>
            <p:nvPr/>
          </p:nvSpPr>
          <p:spPr>
            <a:xfrm>
              <a:off x="61498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22"/>
            <p:cNvSpPr/>
            <p:nvPr/>
          </p:nvSpPr>
          <p:spPr>
            <a:xfrm>
              <a:off x="7064280" y="2627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23"/>
            <p:cNvSpPr/>
            <p:nvPr/>
          </p:nvSpPr>
          <p:spPr>
            <a:xfrm>
              <a:off x="52354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24"/>
            <p:cNvSpPr/>
            <p:nvPr/>
          </p:nvSpPr>
          <p:spPr>
            <a:xfrm>
              <a:off x="61498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25"/>
            <p:cNvSpPr/>
            <p:nvPr/>
          </p:nvSpPr>
          <p:spPr>
            <a:xfrm>
              <a:off x="7064280" y="31989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Text Box 26"/>
          <p:cNvSpPr/>
          <p:nvPr/>
        </p:nvSpPr>
        <p:spPr>
          <a:xfrm>
            <a:off x="572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5724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724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5724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65964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659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659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659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844720" y="1052640"/>
            <a:ext cx="4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3492360" y="1052640"/>
            <a:ext cx="4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4140360" y="1052640"/>
            <a:ext cx="43164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4788000" y="1052640"/>
            <a:ext cx="43164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5437080" y="1052640"/>
            <a:ext cx="43200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6084720" y="1052640"/>
            <a:ext cx="43200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771640" y="1844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 + 4 = 6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(к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2268360" y="10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2268360" y="28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6"/>
          <p:cNvSpPr/>
          <p:nvPr/>
        </p:nvSpPr>
        <p:spPr>
          <a:xfrm>
            <a:off x="284472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349236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4140360" y="2781360"/>
            <a:ext cx="57456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4788000" y="2781360"/>
            <a:ext cx="57456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543708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084720" y="2781360"/>
            <a:ext cx="57492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2771640" y="357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– 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(п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1979640" y="4795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2482920" y="5805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 + 3 – 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(ш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Oval 26"/>
          <p:cNvSpPr/>
          <p:nvPr/>
        </p:nvSpPr>
        <p:spPr>
          <a:xfrm>
            <a:off x="2627280" y="4724280"/>
            <a:ext cx="43200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27"/>
          <p:cNvSpPr/>
          <p:nvPr/>
        </p:nvSpPr>
        <p:spPr>
          <a:xfrm>
            <a:off x="3348000" y="4724280"/>
            <a:ext cx="43200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8"/>
          <p:cNvSpPr/>
          <p:nvPr/>
        </p:nvSpPr>
        <p:spPr>
          <a:xfrm>
            <a:off x="4067280" y="4724280"/>
            <a:ext cx="43164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Oval 29"/>
          <p:cNvSpPr/>
          <p:nvPr/>
        </p:nvSpPr>
        <p:spPr>
          <a:xfrm>
            <a:off x="4788000" y="4724280"/>
            <a:ext cx="43164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30"/>
          <p:cNvSpPr/>
          <p:nvPr/>
        </p:nvSpPr>
        <p:spPr>
          <a:xfrm>
            <a:off x="5506920" y="4724280"/>
            <a:ext cx="43200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Oval 31"/>
          <p:cNvSpPr/>
          <p:nvPr/>
        </p:nvSpPr>
        <p:spPr>
          <a:xfrm>
            <a:off x="6156360" y="4724280"/>
            <a:ext cx="431640" cy="936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539640" y="2492280"/>
          <a:ext cx="8229600" cy="13464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3" name="Picture 4" descr="E:\Смешарики\бараш5.png"/>
          <p:cNvPicPr/>
          <p:nvPr/>
        </p:nvPicPr>
        <p:blipFill>
          <a:blip r:embed="rId1"/>
          <a:stretch/>
        </p:blipFill>
        <p:spPr>
          <a:xfrm>
            <a:off x="5076720" y="0"/>
            <a:ext cx="1719360" cy="16430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E:\Смешарики\нюша.png"/>
          <p:cNvPicPr/>
          <p:nvPr/>
        </p:nvPicPr>
        <p:blipFill>
          <a:blip r:embed="rId2"/>
          <a:stretch/>
        </p:blipFill>
        <p:spPr>
          <a:xfrm>
            <a:off x="857160" y="214200"/>
            <a:ext cx="1228680" cy="14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5" name=""/>
          <p:cNvGraphicFramePr/>
          <p:nvPr/>
        </p:nvGraphicFramePr>
        <p:xfrm>
          <a:off x="539640" y="3860640"/>
          <a:ext cx="8229600" cy="13464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2 3 4 5 7 8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95280" y="371628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2 3 4 5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7 8 9 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9" descr=""/>
          <p:cNvPicPr/>
          <p:nvPr/>
        </p:nvPicPr>
        <p:blipFill>
          <a:blip r:embed="rId1"/>
          <a:stretch/>
        </p:blipFill>
        <p:spPr>
          <a:xfrm>
            <a:off x="6215040" y="4572000"/>
            <a:ext cx="2718000" cy="2000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50920" y="623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3а,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Запомнить, нарисовать, разбить на ча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Oval 5"/>
          <p:cNvSpPr/>
          <p:nvPr/>
        </p:nvSpPr>
        <p:spPr>
          <a:xfrm>
            <a:off x="1546200" y="1987560"/>
            <a:ext cx="720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6"/>
          <p:cNvSpPr/>
          <p:nvPr/>
        </p:nvSpPr>
        <p:spPr>
          <a:xfrm>
            <a:off x="2627280" y="2492280"/>
            <a:ext cx="720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684360" y="3645000"/>
            <a:ext cx="2232000" cy="22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4572000" y="299556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5796000" y="328464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4211640" y="4292640"/>
            <a:ext cx="72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5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остав числа 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79280" y="1052640"/>
            <a:ext cx="5194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 и 5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 и 1 – это 6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 и 4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 и 2 – это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 и 3 – это 6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6"/>
          <a:stretch/>
        </p:blipFill>
        <p:spPr>
          <a:xfrm>
            <a:off x="7308720" y="5376960"/>
            <a:ext cx="1624320" cy="1195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24000" y="609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5" descr="E:\Смешарики\сова2.png"/>
          <p:cNvPicPr/>
          <p:nvPr/>
        </p:nvPicPr>
        <p:blipFill>
          <a:blip r:embed="rId1"/>
          <a:stretch/>
        </p:blipFill>
        <p:spPr>
          <a:xfrm>
            <a:off x="0" y="2143080"/>
            <a:ext cx="2505240" cy="2556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E:\Смешарики\ежик3.png"/>
          <p:cNvPicPr/>
          <p:nvPr/>
        </p:nvPicPr>
        <p:blipFill>
          <a:blip r:embed="rId2"/>
          <a:stretch/>
        </p:blipFill>
        <p:spPr>
          <a:xfrm>
            <a:off x="7143840" y="2214720"/>
            <a:ext cx="1655640" cy="19508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E:\Смешарики\нюша2.png"/>
          <p:cNvPicPr/>
          <p:nvPr/>
        </p:nvPicPr>
        <p:blipFill>
          <a:blip r:embed="rId3"/>
          <a:stretch/>
        </p:blipFill>
        <p:spPr>
          <a:xfrm>
            <a:off x="2571840" y="2357280"/>
            <a:ext cx="1949400" cy="2005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E:\Смешарики\крош2.png"/>
          <p:cNvPicPr/>
          <p:nvPr/>
        </p:nvPicPr>
        <p:blipFill>
          <a:blip r:embed="rId4"/>
          <a:stretch/>
        </p:blipFill>
        <p:spPr>
          <a:xfrm>
            <a:off x="5072040" y="2286000"/>
            <a:ext cx="1627200" cy="2157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E:\Смешарики\бараш2.png"/>
          <p:cNvPicPr/>
          <p:nvPr/>
        </p:nvPicPr>
        <p:blipFill>
          <a:blip r:embed="rId5"/>
          <a:stretch/>
        </p:blipFill>
        <p:spPr>
          <a:xfrm>
            <a:off x="3857760" y="4329000"/>
            <a:ext cx="2109600" cy="2529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E:\Смешарики\пин2.png"/>
          <p:cNvPicPr/>
          <p:nvPr/>
        </p:nvPicPr>
        <p:blipFill>
          <a:blip r:embed="rId6"/>
          <a:stretch/>
        </p:blipFill>
        <p:spPr>
          <a:xfrm>
            <a:off x="6429240" y="4429080"/>
            <a:ext cx="1443240" cy="1933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E:\Смешарики\лосяш1.png"/>
          <p:cNvPicPr/>
          <p:nvPr/>
        </p:nvPicPr>
        <p:blipFill>
          <a:blip r:embed="rId7"/>
          <a:stretch/>
        </p:blipFill>
        <p:spPr>
          <a:xfrm>
            <a:off x="1428840" y="4643280"/>
            <a:ext cx="1504800" cy="2000520"/>
          </a:xfrm>
          <a:prstGeom prst="rect">
            <a:avLst/>
          </a:prstGeom>
          <a:ln w="0">
            <a:noFill/>
          </a:ln>
        </p:spPr>
      </p:pic>
      <p:pic>
        <p:nvPicPr>
          <p:cNvPr id="549" name="02 Дорожка 2.wma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68360" y="2276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 малой удачи начинается большой успех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24720" y="5950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34:35Z</dcterms:created>
  <dc:creator>meb</dc:creator>
  <dc:description/>
  <dc:language>en-US</dc:language>
  <cp:lastModifiedBy>Adel</cp:lastModifiedBy>
  <dcterms:modified xsi:type="dcterms:W3CDTF">2010-08-08T17:57:57Z</dcterms:modified>
  <cp:revision>18</cp:revision>
  <dc:subject/>
  <dc:title>Число 6. Состав 6</dc:title>
</cp:coreProperties>
</file>