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C34-F875-402F-8445-8C5E5477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873-D6B1-4AF0-870D-BBF6D513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E09-DA9A-438C-BDE6-16F3843A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62F-A71B-45EA-BB92-C2A67ADE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1E8A-3E75-4BD0-9332-E45F42A8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1FD2-D5A7-4C7F-B85A-4D374844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FC65-6EE9-41B7-8CD1-EFFE12E2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EA35-0B81-451E-9B81-5ABC7DC8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6CD7-1A1E-444A-B284-8AC897D5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C7B8-C91D-4214-BD5C-99DF8F5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96F4-72AB-4F93-AACE-BB87848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D4E-1018-4135-BD87-871777CC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F2F6-D284-4BD7-9C00-328ECD18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3521-5AAF-47EB-9ABE-4CEBF36D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06F5-6A16-475A-88D1-8A3EAD28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50F0-FF25-464C-9944-135A38EA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FD80-0C35-407B-A118-0A3861A5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427-CD4D-498D-9DBA-848A4DBD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F15-977A-4407-B7DC-07848E1D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1C2-98D0-4158-8275-6E2C6D54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E09-795D-4D15-84FB-4D23DDC8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160-E73E-40B6-A07E-BFE08DC3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055-F410-4B70-88A6-42D27E00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8F7-D6E2-4293-914E-4CD3092E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5C36-4341-4D0F-97B5-28EF5AC9D1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FDBE-6697-42E7-AA83-DD7791CDA9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ткрытый урок по русскому языку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 5 класс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Фонетика. Гласные и согласные зву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огласные звуки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14720" y="1771560"/>
            <a:ext cx="352764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тгадайте песню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с рдлсь лчк,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с н рсл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о и ео оая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ёая ы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Итог урок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раздел науки о языке, в котором изучаются звуки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акие две группы делятся звуки реч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органы речи участвуют в образовании зву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чем отличие в образовании гласных и согласных зву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х звуков больше: гласных или соглас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. 2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вести в лексикон учащегося термин «фонетик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образовании гласных и согласных зву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ь сопоставлять орфографическую и звуковую запись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Фонети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фоне» ( с греч.) - 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лово «фон» обозначает: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цве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задний план картин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обстанов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Измените первый зву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ряд          2 ряд         3 р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м-           чайка-         мол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             гайка          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ыньте один зву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аска - кас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лон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к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ло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да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ран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Добавьте один зву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ол - стол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д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п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ар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ы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ус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рганы реч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64200" y="1052640"/>
            <a:ext cx="3979800" cy="55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ласные звуки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183200" y="1628640"/>
            <a:ext cx="3524040" cy="363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44:11Z</dcterms:created>
  <dc:creator>Admin</dc:creator>
  <dc:description/>
  <dc:language>en-US</dc:language>
  <cp:lastModifiedBy>Admin</cp:lastModifiedBy>
  <dcterms:modified xsi:type="dcterms:W3CDTF">2010-01-17T07:35:25Z</dcterms:modified>
  <cp:revision>4</cp:revision>
  <dc:subject/>
  <dc:title>Открытый урок по русскому языку в 5 классе </dc:title>
</cp:coreProperties>
</file>