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6AF-0D54-46BD-A683-79BCF3E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F0C-E809-4E30-AB79-5A07F43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835-ACC9-4E3A-B40C-72966704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38E-7882-4B0E-AEA3-64D7C54D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89C6-B890-4872-802B-CFBB689C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9958-A969-4C57-AE42-0438C49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68C-4AED-4B5F-9236-5F55553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07D6-DC49-4965-8FC7-0F543CFA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90C2-A915-4AC1-B5E6-524CD31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AEBE-D9E0-4CBF-B789-24BB3AEC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2C9-4635-496B-8B78-0C1E967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3B-7CED-4C0C-8E3C-304E7BA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DCEB-54B2-4306-B702-8DD484B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3A4-C2DB-4849-B95A-0A4B656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5AC-E274-4793-9DB2-E5DBD444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416-1C82-402E-90CC-814FAF27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53D-9FE6-402D-BB40-242C42E5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1B6-62D7-4B76-B60B-15EA07D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715-8BA7-443A-86D0-5478F84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5A6-7C6F-4D12-BB0A-153C63AA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B92-C30E-4FAA-96CA-AB27C04B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419-5C78-4588-A1AB-618BB13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27E-AD15-4226-B157-B56FD8A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A2F-9253-4A5D-89DA-789B662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594-37FA-4A44-9912-A5F4E2699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7763-9639-4322-BB4D-7FC3006EF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крытый урок по русскому языку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5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Фонетика. Гласные и согласные зву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огласные звуки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720" y="1771560"/>
            <a:ext cx="35276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тгадайте песню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с рдлсь лчк,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с н рсл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 и ео оая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ёая ы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тог уро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раздел науки о языке, в котором изучаются звуки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кие две группы делятся звуки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органы речи участвуют в образовании зву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отличие в образовании гласных и согласных зву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х звуков больше: гласных или соглас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. 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сти в лексикон учащегося термин «фонети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образовании гласных и согласных зву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ь сопоставлять орфографическую и звуковую запись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Фоне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фоне» ( с греч.) -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лово «фон» обозначает: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цве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задний план картин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обстанов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змените первый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ряд          2 ряд         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м-           чайка-         мо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             гайка         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ыньте один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ка - ка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лон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к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о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д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ран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обавьте один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 - стол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д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ы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ус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рганы реч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64200" y="1052640"/>
            <a:ext cx="397980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ласные звуки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83200" y="1628640"/>
            <a:ext cx="3524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44:11Z</dcterms:created>
  <dc:creator>Admin</dc:creator>
  <dc:description/>
  <dc:language>en-US</dc:language>
  <cp:lastModifiedBy>Admin</cp:lastModifiedBy>
  <dcterms:modified xsi:type="dcterms:W3CDTF">2010-01-17T07:35:25Z</dcterms:modified>
  <cp:revision>4</cp:revision>
  <dc:subject/>
  <dc:title>Открытый урок по русскому языку в 5 классе </dc:title>
</cp:coreProperties>
</file>