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94A1-BAA0-42C4-94E2-C7540857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E6DC-2EC3-41F7-A1BB-8DE9AF68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4CA8-78A2-459C-B999-CD4D1251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048C-9F10-4C52-8BAB-D2FE9620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DEAC-686D-4493-A05A-66F27EED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EEDB-EA12-4E6D-9A57-35F33647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50FF-A1B6-4595-96FB-7EA2DE8A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E61D-86E8-49CE-AA15-F04DA940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4007-A80B-47CD-BA98-D0DCB40C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2B10-ED89-443F-96E6-D384A394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DEE4-65A0-4FB2-9713-35864F07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5948-6F19-4C40-932B-01C33F92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952D-2EC6-4C4E-B216-971DF11B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27F8-3388-4623-A3BF-BDE75FEF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B637-B5BB-43DB-828F-208C0ABA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4E46-57D8-41F1-A834-2F390C98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F597-2C7B-4370-89BA-F682A6DE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7A11-0972-4365-B461-D9B1C408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1E6D-2B5F-4344-9F59-E69257CE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64D2-6AAD-4A19-B221-CCDF0D5F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3EC9-3EBE-4AED-B90B-D95F6008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8331-81CE-43C0-A565-63804866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925-7C88-4C8F-B28C-F8BA7DB7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2DC7-68B6-4402-8F00-DEDA55E8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B7E6-0791-40C8-B387-25CE481EA05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210D-E7B4-4F2D-AB42-CCC53D7A89D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Химические свойства металлов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Цель: Рассмотреть общие химические свойства металлов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96000" y="4076640"/>
            <a:ext cx="2252520" cy="209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ahoma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ahoma"/>
                <a:ea typeface="Tahoma"/>
              </a:rPr>
              <a:t>Изучить </a:t>
            </a:r>
            <a:r>
              <a:rPr b="1" lang="en-US" sz="3200" spc="-1" strike="noStrike">
                <a:solidFill>
                  <a:srgbClr val="00ffff"/>
                </a:solidFill>
                <a:latin typeface="Tahoma"/>
                <a:ea typeface="Tahoma"/>
              </a:rPr>
              <a:t>§</a:t>
            </a:r>
            <a:r>
              <a:rPr b="1" lang="ru-RU" sz="3200" spc="-1" strike="noStrike">
                <a:solidFill>
                  <a:srgbClr val="00ffff"/>
                </a:solidFill>
                <a:latin typeface="Tahoma"/>
                <a:ea typeface="Tahoma"/>
              </a:rPr>
              <a:t> 8 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ahoma"/>
                <a:ea typeface="Tahoma"/>
              </a:rPr>
              <a:t>ЗАПОМНИТЬ! Химические свойства металлов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ahoma"/>
                <a:ea typeface="Tahoma"/>
              </a:rPr>
              <a:t>Выполнить письменно задания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ahoma"/>
                <a:ea typeface="Tahoma"/>
              </a:rPr>
              <a:t>    </a:t>
            </a:r>
            <a:r>
              <a:rPr b="1" lang="ru-RU" sz="3200" spc="-1" strike="noStrike">
                <a:solidFill>
                  <a:srgbClr val="00ffff"/>
                </a:solidFill>
                <a:latin typeface="Tahoma"/>
                <a:ea typeface="Tahoma"/>
              </a:rPr>
              <a:t>- № 2,3 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  <a:ea typeface="Tahoma"/>
              </a:rPr>
              <a:t>(после </a:t>
            </a:r>
            <a:r>
              <a:rPr b="1" lang="en-US" sz="2400" spc="-1" strike="noStrike">
                <a:solidFill>
                  <a:srgbClr val="00ffff"/>
                </a:solidFill>
                <a:latin typeface="Tahoma"/>
                <a:ea typeface="Tahoma"/>
              </a:rPr>
              <a:t>§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  <a:ea typeface="Tahoma"/>
              </a:rPr>
              <a:t> 8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ahoma"/>
                <a:ea typeface="Tahoma"/>
              </a:rPr>
              <a:t>    </a:t>
            </a:r>
            <a:r>
              <a:rPr b="1" lang="ru-RU" sz="3200" spc="-1" strike="noStrike">
                <a:solidFill>
                  <a:srgbClr val="00ffff"/>
                </a:solidFill>
                <a:latin typeface="Tahoma"/>
                <a:ea typeface="Tahoma"/>
              </a:rPr>
              <a:t>- № 1-5 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  <a:ea typeface="Tahoma"/>
              </a:rPr>
              <a:t>(тетрадь с печатной основой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ahoma"/>
              </a:rPr>
              <a:t>Химические свойства металл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1. Вступают в реакцию с неметаллами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Tahoma"/>
              </a:rPr>
              <a:t>2Mg + O</a:t>
            </a:r>
            <a:r>
              <a:rPr b="1" lang="en-US" sz="2800" spc="-1" strike="noStrike" baseline="-25000">
                <a:solidFill>
                  <a:srgbClr val="292929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292929"/>
                </a:solidFill>
                <a:latin typeface="Tahoma"/>
              </a:rPr>
              <a:t> = 2MgO</a:t>
            </a:r>
            <a:r>
              <a:rPr b="1" lang="ru-RU" sz="2800" spc="-1" strike="noStrike">
                <a:solidFill>
                  <a:srgbClr val="292929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Tahoma"/>
              </a:rPr>
              <a:t>2Al + 3I</a:t>
            </a:r>
            <a:r>
              <a:rPr b="1" lang="en-US" sz="2800" spc="-1" strike="noStrike" baseline="-25000">
                <a:solidFill>
                  <a:srgbClr val="292929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292929"/>
                </a:solidFill>
                <a:latin typeface="Tahoma"/>
              </a:rPr>
              <a:t> = 2AlI</a:t>
            </a:r>
            <a:r>
              <a:rPr b="1" lang="en-US" sz="2800" spc="-1" strike="noStrike" baseline="-25000">
                <a:solidFill>
                  <a:srgbClr val="292929"/>
                </a:solidFill>
                <a:latin typeface="Tahoma"/>
              </a:rPr>
              <a:t>3</a:t>
            </a:r>
            <a:r>
              <a:rPr b="1" lang="ru-RU" sz="2800" spc="-1" strike="noStrike" baseline="-25000">
                <a:solidFill>
                  <a:srgbClr val="292929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3280" y="3716280"/>
            <a:ext cx="3816360" cy="2737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43280" y="981000"/>
            <a:ext cx="3816360" cy="25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Tahoma"/>
              </a:rPr>
              <a:t>Химические свойства металл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2. Взаимодействуют с водой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6600cc"/>
                </a:solidFill>
                <a:latin typeface="Tahoma"/>
              </a:rPr>
              <a:t>a</a:t>
            </a:r>
            <a:r>
              <a:rPr b="1" lang="ru-RU" sz="2000" spc="-1" strike="noStrike">
                <a:solidFill>
                  <a:srgbClr val="6600cc"/>
                </a:solidFill>
                <a:latin typeface="Tahoma"/>
              </a:rPr>
              <a:t>) Щелочные и щелочночноземельные металлы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292929"/>
                </a:solidFill>
                <a:latin typeface="Tahoma"/>
              </a:rPr>
              <a:t>2Na + 2HOH = 2NaOH  + H</a:t>
            </a:r>
            <a:r>
              <a:rPr b="1" lang="en-US" sz="2800" spc="-1" strike="noStrike" baseline="-25000">
                <a:solidFill>
                  <a:srgbClr val="292929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Tahoma"/>
              </a:rPr>
              <a:t>Ca + 2HOH = Ca(OH)</a:t>
            </a:r>
            <a:r>
              <a:rPr b="1" lang="en-US" sz="2800" spc="-1" strike="noStrike" baseline="-25000">
                <a:solidFill>
                  <a:srgbClr val="292929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292929"/>
                </a:solidFill>
                <a:latin typeface="Tahoma"/>
              </a:rPr>
              <a:t> + H</a:t>
            </a:r>
            <a:r>
              <a:rPr b="1" lang="en-US" sz="2800" spc="-1" strike="noStrike" baseline="-25000">
                <a:solidFill>
                  <a:srgbClr val="292929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Tahoma"/>
              </a:rPr>
              <a:t>б) менее активные металлы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Tahoma"/>
              </a:rPr>
              <a:t>3Fe  + 4H</a:t>
            </a:r>
            <a:r>
              <a:rPr b="1" lang="en-US" sz="2800" spc="-1" strike="noStrike" baseline="-25000">
                <a:solidFill>
                  <a:srgbClr val="292929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292929"/>
                </a:solidFill>
                <a:latin typeface="Tahoma"/>
              </a:rPr>
              <a:t>0 = Fe</a:t>
            </a:r>
            <a:r>
              <a:rPr b="1" lang="en-US" sz="2800" spc="-1" strike="noStrike" baseline="-25000">
                <a:solidFill>
                  <a:srgbClr val="292929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292929"/>
                </a:solidFill>
                <a:latin typeface="Tahoma"/>
              </a:rPr>
              <a:t>O</a:t>
            </a:r>
            <a:r>
              <a:rPr b="1" lang="en-US" sz="2800" spc="-1" strike="noStrike" baseline="-25000">
                <a:solidFill>
                  <a:srgbClr val="292929"/>
                </a:solidFill>
                <a:latin typeface="Tahoma"/>
              </a:rPr>
              <a:t>4 </a:t>
            </a:r>
            <a:r>
              <a:rPr b="1" lang="en-US" sz="2800" spc="-1" strike="noStrike">
                <a:solidFill>
                  <a:srgbClr val="292929"/>
                </a:solidFill>
                <a:latin typeface="Tahoma"/>
              </a:rPr>
              <a:t>+ 4H</a:t>
            </a:r>
            <a:r>
              <a:rPr b="1" lang="en-US" sz="2800" spc="-1" strike="noStrike" baseline="-25000">
                <a:solidFill>
                  <a:srgbClr val="292929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518508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6600cc"/>
                </a:solidFill>
                <a:latin typeface="Tahoma"/>
              </a:rPr>
              <a:t>Химические свойства метал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295280"/>
            <a:ext cx="8497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3. Вступают в реакцию с кислотами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 учетом правил по положению металлов в ряду напряжения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K  Ca  Na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292929"/>
                </a:solidFill>
                <a:latin typeface="Tahoma"/>
              </a:rPr>
              <a:t>Mg  Al  Zn Fe  Ni  Sn  Pb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</a:rPr>
              <a:t>2 </a:t>
            </a:r>
            <a:r>
              <a:rPr b="1" lang="en-US" sz="2400" spc="-1" strike="noStrike">
                <a:solidFill>
                  <a:srgbClr val="292929"/>
                </a:solidFill>
                <a:latin typeface="Tahoma"/>
              </a:rPr>
              <a:t>Cu  Hg  Ag  Au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1. </a:t>
            </a:r>
            <a:r>
              <a:rPr b="1" lang="ru-RU" sz="2400" spc="-1" strike="noStrike">
                <a:solidFill>
                  <a:srgbClr val="6600cc"/>
                </a:solidFill>
                <a:latin typeface="Tahoma"/>
              </a:rPr>
              <a:t>Металл в ряду должен стоять до водорода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cc"/>
                </a:solidFill>
                <a:latin typeface="Tahoma"/>
              </a:rPr>
              <a:t>(исключение металлы </a:t>
            </a: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6600cc"/>
                </a:solidFill>
                <a:latin typeface="Tahoma"/>
              </a:rPr>
              <a:t>А</a:t>
            </a: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6600cc"/>
                </a:solidFill>
                <a:latin typeface="Tahoma"/>
              </a:rPr>
              <a:t>и </a:t>
            </a: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 II</a:t>
            </a:r>
            <a:r>
              <a:rPr b="1" lang="ru-RU" sz="2400" spc="-1" strike="noStrike">
                <a:solidFill>
                  <a:srgbClr val="6600cc"/>
                </a:solidFill>
                <a:latin typeface="Tahoma"/>
              </a:rPr>
              <a:t>А групп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ahoma"/>
              </a:rPr>
              <a:t>2. Полученная соль должна быть растворимой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ahoma"/>
              </a:rPr>
              <a:t>3. Азотная и концентрированная серная кислоты реагируют с металлами по – особому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380520"/>
            <a:ext cx="7697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Взаимодействие с кислотам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77043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Tahoma"/>
              </a:rPr>
              <a:t>                 </a:t>
            </a:r>
            <a:r>
              <a:rPr b="1" lang="en-US" sz="2800" spc="-1" strike="noStrike">
                <a:solidFill>
                  <a:srgbClr val="ccffff"/>
                </a:solidFill>
                <a:latin typeface="Tahoma"/>
              </a:rPr>
              <a:t>2Al + 6HCl = 2AlCl</a:t>
            </a:r>
            <a:r>
              <a:rPr b="1" lang="en-US" sz="2800" spc="-1" strike="noStrike" baseline="-25000">
                <a:solidFill>
                  <a:srgbClr val="ccffff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ccffff"/>
                </a:solidFill>
                <a:latin typeface="Tahoma"/>
              </a:rPr>
              <a:t>+3H</a:t>
            </a:r>
            <a:r>
              <a:rPr b="1" lang="en-US" sz="2800" spc="-1" strike="noStrike" baseline="-25000">
                <a:solidFill>
                  <a:srgbClr val="cc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ahoma"/>
              </a:rPr>
              <a:t>Cu + 4HNO</a:t>
            </a:r>
            <a:r>
              <a:rPr b="1" lang="en-US" sz="2800" spc="-1" strike="noStrike" baseline="-25000">
                <a:solidFill>
                  <a:srgbClr val="ccffff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ccffff"/>
                </a:solidFill>
                <a:latin typeface="Tahoma"/>
              </a:rPr>
              <a:t> = Cu(NO</a:t>
            </a:r>
            <a:r>
              <a:rPr b="1" lang="en-US" sz="2800" spc="-1" strike="noStrike" baseline="-25000">
                <a:solidFill>
                  <a:srgbClr val="ccffff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ccffff"/>
                </a:solidFill>
                <a:latin typeface="Tahoma"/>
              </a:rPr>
              <a:t>)</a:t>
            </a:r>
            <a:r>
              <a:rPr b="1" lang="en-US" sz="2800" spc="-1" strike="noStrike" baseline="-25000">
                <a:solidFill>
                  <a:srgbClr val="ccffff"/>
                </a:solidFill>
                <a:latin typeface="Tahoma"/>
              </a:rPr>
              <a:t>2 </a:t>
            </a:r>
            <a:r>
              <a:rPr b="1" lang="en-US" sz="2800" spc="-1" strike="noStrike">
                <a:solidFill>
                  <a:srgbClr val="ccffff"/>
                </a:solidFill>
                <a:latin typeface="Tahoma"/>
              </a:rPr>
              <a:t>+ 2NO</a:t>
            </a:r>
            <a:r>
              <a:rPr b="1" lang="en-US" sz="2800" spc="-1" strike="noStrike" baseline="-25000">
                <a:solidFill>
                  <a:srgbClr val="ccffff"/>
                </a:solidFill>
                <a:latin typeface="Tahoma"/>
              </a:rPr>
              <a:t>2 </a:t>
            </a:r>
            <a:r>
              <a:rPr b="1" lang="en-US" sz="2800" spc="-1" strike="noStrike">
                <a:solidFill>
                  <a:srgbClr val="ccffff"/>
                </a:solidFill>
                <a:latin typeface="Tahoma"/>
              </a:rPr>
              <a:t>+ 2H</a:t>
            </a:r>
            <a:r>
              <a:rPr b="1" lang="en-US" sz="2800" spc="-1" strike="noStrike" baseline="-25000">
                <a:solidFill>
                  <a:srgbClr val="cc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ccffff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788000" y="1916280"/>
            <a:ext cx="3671640" cy="3313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36003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1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0920" y="380520"/>
            <a:ext cx="77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ahoma"/>
              </a:rPr>
              <a:t>Химические свойства металл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4. Вступают в реакцию с солями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 учетом правил по положению металлов в ряду напряжения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K  Ca  Na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292929"/>
                </a:solidFill>
                <a:latin typeface="Tahoma"/>
              </a:rPr>
              <a:t>Mg  Al  Zn Fe  Ni  Sn  Pb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</a:rPr>
              <a:t>2 </a:t>
            </a:r>
            <a:r>
              <a:rPr b="1" lang="en-US" sz="2400" spc="-1" strike="noStrike">
                <a:solidFill>
                  <a:srgbClr val="292929"/>
                </a:solidFill>
                <a:latin typeface="Tahoma"/>
              </a:rPr>
              <a:t>Cu  Hg  Ag  Au</a:t>
            </a: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1. </a:t>
            </a:r>
            <a:r>
              <a:rPr b="1" lang="ru-RU" sz="2400" spc="-1" strike="noStrike">
                <a:solidFill>
                  <a:srgbClr val="6600cc"/>
                </a:solidFill>
                <a:latin typeface="Tahoma"/>
              </a:rPr>
              <a:t>Металл в ряду должен стоять до металла соли (исключение металлы </a:t>
            </a: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6600cc"/>
                </a:solidFill>
                <a:latin typeface="Tahoma"/>
              </a:rPr>
              <a:t>А</a:t>
            </a: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6600cc"/>
                </a:solidFill>
                <a:latin typeface="Tahoma"/>
              </a:rPr>
              <a:t>и </a:t>
            </a: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 II</a:t>
            </a:r>
            <a:r>
              <a:rPr b="1" lang="ru-RU" sz="2400" spc="-1" strike="noStrike">
                <a:solidFill>
                  <a:srgbClr val="6600cc"/>
                </a:solidFill>
                <a:latin typeface="Tahoma"/>
              </a:rPr>
              <a:t>А групп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ahoma"/>
              </a:rPr>
              <a:t>2. Все соли, участвующие в реакции должны быть растворимы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e  + Cu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= Fe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 Cu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u + Fe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796000" y="4941720"/>
            <a:ext cx="7128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ahoma"/>
              </a:rPr>
              <a:t>Взаимодействие с солям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440" y="1295280"/>
            <a:ext cx="734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Tahoma"/>
              </a:rPr>
              <a:t>Zn + CuCl</a:t>
            </a:r>
            <a:r>
              <a:rPr b="1" lang="en-US" sz="28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6699ff"/>
                </a:solidFill>
                <a:latin typeface="Tahoma"/>
              </a:rPr>
              <a:t> = ZnCl</a:t>
            </a:r>
            <a:r>
              <a:rPr b="1" lang="en-US" sz="28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6699ff"/>
                </a:solidFill>
                <a:latin typeface="Tahoma"/>
              </a:rPr>
              <a:t> + Cu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688000" cy="439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1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ahoma"/>
              </a:rPr>
              <a:t>Вывод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Металлы вступают в реакцию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1. С неметаллами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2. С водой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(с учетом условий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3. С кислотами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(с учетом правил ряда напряжений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4. С солями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(с учетом правил ряда напряжений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732720" y="1700280"/>
            <a:ext cx="1514520" cy="23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Закрепл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9933ff"/>
                </a:solidFill>
                <a:latin typeface="Tahoma"/>
              </a:rPr>
              <a:t>Лабораторная работа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572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ahoma"/>
              </a:rPr>
              <a:t>Химические свойства металлов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Взаимодействие меди с кислородом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Взаимодействие цинка с соляной кислотой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Взаимодействие железа с раствором сульфата меди(</a:t>
            </a: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II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9933ff"/>
                </a:solidFill>
                <a:latin typeface="Tahoma"/>
              </a:rPr>
              <a:t>(используйте карточки – инструкции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6:26:51Z</dcterms:created>
  <dc:creator>Lena</dc:creator>
  <dc:description/>
  <dc:language>en-US</dc:language>
  <cp:lastModifiedBy>Intel</cp:lastModifiedBy>
  <dcterms:modified xsi:type="dcterms:W3CDTF">2009-12-13T08:28:10Z</dcterms:modified>
  <cp:revision>10</cp:revision>
  <dc:subject/>
  <dc:title>Химические свойства металлов</dc:title>
</cp:coreProperties>
</file>