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19.png" ContentType="image/png"/>
  <Override PartName="/ppt/media/image115.png" ContentType="image/png"/>
  <Override PartName="/ppt/media/image114.png" ContentType="image/png"/>
  <Override PartName="/ppt/media/image2.png" ContentType="image/png"/>
  <Override PartName="/ppt/media/image72.jpeg" ContentType="image/jpeg"/>
  <Override PartName="/ppt/media/image6.gif" ContentType="image/gif"/>
  <Override PartName="/ppt/media/image26.jpeg" ContentType="image/jpeg"/>
  <Override PartName="/ppt/media/image5.jpeg" ContentType="image/jpeg"/>
  <Override PartName="/ppt/media/image87.png" ContentType="image/png"/>
  <Override PartName="/ppt/media/image7.gif" ContentType="image/gif"/>
  <Override PartName="/ppt/media/image116.png" ContentType="image/png"/>
  <Override PartName="/ppt/media/image17.jpeg" ContentType="image/jpeg"/>
  <Override PartName="/ppt/media/image27.jpeg" ContentType="image/jpeg"/>
  <Override PartName="/ppt/media/image10.jpeg" ContentType="image/jpeg"/>
  <Override PartName="/ppt/media/image111.png" ContentType="image/png"/>
  <Override PartName="/ppt/media/image86.jpeg" ContentType="image/jpeg"/>
  <Override PartName="/ppt/media/image97.jpeg" ContentType="image/jpeg"/>
  <Override PartName="/ppt/media/image38.jpeg" ContentType="image/jpeg"/>
  <Override PartName="/ppt/media/image91.png" ContentType="image/png"/>
  <Override PartName="/ppt/media/image8.jpeg" ContentType="image/jpeg"/>
  <Override PartName="/ppt/media/image9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121.png" ContentType="image/png"/>
  <Override PartName="/ppt/media/image88.jpeg" ContentType="image/jpeg"/>
  <Override PartName="/ppt/media/image12.jpeg" ContentType="image/jpeg"/>
  <Override PartName="/ppt/media/image131.png" ContentType="image/png"/>
  <Override PartName="/ppt/media/image112.png" ContentType="image/png"/>
  <Override PartName="/ppt/media/image30.jpeg" ContentType="image/jpeg"/>
  <Override PartName="/ppt/media/image51.jpeg" ContentType="image/jpeg"/>
  <Override PartName="/ppt/media/image130.jpeg" ContentType="image/jpeg"/>
  <Override PartName="/ppt/media/image58.jpeg" ContentType="image/jpeg"/>
  <Override PartName="/ppt/media/image4.jpeg" ContentType="image/jpeg"/>
  <Override PartName="/ppt/media/image127.wmf" ContentType="image/x-wmf"/>
  <Override PartName="/ppt/media/image42.jpeg" ContentType="image/jpeg"/>
  <Override PartName="/ppt/media/image59.jpeg" ContentType="image/jpeg"/>
  <Override PartName="/ppt/media/image31.png" ContentType="image/png"/>
  <Override PartName="/ppt/media/image128.png" ContentType="image/png"/>
  <Override PartName="/ppt/media/image3.png" ContentType="image/png"/>
  <Override PartName="/ppt/media/image56.jpeg" ContentType="image/jpeg"/>
  <Override PartName="/ppt/media/image36.png" ContentType="image/png"/>
  <Override PartName="/ppt/media/image9.jpeg" ContentType="image/jpeg"/>
  <Override PartName="/ppt/media/image134.jpeg" ContentType="image/jpeg"/>
  <Override PartName="/ppt/media/image37.jpeg" ContentType="image/jpeg"/>
  <Override PartName="/ppt/media/image117.png" ContentType="image/png"/>
  <Override PartName="/ppt/media/image54.jpeg" ContentType="image/jpeg"/>
  <Override PartName="/ppt/media/image132.jpeg" ContentType="image/jpeg"/>
  <Override PartName="/ppt/media/image133.png" ContentType="image/png"/>
  <Override PartName="/ppt/media/image49.jpeg" ContentType="image/jpeg"/>
  <Override PartName="/ppt/media/image45.jpeg" ContentType="image/jpeg"/>
  <Override PartName="/ppt/media/image48.png" ContentType="image/png"/>
  <Override PartName="/ppt/media/image57.jpeg" ContentType="image/jpeg"/>
  <Override PartName="/ppt/media/image44.jpeg" ContentType="image/jpeg"/>
  <Override PartName="/ppt/media/image43.jpeg" ContentType="image/jpeg"/>
  <Override PartName="/ppt/media/image55.jpeg" ContentType="image/jpeg"/>
  <Override PartName="/ppt/media/image28.png" ContentType="image/png"/>
  <Override PartName="/ppt/media/image129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47.png" ContentType="image/png"/>
  <Override PartName="/ppt/media/image1.jpeg" ContentType="image/jpeg"/>
  <Override PartName="/ppt/media/image21.png" ContentType="image/png"/>
  <Override PartName="/ppt/media/image118.png" ContentType="image/png"/>
  <Override PartName="/ppt/media/image65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41.jpeg" ContentType="image/jpeg"/>
  <Override PartName="/ppt/media/image14.jpeg" ContentType="image/jpeg"/>
  <Override PartName="/ppt/media/image24.jpeg" ContentType="image/jpeg"/>
  <Override PartName="/ppt/media/image50.png" ContentType="image/png"/>
  <Override PartName="/ppt/media/image16.jpeg" ContentType="image/jpeg"/>
  <Override PartName="/ppt/media/image106.png" ContentType="image/png"/>
  <Override PartName="/ppt/media/image18.jpeg" ContentType="image/jpeg"/>
  <Override PartName="/ppt/media/image126.png" ContentType="image/png"/>
  <Override PartName="/ppt/media/image92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media/image82.jpeg" ContentType="image/jpeg"/>
  <Override PartName="/ppt/media/image85.png" ContentType="image/png"/>
  <Override PartName="/ppt/media/image95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84.png" ContentType="image/png"/>
  <Override PartName="/ppt/media/image63.jpeg" ContentType="image/jpeg"/>
  <Override PartName="/ppt/media/image64.jpeg" ContentType="image/jpeg"/>
  <Override PartName="/ppt/media/image66.jpeg" ContentType="image/jpeg"/>
  <Override PartName="/ppt/media/image110.png" ContentType="image/png"/>
  <Override PartName="/ppt/media/image67.jpeg" ContentType="image/jpeg"/>
  <Override PartName="/ppt/media/image120.png" ContentType="image/png"/>
  <Override PartName="/ppt/media/image68.jpeg" ContentType="image/jpeg"/>
  <Override PartName="/ppt/media/image69.jpeg" ContentType="image/jpeg"/>
  <Override PartName="/ppt/media/image89.png" ContentType="image/png"/>
  <Override PartName="/ppt/media/image53.png" ContentType="image/png"/>
  <Override PartName="/ppt/media/image70.jpeg" ContentType="image/jpeg"/>
  <Override PartName="/ppt/media/image71.jpeg" ContentType="image/jpeg"/>
  <Override PartName="/ppt/media/image83.png" ContentType="image/png"/>
  <Override PartName="/ppt/media/image15.png" ContentType="image/png"/>
  <Override PartName="/ppt/media/image29.gif" ContentType="image/gif"/>
  <Override PartName="/ppt/media/image73.jpeg" ContentType="image/jpeg"/>
  <Override PartName="/ppt/media/image25.png" ContentType="image/png"/>
  <Override PartName="/ppt/media/image74.jpeg" ContentType="image/jpeg"/>
  <Override PartName="/ppt/media/image75.gif" ContentType="image/gif"/>
  <Override PartName="/ppt/media/image76.jpeg" ContentType="image/jpeg"/>
  <Override PartName="/ppt/media/image80.jpeg" ContentType="image/jpeg"/>
  <Override PartName="/ppt/media/image100.jpeg" ContentType="image/jpeg"/>
  <Override PartName="/ppt/media/image90.png" ContentType="image/png"/>
  <Override PartName="/ppt/media/image93.jpeg" ContentType="image/jpeg"/>
  <Override PartName="/ppt/media/image46.gif" ContentType="image/gif"/>
  <Override PartName="/ppt/media/image94.jpeg" ContentType="image/jpeg"/>
  <Override PartName="/ppt/media/image52.png" ContentType="image/png"/>
  <Override PartName="/ppt/media/image96.jpeg" ContentType="image/jpeg"/>
  <Override PartName="/ppt/media/image99.jpeg" ContentType="image/jpeg"/>
  <Override PartName="/ppt/media/image102.wmf" ContentType="image/x-wmf"/>
  <Override PartName="/ppt/media/image103.png" ContentType="image/png"/>
  <Override PartName="/ppt/media/image104.png" ContentType="image/png"/>
  <Override PartName="/ppt/media/image105.png" ContentType="image/png"/>
  <Override PartName="/ppt/media/image107.png" ContentType="image/png"/>
  <Override PartName="/ppt/media/image108.png" ContentType="image/png"/>
  <Override PartName="/ppt/media/image35.jpeg" ContentType="image/jpeg"/>
  <Override PartName="/ppt/media/image109.png" ContentType="image/png"/>
  <Override PartName="/ppt/media/image1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dt" idx="5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ftr" idx="5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 type="sldNum" idx="6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6D78-8A99-478D-8E89-EBD366F2B5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321B-479F-459C-A49F-0370266B00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CB2E-4DE5-47F0-9330-1C7CA0BC23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7C42-2F55-4546-9848-03D7D195ED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3880-2858-462E-BFBB-695535DCC5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5838-473A-49CC-8341-C49E0B4C47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498E-8D82-46D7-A0A2-E22787B632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2F88-97B6-4775-BA38-65B8AE6EC2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56A2-5148-4F6F-803A-41C6154D2E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2AB4-285A-4330-A12E-CA596761C3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C329-E42D-46B0-985E-09A6034D20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4BFC-EA49-4718-9C29-92C505F92D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4D94-8BF4-457C-A9A8-C3028592D1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87DF-1799-4B28-AE7F-84575C0196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42E7-EF1F-4A03-9512-5799E139CA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427D-8D37-4ABB-8231-EDFBC7A521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7036-18C4-4979-B045-E3A28FB636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A9DC-BB9F-42C9-AA21-6C612CE711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13AC-C1EF-4467-B16F-27FEE136DA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A21D-CEB8-4433-AACB-DBE2B6F570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2D9C-B9CA-4DE0-9388-8FF8877D9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B934-4666-4545-BF59-2A2F89783B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C548-A5CD-49A4-A845-AECE5CEBF6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0197-332F-418C-A487-271CDD0B6B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83E9-C223-4B0A-81B8-01DA8BD3DD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F8B0-0FD4-49EA-8467-0D43C48CFF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E20E-0851-44E1-936B-86B72BA37C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CFF3-AC35-448E-8A1A-7BC4CA01BB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9411-7518-403B-AD87-2500E3646C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073E-F45B-4C72-836A-D6CBAC7819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7782-B38E-450B-B2B0-B6ABF6DAC1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028A-8B14-4EC0-B56E-5588E0F926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A2E8-5022-41EF-A1C4-9A042F6643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9EB7-930F-4DC3-A246-55C1F79458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5091-920B-4AF9-8E14-0740A70811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8B1E-1DCA-4C9F-A18F-2F9726C8C5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0F29-A86B-4B40-864C-EAC356E70F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50F8-F681-4A81-96B9-4D24872907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A37C-E9F8-4CCB-A483-C62991243E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FF6D-B1AD-46B7-9461-7817B999BF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59B0-D3BF-42E0-8035-A0CE2CE9F2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0FEC-E1E1-4974-8C52-37B57129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711-568B-4982-A2AA-C9FDB0CD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11BEC-37EF-4041-845B-819BDC8F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839C3-5245-42DF-9900-D20F6C38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75AE9-B2CC-4B86-987D-48E53583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45B15-712A-4B7A-8842-78F12C0B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11584-EA63-4969-916C-A3FD6912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9388E-FB9A-4AB8-996B-CE068BF1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18DB6-5960-4630-BE66-3E03D5B0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2BBCA-B0FE-4006-BD76-78A10923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7E4D8-9190-40F0-9DC3-44F57877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5EC98-58E0-4FB0-B863-25AEEC5A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5FCF-8B8A-42EE-8B29-712D1C0C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17F23-B23C-4C48-A5BC-1DD813AD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DBADB-C223-41D3-A8D5-74EF58DA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AE938-AF37-44EA-8EF3-58950B27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34324-D92F-44DD-B692-C0C1AFA5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D4A68-7783-4E0E-A88D-0732BF3E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6F0B0-1A37-4E29-995E-42607E42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31360-A0F0-4A10-88D5-739FB02B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A1EBD-D4D7-4627-84BF-4BB7ABEE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5BA71-C651-4C85-918A-A7C97F18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3A51E-78C7-4216-B40C-14A1639B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190-36BA-43D9-8D73-9D9D8748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78FF7-05F9-45A3-B271-EF424C0A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EE95C-3796-460A-B1E4-88EF4FE0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59EBA-A8BA-4998-8F26-A8C794F1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77A10-F98A-46BE-A9CB-420E4BD1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54FC0-B22A-4416-BFC3-AF7D0E0F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5170C-8A24-432B-97B4-C28E997E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6BED4-998A-4941-AEC9-E65748A4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915BE-0329-4713-8F4C-AD633BE4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E9B0B-749B-431A-BF51-0CF566FF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11914-5B71-42C2-A7C6-B6AC6696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4661-F456-4FD8-9741-EAAFCF6C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41E46-0189-4CE6-B089-8792509E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79535-B5C2-4865-BB04-57739C53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81876-481C-4BCA-83B4-0C6B6E23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16D77-C99F-43C2-92DB-AC8290B2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17DB0-CD33-43C1-9E11-14FD7FD0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DA666-3AB9-4B3C-8A5D-788E9F60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CAD33-3793-40EC-8FC8-D4EDE987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D7C5D-811A-4999-A4AF-0E8FE33E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D0A8A-B5E4-4AE0-AABE-6A13E8EF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E3631-A8EB-4BA0-9D12-B28D7CFE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6303-DB4B-4395-B7A9-3CC62FF4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8096D-6577-454A-9C1F-A4692BC5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0E3EB-D928-4E32-8C53-E53E4C0D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D3CB6-BEE4-46E6-92D7-835841ED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0FA6C-E71C-4FE7-9643-34D3F301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7A17A-1775-4EC6-B464-079C8F02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88C79-B463-4E81-B7CF-D943C117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61F0A-421A-47CB-9972-B29131C2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F37EC-6DA2-4674-92A2-86E66A5B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888B0-DC2F-40DD-B8BD-EE65482D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C769EE-6342-4F40-90CA-5C710B97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0AAA-52FF-4502-8DC7-4449CA16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F660E-FD55-4501-B4C8-AAB9EF82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0DAC6-2524-49E3-9F0A-F2919082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7987D-94EE-48A0-AC50-CB7B2DE2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EC90D-4D77-48FA-BA02-05772A99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E9035-868B-4CA6-8F6F-FDBDF116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B3BFC1-D551-4069-A5AC-95AA8218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D5D0BA-056D-4637-8256-02B4CB48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EABE3-41B7-4993-8671-41E2CC01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6AFF20-876E-4D22-9126-413BFF1A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9C7FE2-61E2-4F94-99B8-5CFBD17A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50D7-D6E2-4414-87EE-9CB55C18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632FA3-5C7C-44B3-9F8C-8FF974E5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7BD61-12BC-4DF8-A30D-C6CD7DE8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C8DA92-EF7B-488D-9CE5-84561A46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D597DA-1946-4A58-99EB-2019C2CB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E683F7-8ED7-4B3C-8AFB-0C703FD6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279CFE-F444-4FA9-B7E0-42978C2F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3751D-14C6-4238-832A-E0AFF3F9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66216E-C81F-42FC-BA8D-75190C56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4CBFB-29B0-4D00-92CE-79734D6D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2483F8-A287-467A-B64C-063E0433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5622-9BFD-468B-8D00-8DE5BC45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50D2E4-651E-44FB-BE78-78D40ADC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11282E-3F2B-44AD-9A01-0DA7829E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EA454A-EDCB-478C-9BF3-4C63A845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20456F-582A-4742-9902-FB3664F2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AFCDD5-3B13-4014-B094-E54AF659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3B4850-D2B4-4D8C-9BCB-1250127A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634D8C-896B-4F37-AAE5-0C9E9E37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A33C7E-8A12-43BF-98F4-B7A096D8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DAF573-258B-4B80-9402-B932B6F6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AF45B0-EDFC-4C82-B09F-A77F016C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AF69-4C8A-4E84-AF78-1879F8A4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B059C2-2836-4D71-A155-22FEA638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7C2F0B-1106-4FC3-97E3-2779F218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119420-37A9-4EC3-B87A-92360CCB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6636F4-264A-4511-B26B-3E1659C2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F64B93-24AE-4F00-AD43-A521AF3A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F1D703-E3EE-4AFF-825C-B56A9BB8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4AF1CF-328D-409B-A4C1-F54C0754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3AEBFF-D917-497F-BC04-8C42CB75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D6C68F-1B4B-4941-AD02-67E68EB5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1950F6-F490-47F5-923E-91F2C073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4DB3-4164-4639-A583-0AA5C8EF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220BE-A683-4470-ADD9-122EF078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409226-00DF-486F-ABB6-861EB967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D619AF-01CE-493C-AC65-DA78CF80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B84C6C-CF54-4E03-A3C6-0997CC51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FA9949-DF7C-4E32-8436-9D4D3796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835494-A114-4667-B8F0-E4616B1D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627503-074C-4A5B-83C8-5F0CBAFC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722CCE-8330-40D4-8181-AF9D2FF1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DC2B29-BB82-4076-8945-55198B2F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1B3BDC-CEE0-4259-A1A5-508C91A5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335C-AE4F-4704-8614-BDD1CC13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2E95-7AAF-4F09-8601-CB7EBB1A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633781-7DD3-4D18-81E9-0426CA9A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0C92F3-DA4E-491E-AD7C-B2F1A9BF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AD9B2-1A03-4575-9E7B-FCD4F055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BA1DE1-2ACE-4316-898E-F2C33271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724C10-9AF9-4FF5-9840-F079EEE8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C17587-C76E-4C41-8BF0-EA3C689C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FC9D04-A548-40DF-B5C9-4EA0223A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806955-657A-401A-9A54-36AC3980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8D0B3C-3F54-4D7E-B5B7-F94BD12A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0EDFFB-C82C-48B2-BA13-4687B1BB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FA38-3772-481E-B57E-0ADDE51F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7107B8-904A-426B-914E-800CF376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AA3BEC-A13B-4749-A0A8-DE748760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559635-D9D7-4F40-B9F6-D1D399D1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AB7CD5-4683-4435-B6AB-13A5B2EB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6FB33C-987C-4990-991C-603A69D1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2F6487-B347-4B5C-9670-B87B0C9F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6524D1-66B7-43F0-9C7A-CDEB7378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83834A-F7F1-4471-ABF9-ADC36D83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1D573B-3BB3-4EA5-AE22-60D56909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928158-BF25-4DF6-94C0-848A78BA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7260-D425-405C-BF45-DF3BDB9B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61AD1A-C631-4F60-9627-918C4AE9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DF1DC8-6305-4347-B0A1-360BC17B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AA51AA-6AAD-4E3D-8552-5D6906F1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05DAAF-F36F-4D43-B4D1-03240883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3CA94E-7E1F-42D4-9348-9E701AE0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A06E55-852E-445A-9B47-40A6F233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BC18BA-EC85-44ED-ADB6-E2F92BC0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1C3099-B379-4FBF-86ED-B732268B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0B5A60-F234-4809-8CBC-1D7874AC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26A6-9ADC-47DE-9E61-D784A62D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96F5-BC7C-41D4-A2D8-07A1EEA1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C8234-05A6-4593-8004-54B4052B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3FBF3-79F0-41F1-BD24-11DF9C27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D6FCE-D5F2-498E-B4FE-903DF3F6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49F68-01EA-4BE4-9AE2-8C9B7CCE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23F53-A49E-40E0-82DD-3B028BF7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678-3F72-4A90-8868-DDC6D063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6EEB6-F09C-4770-93E5-AB90B1B9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89872-3E8E-4D1E-88C0-F4A34C02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B6701-DFC4-489C-B6F4-61D4A5DE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41284-834D-4E3D-B329-7FE9C60A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65506-232E-4B45-B941-36C8B055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AA2CE-1D1B-4F1C-8EF9-6030435F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AA141-C4FD-4385-AAC9-34265864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EB017-D5CD-4E5B-AD4A-1210FFC2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100C9-8FBA-4D02-B115-24EB3898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0A399-4A9A-429F-BC48-380D67C3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0CB-9170-4420-8F5F-B3A3666A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1134F-A2EB-4737-917C-806BD316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A7092-85B3-48EC-85C4-9CF4FEB7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54403-A16E-4007-848A-81A98D33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B0502-3C3E-4B8B-8651-743BDE9B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64729-7AD7-444B-9BD0-19E82D4C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EBE8E-AB1E-4BF2-A3AD-C3CDCAF5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7F97E-9C35-407B-B8FB-AE3461B0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03F25-D9FC-4400-AC58-9A56BFA0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5DAFD-E438-4F6A-946D-D59321B9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98324-EDC2-480F-BA4C-92FCE861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A98-5DD2-4CD5-B6EE-E69E6807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BB39A-913F-4644-9D0A-74DD1C32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AAAA4-6B4F-4B6D-A4E8-26336E05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C5CC4-E5CB-40DA-BF8B-305B05A8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0D2BF-3871-426C-925A-6788DA1D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6D324-7243-41EC-9666-79F2F9BA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DAF05-F3E8-4237-975D-747291BF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39FE2-7053-4775-B7AF-FC4C688E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F6EB0-EEFD-4FC0-B8EE-79CCBE60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0D681-6FF7-416C-BCB3-4C9E49C4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89054-015A-4209-8F3D-A411C7F0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280-E78E-447B-A8BF-CA743043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C7484-829A-4E44-8502-C387B314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D4009-0D00-44F8-B7EA-7DE92041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338D1-5FD2-417E-9722-00EAEB73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4255F-A03F-4C56-9CBE-B14912D8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01D36-2F15-46BA-B418-8454FBEC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22E0E-6D54-45F2-935D-24D2258D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207E1-4EF1-477E-B085-4A189830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1FA5C-020E-4D2B-8439-9B8EF56D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1F7ED-5AF9-4E59-8593-A2F9E0FC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4D474-C86D-490D-A4B7-8B6750AA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82A5-800B-4271-9E52-E2687B3C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C7AB6-D5F2-4512-BBBD-8DA5CFE4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990CB-787A-41B9-88C9-D13FA8F5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1E952-4F6F-4197-A9CA-4D88C201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CD9BC-22AD-4B44-AE8A-05222676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D7D60-9D77-44D1-9212-E42B6CD7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21849-DD7F-4402-8602-BC40EDB3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E808C-D1B4-436E-B8FA-C140234B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DC369-BEBA-44F9-81E2-FAEBE03D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F370F-16D5-406F-9A54-79B2D97D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F3817-7B93-4F33-85C7-B3B0EED4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D5E9-ED22-4C60-9AEA-9DB32E37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BCC86-2A97-4CF6-B98B-F7FECCA2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AEBC3-D196-48CD-AD0D-33A597C5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634B3-B922-4E07-A741-3405E09C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9DDAB-706E-46EF-A20B-0713ACC5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C6796-B83A-4A0C-AF7B-3BCA91C7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664A2-EC32-4719-AE9B-AA96E3E9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6EBAB-A45F-42E4-B46E-173E37F2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4E4EF-3ADD-4AF7-A17A-392CBAB5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EE8E0-B876-4DD0-8127-C0A9529A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67865-C5B1-4F8D-949D-48F690BF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B33F-5FD5-4F2D-8177-751C660B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8EE55-F92C-4030-8BC7-D79EC43E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4CBEB-A095-448D-8D85-186F8288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82D33-8E8A-4D5D-9B60-73114AF9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5A92B-02CF-40FF-B894-60CBA139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1375C-3081-42E8-8B33-872AF983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33703-8314-441A-9DF5-CDD2B5A7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3C3F3-D2EF-46BB-A2E0-793BD1FB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B5812-4C42-4149-BAB0-53593457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F639B-9468-4007-95EA-B0B8B79D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87F4C-BD2C-4937-BEEE-4BCFB14E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B505-81A4-4F72-B8E4-C33D2195403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AEB4-F132-4B4D-BA99-CA19DD6403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E70F-4EA5-44AA-8D7D-855ABE7930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2CA7-42C4-49A4-A21D-7EB2C1D9D1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DC1F-9E4C-4A32-8E3D-679E18BDB2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7132-CEFF-4445-87D3-29A753E952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6A8A-DE16-4E40-8D4D-2D97867B3B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4AB5-9F81-4D0F-91EF-04674BFFC5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D54A-9443-4B64-B8EE-140B9ACAA2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D3AD-873B-413C-9B27-7A2BAC89A5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51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55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8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A601-8969-4912-8E4C-887B936C09F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C28E-A557-48F3-BDAB-ECCCB76A38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4701-A7F6-481E-8880-84AEBC53FBD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Прямоугольник 6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124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3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Прямая соединительная линия 12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270F-2E0A-43FF-9A00-F29668A9C3A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Прямоугольник 6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69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3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E1D0-9614-475E-83D7-C4BAA286DE1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6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9E4B-A042-4D0A-838F-295A5D4B2752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Прямоугольник 6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56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3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3FE4-CB38-400E-8304-C59BEE974D3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1D97-DAA0-4BC2-B578-A379E15C4A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8008-D883-4D80-8AA5-58EE271949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5.png"/><Relationship Id="rId3" Type="http://schemas.openxmlformats.org/officeDocument/2006/relationships/hyperlink" Target="http://lenta.ru/photo/gagarinfoto/0-709_Jpg.htm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lenta.ru/photo/gagarinfoto/1_998c_Jpg.htm" TargetMode="External"/><Relationship Id="rId6" Type="http://schemas.openxmlformats.org/officeDocument/2006/relationships/image" Target="../media/image27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hyperlink" Target="http://nova.rambler.ru/pic_cache?url=http://crossroads.com.ua/articles/2004/1/02.php&amp;bi=http://crossroads.com.ua/articles/2004/1/img/gag.jpg&amp;i=http://media2.picsearch.com/is?8D26DvcB5igDmYA1eKiGxpBhEmcg-KPV6zt05q9sJcg&amp;w=128&amp;h=105&amp;f=20&amp;q=&#1070;.&#1040;.&#1043;&#1072;&#1075;&#1072;&#1088;&#1080;&#1085;&amp;p=3" TargetMode="External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image" Target="../media/image32.jpeg"/><Relationship Id="rId8" Type="http://schemas.openxmlformats.org/officeDocument/2006/relationships/hyperlink" Target="file:///poehali.mp3" TargetMode="External"/><Relationship Id="rId9" Type="http://schemas.openxmlformats.org/officeDocument/2006/relationships/image" Target="../media/image33.jpe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57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4.jpeg"/><Relationship Id="rId3" Type="http://schemas.openxmlformats.org/officeDocument/2006/relationships/hyperlink" Target="http://lenta.ru/photo/gagarinfoto/1_13519_Jpg.htm" TargetMode="External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57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6.gif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image" Target="../media/image50.png"/><Relationship Id="rId7" Type="http://schemas.openxmlformats.org/officeDocument/2006/relationships/image" Target="../media/image51.jpeg"/><Relationship Id="rId8" Type="http://schemas.openxmlformats.org/officeDocument/2006/relationships/image" Target="../media/image52.png"/><Relationship Id="rId9" Type="http://schemas.openxmlformats.org/officeDocument/2006/relationships/hyperlink" Target="http://space-russia.narod.ru/doc/polet.html" TargetMode="External"/><Relationship Id="rId10" Type="http://schemas.openxmlformats.org/officeDocument/2006/relationships/image" Target="../media/image53.png"/><Relationship Id="rId11" Type="http://schemas.openxmlformats.org/officeDocument/2006/relationships/slide" Target="slide3.xml"/><Relationship Id="rId12" Type="http://schemas.openxmlformats.org/officeDocument/2006/relationships/slideLayout" Target="../slideLayouts/slideLayout157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" Target="slide37.xml"/><Relationship Id="rId5" Type="http://schemas.openxmlformats.org/officeDocument/2006/relationships/slideLayout" Target="../slideLayouts/slideLayout157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hyperlink" Target="http://nova.rambler.ru/pic_cache?url=http://admin.smolensk.ru/history/gagarin/Prolog/pages/Saratov.htm&amp;bi=http://admin.smolensk.ru/history/gagarin/Prolog/foto/sar_g1.jpg&amp;i=http://media4.picsearch.com/is?vne1cQcI8XNIGOlLaqvxSNLcMKVa4baDgkS4N6KlOrs&amp;w=96&amp;h=128&amp;f=17&amp;q=&#1070;.&#1040;.&#1043;&#1072;&#1075;&#1072;&#1088;&#1080;&#1085;&amp;p=21" TargetMode="External"/><Relationship Id="rId4" Type="http://schemas.openxmlformats.org/officeDocument/2006/relationships/image" Target="../media/image61.jpeg"/><Relationship Id="rId5" Type="http://schemas.openxmlformats.org/officeDocument/2006/relationships/hyperlink" Target="http://lenta.ru/photo/gagarinfoto/1_5839_Jpg.htm" TargetMode="External"/><Relationship Id="rId6" Type="http://schemas.openxmlformats.org/officeDocument/2006/relationships/image" Target="../media/image62.jpeg"/><Relationship Id="rId7" Type="http://schemas.openxmlformats.org/officeDocument/2006/relationships/slide" Target="slide38.xml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lenta.ru/photo/gagarinfoto/0-9703_Jpg.htm" TargetMode="External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hyperlink" Target="http://lenta.ru/photo/gagarinfoto/0_5474_Jpg.htm" TargetMode="External"/><Relationship Id="rId6" Type="http://schemas.openxmlformats.org/officeDocument/2006/relationships/image" Target="../media/image71.jpeg"/><Relationship Id="rId7" Type="http://schemas.openxmlformats.org/officeDocument/2006/relationships/image" Target="../media/image72.jpeg"/><Relationship Id="rId8" Type="http://schemas.openxmlformats.org/officeDocument/2006/relationships/slide" Target=""/><Relationship Id="rId9" Type="http://schemas.openxmlformats.org/officeDocument/2006/relationships/slideLayout" Target="../slideLayouts/slideLayout157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4.jpeg"/><Relationship Id="rId3" Type="http://schemas.openxmlformats.org/officeDocument/2006/relationships/image" Target="../media/image75.gif"/><Relationship Id="rId4" Type="http://schemas.openxmlformats.org/officeDocument/2006/relationships/hyperlink" Target="http://nova.rambler.ru/pic_cache?url=http%3A//www.barnaul-altai.ru/news/calendar/%3Fid%3D1662&amp;bi=http%3A//www.barnaul-altai.ru/rest/news/photo/kosmonavtprazdnik_4m.jpg&amp;i=http%3A//media4.picsearch.com/is%3FeZDh6S80C_pktdKZYHY0DFdDar_uquJBNVXSqvr4c04&amp;w=91&amp;h=128&amp;f=15&amp;q=&#1070;.&#1040;.&#1043;&#1072;&#1075;&#1072;&#1088;&#1080;&#1085;&amp;p=13" TargetMode="External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hyperlink" Target="http://lenta.ru/photo/gagarinfoto/1_13873_Jpg.htm" TargetMode="External"/><Relationship Id="rId8" Type="http://schemas.openxmlformats.org/officeDocument/2006/relationships/image" Target="../media/image78.jpeg"/><Relationship Id="rId9" Type="http://schemas.openxmlformats.org/officeDocument/2006/relationships/image" Target="../media/image79.jpeg"/><Relationship Id="rId10" Type="http://schemas.openxmlformats.org/officeDocument/2006/relationships/image" Target="../media/image80.jpeg"/><Relationship Id="rId11" Type="http://schemas.openxmlformats.org/officeDocument/2006/relationships/slideLayout" Target="../slideLayouts/slideLayout157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" Target="slide37.xml"/><Relationship Id="rId5" Type="http://schemas.openxmlformats.org/officeDocument/2006/relationships/image" Target="../media/image83.png"/><Relationship Id="rId6" Type="http://schemas.openxmlformats.org/officeDocument/2006/relationships/slide" Target="slide38.xml"/><Relationship Id="rId7" Type="http://schemas.openxmlformats.org/officeDocument/2006/relationships/image" Target="../media/image84.png"/><Relationship Id="rId8" Type="http://schemas.openxmlformats.org/officeDocument/2006/relationships/image" Target="../media/image85.png"/><Relationship Id="rId9" Type="http://schemas.openxmlformats.org/officeDocument/2006/relationships/image" Target="../media/image86.jpeg"/><Relationship Id="rId10" Type="http://schemas.openxmlformats.org/officeDocument/2006/relationships/image" Target="../media/image87.png"/><Relationship Id="rId11" Type="http://schemas.openxmlformats.org/officeDocument/2006/relationships/image" Target="../media/image88.jpeg"/><Relationship Id="rId12" Type="http://schemas.openxmlformats.org/officeDocument/2006/relationships/image" Target="../media/image89.png"/><Relationship Id="rId13" Type="http://schemas.openxmlformats.org/officeDocument/2006/relationships/image" Target="../media/image90.png"/><Relationship Id="rId14" Type="http://schemas.openxmlformats.org/officeDocument/2006/relationships/image" Target="../media/image91.png"/><Relationship Id="rId15" Type="http://schemas.openxmlformats.org/officeDocument/2006/relationships/slideLayout" Target="../slideLayouts/slideLayout157.xml"/><Relationship Id="rId1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image" Target="../media/image94.jpeg"/><Relationship Id="rId5" Type="http://schemas.openxmlformats.org/officeDocument/2006/relationships/image" Target="../media/image95.jpeg"/><Relationship Id="rId6" Type="http://schemas.openxmlformats.org/officeDocument/2006/relationships/image" Target="../media/image96.jpeg"/><Relationship Id="rId7" Type="http://schemas.openxmlformats.org/officeDocument/2006/relationships/image" Target="../media/image97.jpeg"/><Relationship Id="rId8" Type="http://schemas.openxmlformats.org/officeDocument/2006/relationships/image" Target="../media/image98.jpeg"/><Relationship Id="rId9" Type="http://schemas.openxmlformats.org/officeDocument/2006/relationships/image" Target="../media/image99.jpeg"/><Relationship Id="rId10" Type="http://schemas.openxmlformats.org/officeDocument/2006/relationships/slideLayout" Target="../slideLayouts/slideLayout157.xml"/><Relationship Id="rId11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25.xml"/><Relationship Id="rId5" Type="http://schemas.openxmlformats.org/officeDocument/2006/relationships/slide" Target="slide18.xml"/><Relationship Id="rId6" Type="http://schemas.openxmlformats.org/officeDocument/2006/relationships/slide" Target="slide4.xml"/><Relationship Id="rId7" Type="http://schemas.openxmlformats.org/officeDocument/2006/relationships/slide" Target="slide8.xml"/><Relationship Id="rId8" Type="http://schemas.openxmlformats.org/officeDocument/2006/relationships/slide" Target="slide18.xml"/><Relationship Id="rId9" Type="http://schemas.openxmlformats.org/officeDocument/2006/relationships/slide" Target="slide25.xml"/><Relationship Id="rId10" Type="http://schemas.openxmlformats.org/officeDocument/2006/relationships/slideLayout" Target="../slideLayouts/slideLayout157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04.png"/><Relationship Id="rId3" Type="http://schemas.openxmlformats.org/officeDocument/2006/relationships/image" Target="../media/image104.png"/><Relationship Id="rId4" Type="http://schemas.openxmlformats.org/officeDocument/2006/relationships/image" Target="../media/image105.png"/><Relationship Id="rId5" Type="http://schemas.openxmlformats.org/officeDocument/2006/relationships/image" Target="../media/image106.png"/><Relationship Id="rId6" Type="http://schemas.openxmlformats.org/officeDocument/2006/relationships/image" Target="../media/image106.png"/><Relationship Id="rId7" Type="http://schemas.openxmlformats.org/officeDocument/2006/relationships/image" Target="../media/image107.png"/><Relationship Id="rId8" Type="http://schemas.openxmlformats.org/officeDocument/2006/relationships/image" Target="../media/image108.png"/><Relationship Id="rId9" Type="http://schemas.openxmlformats.org/officeDocument/2006/relationships/image" Target="../media/image108.png"/><Relationship Id="rId10" Type="http://schemas.openxmlformats.org/officeDocument/2006/relationships/image" Target="../media/image109.png"/><Relationship Id="rId11" Type="http://schemas.openxmlformats.org/officeDocument/2006/relationships/image" Target="../media/image110.png"/><Relationship Id="rId12" Type="http://schemas.openxmlformats.org/officeDocument/2006/relationships/image" Target="../media/image110.png"/><Relationship Id="rId13" Type="http://schemas.openxmlformats.org/officeDocument/2006/relationships/image" Target="../media/image111.png"/><Relationship Id="rId14" Type="http://schemas.openxmlformats.org/officeDocument/2006/relationships/image" Target="../media/image112.png"/><Relationship Id="rId15" Type="http://schemas.openxmlformats.org/officeDocument/2006/relationships/image" Target="../media/image112.png"/><Relationship Id="rId16" Type="http://schemas.openxmlformats.org/officeDocument/2006/relationships/image" Target="../media/image113.png"/><Relationship Id="rId17" Type="http://schemas.openxmlformats.org/officeDocument/2006/relationships/image" Target="../media/image114.png"/><Relationship Id="rId18" Type="http://schemas.openxmlformats.org/officeDocument/2006/relationships/image" Target="../media/image114.png"/><Relationship Id="rId19" Type="http://schemas.openxmlformats.org/officeDocument/2006/relationships/image" Target="../media/image115.png"/><Relationship Id="rId20" Type="http://schemas.openxmlformats.org/officeDocument/2006/relationships/image" Target="../media/image116.png"/><Relationship Id="rId21" Type="http://schemas.openxmlformats.org/officeDocument/2006/relationships/image" Target="../media/image116.png"/><Relationship Id="rId22" Type="http://schemas.openxmlformats.org/officeDocument/2006/relationships/image" Target="../media/image117.png"/><Relationship Id="rId23" Type="http://schemas.openxmlformats.org/officeDocument/2006/relationships/image" Target="../media/image118.png"/><Relationship Id="rId24" Type="http://schemas.openxmlformats.org/officeDocument/2006/relationships/image" Target="../media/image118.png"/><Relationship Id="rId25" Type="http://schemas.openxmlformats.org/officeDocument/2006/relationships/image" Target="../media/image119.png"/><Relationship Id="rId26" Type="http://schemas.openxmlformats.org/officeDocument/2006/relationships/image" Target="../media/image120.png"/><Relationship Id="rId27" Type="http://schemas.openxmlformats.org/officeDocument/2006/relationships/image" Target="../media/image120.png"/><Relationship Id="rId28" Type="http://schemas.openxmlformats.org/officeDocument/2006/relationships/image" Target="../media/image121.png"/><Relationship Id="rId29" Type="http://schemas.openxmlformats.org/officeDocument/2006/relationships/image" Target="../media/image122.png"/><Relationship Id="rId30" Type="http://schemas.openxmlformats.org/officeDocument/2006/relationships/image" Target="../media/image122.png"/><Relationship Id="rId31" Type="http://schemas.openxmlformats.org/officeDocument/2006/relationships/image" Target="../media/image123.png"/><Relationship Id="rId32" Type="http://schemas.openxmlformats.org/officeDocument/2006/relationships/image" Target="../media/image124.png"/><Relationship Id="rId33" Type="http://schemas.openxmlformats.org/officeDocument/2006/relationships/image" Target="../media/image124.png"/><Relationship Id="rId34" Type="http://schemas.openxmlformats.org/officeDocument/2006/relationships/image" Target="../media/image125.png"/><Relationship Id="rId35" Type="http://schemas.openxmlformats.org/officeDocument/2006/relationships/image" Target="../media/image126.png"/><Relationship Id="rId36" Type="http://schemas.openxmlformats.org/officeDocument/2006/relationships/image" Target="../media/image126.png"/><Relationship Id="rId37" Type="http://schemas.openxmlformats.org/officeDocument/2006/relationships/image" Target="../media/image127.wmf"/><Relationship Id="rId38" Type="http://schemas.openxmlformats.org/officeDocument/2006/relationships/image" Target="../media/image128.png"/><Relationship Id="rId39" Type="http://schemas.openxmlformats.org/officeDocument/2006/relationships/slideLayout" Target="../slideLayouts/slideLayout157.xml"/><Relationship Id="rId4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image" Target="../media/image129.jpeg"/><Relationship Id="rId3" Type="http://schemas.openxmlformats.org/officeDocument/2006/relationships/image" Target="../media/image129.jpeg"/><Relationship Id="rId4" Type="http://schemas.openxmlformats.org/officeDocument/2006/relationships/image" Target="../media/image129.jpeg"/><Relationship Id="rId5" Type="http://schemas.openxmlformats.org/officeDocument/2006/relationships/image" Target="../media/image129.jpeg"/><Relationship Id="rId6" Type="http://schemas.openxmlformats.org/officeDocument/2006/relationships/image" Target="../media/image129.jpeg"/><Relationship Id="rId7" Type="http://schemas.openxmlformats.org/officeDocument/2006/relationships/image" Target="../media/image129.jpeg"/><Relationship Id="rId8" Type="http://schemas.openxmlformats.org/officeDocument/2006/relationships/image" Target="../media/image129.jpeg"/><Relationship Id="rId9" Type="http://schemas.openxmlformats.org/officeDocument/2006/relationships/image" Target="../media/image129.jpeg"/><Relationship Id="rId10" Type="http://schemas.openxmlformats.org/officeDocument/2006/relationships/image" Target="../media/image129.jpeg"/><Relationship Id="rId11" Type="http://schemas.openxmlformats.org/officeDocument/2006/relationships/image" Target="../media/image129.jpeg"/><Relationship Id="rId12" Type="http://schemas.openxmlformats.org/officeDocument/2006/relationships/image" Target="../media/image129.jpeg"/><Relationship Id="rId13" Type="http://schemas.openxmlformats.org/officeDocument/2006/relationships/image" Target="../media/image129.jpeg"/><Relationship Id="rId14" Type="http://schemas.openxmlformats.org/officeDocument/2006/relationships/image" Target="../media/image129.jpeg"/><Relationship Id="rId15" Type="http://schemas.openxmlformats.org/officeDocument/2006/relationships/image" Target="../media/image129.jpeg"/><Relationship Id="rId16" Type="http://schemas.openxmlformats.org/officeDocument/2006/relationships/image" Target="../media/image129.jpeg"/><Relationship Id="rId17" Type="http://schemas.openxmlformats.org/officeDocument/2006/relationships/image" Target="../media/image129.jpeg"/><Relationship Id="rId18" Type="http://schemas.openxmlformats.org/officeDocument/2006/relationships/image" Target="../media/image129.jpeg"/><Relationship Id="rId19" Type="http://schemas.openxmlformats.org/officeDocument/2006/relationships/image" Target="../media/image129.jpeg"/><Relationship Id="rId20" Type="http://schemas.openxmlformats.org/officeDocument/2006/relationships/slideLayout" Target="../slideLayouts/slideLayout157.xml"/><Relationship Id="rId2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image" Target="../media/image129.jpeg"/><Relationship Id="rId3" Type="http://schemas.openxmlformats.org/officeDocument/2006/relationships/image" Target="../media/image129.jpeg"/><Relationship Id="rId4" Type="http://schemas.openxmlformats.org/officeDocument/2006/relationships/image" Target="../media/image129.jpeg"/><Relationship Id="rId5" Type="http://schemas.openxmlformats.org/officeDocument/2006/relationships/image" Target="../media/image129.jpeg"/><Relationship Id="rId6" Type="http://schemas.openxmlformats.org/officeDocument/2006/relationships/image" Target="../media/image129.jpeg"/><Relationship Id="rId7" Type="http://schemas.openxmlformats.org/officeDocument/2006/relationships/image" Target="../media/image129.jpeg"/><Relationship Id="rId8" Type="http://schemas.openxmlformats.org/officeDocument/2006/relationships/image" Target="../media/image129.jpeg"/><Relationship Id="rId9" Type="http://schemas.openxmlformats.org/officeDocument/2006/relationships/image" Target="../media/image129.jpeg"/><Relationship Id="rId10" Type="http://schemas.openxmlformats.org/officeDocument/2006/relationships/image" Target="../media/image129.jpeg"/><Relationship Id="rId11" Type="http://schemas.openxmlformats.org/officeDocument/2006/relationships/image" Target="../media/image129.jpeg"/><Relationship Id="rId12" Type="http://schemas.openxmlformats.org/officeDocument/2006/relationships/image" Target="../media/image129.jpeg"/><Relationship Id="rId13" Type="http://schemas.openxmlformats.org/officeDocument/2006/relationships/slideLayout" Target="../slideLayouts/slideLayout157.xml"/><Relationship Id="rId1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image" Target="../media/image129.jpeg"/><Relationship Id="rId3" Type="http://schemas.openxmlformats.org/officeDocument/2006/relationships/image" Target="../media/image129.jpeg"/><Relationship Id="rId4" Type="http://schemas.openxmlformats.org/officeDocument/2006/relationships/image" Target="../media/image129.jpeg"/><Relationship Id="rId5" Type="http://schemas.openxmlformats.org/officeDocument/2006/relationships/image" Target="../media/image129.jpeg"/><Relationship Id="rId6" Type="http://schemas.openxmlformats.org/officeDocument/2006/relationships/image" Target="../media/image129.jpeg"/><Relationship Id="rId7" Type="http://schemas.openxmlformats.org/officeDocument/2006/relationships/slideLayout" Target="../slideLayouts/slideLayout157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0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2.jpeg"/><Relationship Id="rId3" Type="http://schemas.openxmlformats.org/officeDocument/2006/relationships/image" Target="../media/image131.pn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2.jpeg"/><Relationship Id="rId3" Type="http://schemas.openxmlformats.org/officeDocument/2006/relationships/image" Target="../media/image133.pn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6.jpeg"/><Relationship Id="rId3" Type="http://schemas.openxmlformats.org/officeDocument/2006/relationships/image" Target="../media/image133.pn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4.jpeg"/><Relationship Id="rId3" Type="http://schemas.openxmlformats.org/officeDocument/2006/relationships/image" Target="../media/image133.pn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ova.rambler.ru/pic_cache?url=http://yoki.ru/social/society/12-04-2007/40763-kosmos-0&amp;bi=http://yoki.ru/img/idb/_41208943_korolyov.jpg&amp;i=http://media2.picsearch.com/is?jznVPu3V9lzsvjOonbCqvgE0Kv5IvTfmRahxzmQCkoU&amp;w=128&amp;h=96&amp;f=32&amp;q=&#1070;.&#1040;.&#1043;&#1072;&#1075;&#1072;&#1088;&#1080;&#1085;&amp;p=22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nova.rambler.ru/pic_cache?url=http://shkolazhizni.ru/archive/0/n-5072/&amp;bi=http://shkolazhizni.ru/img/content/i11/11096.jpg&amp;i=http://media5.picsearch.com/is?UjP2TKr9gAOHk5xmaswPbR5OpnmOJ3rBFBODKUHyl0I&amp;w=128&amp;h=96&amp;f=13&amp;q=&#1070;.&#1040;.&#1043;&#1072;&#1075;&#1072;&#1088;&#1080;&#1085;&amp;p=5" TargetMode="External"/><Relationship Id="rId4" Type="http://schemas.openxmlformats.org/officeDocument/2006/relationships/image" Target="../media/image13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157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hyperlink" Target="http://lenta.ru/photo/gagarinfoto/0-704_Jpg.htm" TargetMode="External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57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png"/><Relationship Id="rId3" Type="http://schemas.openxmlformats.org/officeDocument/2006/relationships/hyperlink" Target="file:///vistupl6.mp3" TargetMode="External"/><Relationship Id="rId4" Type="http://schemas.openxmlformats.org/officeDocument/2006/relationships/hyperlink" Target="http://nova.rambler.ru/pic_cache?url=http://www.coldwar.ru/arms_race/space.php&amp;bi=http://www.coldwar.ru/arms_race/177.jpg&amp;i=http://media3.picsearch.com/is?m8292Vfhik5VW4X1yoyaxpRnw_rawodIHwuqPp0v3Tc&amp;w=128&amp;h=114&amp;f=18&amp;q=&#1070;.&#1040;.&#1043;&#1072;&#1075;&#1072;&#1088;&#1080;&#1085;&amp;p=4" TargetMode="External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hyperlink" Target="http://nova.rambler.ru/pic_cache?url=http://mac.kp.ru/daily/23682/51443/print/&amp;bi=http://mac.kp.ru/upimg/logo/63231.jpg&amp;i=http://media5.picsearch.com/is?MkXhhtvIXHrwaz0Ge21us8UGAk7Jb1APR88qC87ScgQ&amp;w=85&amp;h=128&amp;f=16&amp;q=&#1070;.&#1040;.&#1043;&#1072;&#1075;&#1072;&#1088;&#1080;&#1085;&amp;p=23" TargetMode="External"/><Relationship Id="rId8" Type="http://schemas.openxmlformats.org/officeDocument/2006/relationships/image" Target="../media/image24.jpe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57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WordArt 4"/>
          <p:cNvSpPr txBox="1"/>
          <p:nvPr/>
        </p:nvSpPr>
        <p:spPr>
          <a:xfrm>
            <a:off x="1258920" y="2706840"/>
            <a:ext cx="6048360" cy="14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лассный ч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6" name="WordArt 5"/>
          <p:cNvSpPr txBox="1"/>
          <p:nvPr/>
        </p:nvSpPr>
        <p:spPr>
          <a:xfrm>
            <a:off x="611280" y="476280"/>
            <a:ext cx="784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униципальное общеобразовательное учреждение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7" name="WordArt 6"/>
          <p:cNvSpPr txBox="1"/>
          <p:nvPr/>
        </p:nvSpPr>
        <p:spPr>
          <a:xfrm>
            <a:off x="755640" y="1557360"/>
            <a:ext cx="712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 Средняя общеобразовательная школа № 32"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8" name="Picture 13" descr="Школа 32-1"/>
          <p:cNvPicPr/>
          <p:nvPr/>
        </p:nvPicPr>
        <p:blipFill>
          <a:blip r:embed="rId1"/>
          <a:stretch/>
        </p:blipFill>
        <p:spPr>
          <a:xfrm>
            <a:off x="395280" y="4508640"/>
            <a:ext cx="2662200" cy="1774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39" name="WordArt 14"/>
          <p:cNvSpPr txBox="1"/>
          <p:nvPr/>
        </p:nvSpPr>
        <p:spPr>
          <a:xfrm>
            <a:off x="3564000" y="5013360"/>
            <a:ext cx="4424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Авторы:</a:t>
            </a:r>
            <a:endParaRPr b="0" i="1" lang="en-US" sz="16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учитель начальных классов </a:t>
            </a:r>
            <a:endParaRPr b="0" i="1" lang="en-US" sz="16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авенко Светлана Михайловна,</a:t>
            </a:r>
            <a:endParaRPr b="0" i="1" lang="en-US" sz="16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учитель начальных классов</a:t>
            </a:r>
            <a:endParaRPr b="0" i="1" lang="en-US" sz="16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ёмочкина Галина Ивановна. </a:t>
            </a:r>
            <a:endParaRPr b="0" i="1" lang="en-US" sz="16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840" name="Picture 15" descr="Мальчик"/>
          <p:cNvPicPr/>
          <p:nvPr/>
        </p:nvPicPr>
        <p:blipFill>
          <a:blip r:embed="rId2"/>
          <a:stretch/>
        </p:blipFill>
        <p:spPr>
          <a:xfrm flipH="1">
            <a:off x="7596000" y="3068640"/>
            <a:ext cx="1204920" cy="207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9" name="Прямоугольник 5" descr=""/>
          <p:cNvPicPr/>
          <p:nvPr/>
        </p:nvPicPr>
        <p:blipFill>
          <a:blip r:embed="rId2"/>
          <a:stretch/>
        </p:blipFill>
        <p:spPr>
          <a:xfrm>
            <a:off x="133200" y="353880"/>
            <a:ext cx="4042080" cy="1913040"/>
          </a:xfrm>
          <a:prstGeom prst="rect">
            <a:avLst/>
          </a:prstGeom>
          <a:ln w="0">
            <a:noFill/>
          </a:ln>
        </p:spPr>
      </p:pic>
      <p:sp>
        <p:nvSpPr>
          <p:cNvPr id="890" name="TextBox 6"/>
          <p:cNvSpPr/>
          <p:nvPr/>
        </p:nvSpPr>
        <p:spPr>
          <a:xfrm>
            <a:off x="4211640" y="1773360"/>
            <a:ext cx="4143240" cy="1922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50 мин –  десятиминутная гото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гарин: - Всё нормально, самочувствие хороше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тарту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5" descr="0-709sm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3860640"/>
            <a:ext cx="2928960" cy="20894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92" name="Picture 7" descr="1_998csma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852640"/>
            <a:ext cx="3281400" cy="35006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893" name="TextBox 9"/>
          <p:cNvSpPr/>
          <p:nvPr/>
        </p:nvSpPr>
        <p:spPr>
          <a:xfrm>
            <a:off x="250920" y="3789360"/>
            <a:ext cx="4935600" cy="1922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6040" indent="-1616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07м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6040" indent="-1616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лёв: - Даётся зажигание,                             «Кедр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6040" indent="-1616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гарин: -  Поехали!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Прямоугольник 6" descr=""/>
          <p:cNvPicPr/>
          <p:nvPr/>
        </p:nvPicPr>
        <p:blipFill>
          <a:blip r:embed="rId7"/>
          <a:stretch/>
        </p:blipFill>
        <p:spPr>
          <a:xfrm>
            <a:off x="4572000" y="189000"/>
            <a:ext cx="4297320" cy="159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3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6" name="Прямоугольник 5" descr=""/>
          <p:cNvPicPr/>
          <p:nvPr/>
        </p:nvPicPr>
        <p:blipFill>
          <a:blip r:embed="rId2"/>
          <a:stretch/>
        </p:blipFill>
        <p:spPr>
          <a:xfrm>
            <a:off x="6480" y="6480"/>
            <a:ext cx="4035240" cy="1914480"/>
          </a:xfrm>
          <a:prstGeom prst="rect">
            <a:avLst/>
          </a:prstGeom>
          <a:ln w="0">
            <a:noFill/>
          </a:ln>
        </p:spPr>
      </p:pic>
      <p:sp>
        <p:nvSpPr>
          <p:cNvPr id="897" name="TextBox 4"/>
          <p:cNvSpPr/>
          <p:nvPr/>
        </p:nvSpPr>
        <p:spPr>
          <a:xfrm>
            <a:off x="3276720" y="4437000"/>
            <a:ext cx="5400720" cy="1556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10 м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агарин: -  Вижу Земл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 – со – та – то  какая!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6"/>
          <p:cNvSpPr/>
          <p:nvPr/>
        </p:nvSpPr>
        <p:spPr>
          <a:xfrm>
            <a:off x="755640" y="4581360"/>
            <a:ext cx="7632720" cy="1861200"/>
          </a:xfrm>
          <a:prstGeom prst="rect">
            <a:avLst/>
          </a:prstGeom>
          <a:solidFill>
            <a:srgbClr val="f9b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.22 мин – радиосигналы кораб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еленговали американские рад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зиденту США доложи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усские оперед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ерикан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9" descr="globe9"/>
          <p:cNvPicPr/>
          <p:nvPr/>
        </p:nvPicPr>
        <p:blipFill>
          <a:blip r:embed="rId3"/>
          <a:stretch/>
        </p:blipFill>
        <p:spPr>
          <a:xfrm>
            <a:off x="250920" y="242100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900" name="Рисунок 16" descr="http://media2.picsearch.com/is?8D26DvcB5igDmYA1eKiGxpBhEmcg-KPV6zt05q9sJc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59280" y="1557360"/>
            <a:ext cx="3522600" cy="2889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901" name="Picture 11" descr="USSR"/>
          <p:cNvPicPr/>
          <p:nvPr/>
        </p:nvPicPr>
        <p:blipFill>
          <a:blip r:embed="rId6"/>
          <a:stretch/>
        </p:blipFill>
        <p:spPr>
          <a:xfrm>
            <a:off x="5148360" y="2049480"/>
            <a:ext cx="3456000" cy="172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02" name="Picture 12" descr="USSR"/>
          <p:cNvPicPr/>
          <p:nvPr/>
        </p:nvPicPr>
        <p:blipFill>
          <a:blip r:embed="rId7"/>
          <a:stretch/>
        </p:blipFill>
        <p:spPr>
          <a:xfrm>
            <a:off x="1403280" y="1989000"/>
            <a:ext cx="2162160" cy="22291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903" name="TextBox 8"/>
          <p:cNvSpPr/>
          <p:nvPr/>
        </p:nvSpPr>
        <p:spPr>
          <a:xfrm>
            <a:off x="395280" y="4292640"/>
            <a:ext cx="4875120" cy="2288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.13 мин – сообщение ТАСС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первом полё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ловека в космо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Picture 13" descr="F:\Ю.Левитан.bmp"/>
          <p:cNvPicPr/>
          <p:nvPr/>
        </p:nvPicPr>
        <p:blipFill>
          <a:blip r:embed="rId9"/>
          <a:stretch/>
        </p:blipFill>
        <p:spPr>
          <a:xfrm>
            <a:off x="4140360" y="1268280"/>
            <a:ext cx="4643280" cy="2949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05" name="Прямоугольник 6" descr=""/>
          <p:cNvPicPr/>
          <p:nvPr/>
        </p:nvPicPr>
        <p:blipFill>
          <a:blip r:embed="rId10"/>
          <a:stretch/>
        </p:blipFill>
        <p:spPr>
          <a:xfrm>
            <a:off x="4572000" y="189000"/>
            <a:ext cx="4297320" cy="159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7" name="WordArt 5"/>
          <p:cNvSpPr txBox="1"/>
          <p:nvPr/>
        </p:nvSpPr>
        <p:spPr>
          <a:xfrm>
            <a:off x="4284720" y="549360"/>
            <a:ext cx="442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ff0000"/>
                    </a:gs>
                    <a:gs pos="100000">
                      <a:srgbClr val="ff00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снова на родной ЗЕМЛЕ...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ff0000"/>
                  </a:gs>
                  <a:gs pos="100000">
                    <a:srgbClr val="ff00f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8" name="Picture 6" descr="Г12"/>
          <p:cNvPicPr/>
          <p:nvPr/>
        </p:nvPicPr>
        <p:blipFill>
          <a:blip r:embed="rId2"/>
          <a:stretch/>
        </p:blipFill>
        <p:spPr>
          <a:xfrm>
            <a:off x="0" y="2637000"/>
            <a:ext cx="5256360" cy="39765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909" name="Text Box 7"/>
          <p:cNvSpPr/>
          <p:nvPr/>
        </p:nvSpPr>
        <p:spPr>
          <a:xfrm>
            <a:off x="4214880" y="1500120"/>
            <a:ext cx="4643280" cy="1618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.25 мин – корабль пошёл на спу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 ч 55 мин – обгоревший шар приземлился на поле, Юрий Гагарин опустился на парашют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7" descr="1_13519sm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4005360"/>
            <a:ext cx="3413160" cy="25714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911" name="Прямоугольник 11" descr=""/>
          <p:cNvPicPr/>
          <p:nvPr/>
        </p:nvPicPr>
        <p:blipFill>
          <a:blip r:embed="rId5"/>
          <a:stretch/>
        </p:blipFill>
        <p:spPr>
          <a:xfrm>
            <a:off x="0" y="0"/>
            <a:ext cx="3840120" cy="2614680"/>
          </a:xfrm>
          <a:prstGeom prst="rect">
            <a:avLst/>
          </a:prstGeom>
          <a:ln w="0">
            <a:noFill/>
          </a:ln>
        </p:spPr>
      </p:pic>
      <p:sp>
        <p:nvSpPr>
          <p:cNvPr id="912" name="TextBox 12"/>
          <p:cNvSpPr/>
          <p:nvPr/>
        </p:nvSpPr>
        <p:spPr>
          <a:xfrm>
            <a:off x="2627280" y="1916280"/>
            <a:ext cx="633564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2.00 мин – земной ужин в кругу дру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3.00 мин – от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Рисунок 647" descr="http://www.cosmoworld.ru/spaceencyclopedia/gagarin/gagarin_2_34.jpg"/>
          <p:cNvPicPr/>
          <p:nvPr/>
        </p:nvPicPr>
        <p:blipFill>
          <a:blip r:embed="rId6"/>
          <a:stretch/>
        </p:blipFill>
        <p:spPr>
          <a:xfrm>
            <a:off x="3635280" y="3429000"/>
            <a:ext cx="2355840" cy="31622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914" name="Рисунок 717" descr="http://www.cosmoworld.ru/spaceencyclopedia/gagarin/gg08.jpg"/>
          <p:cNvPicPr/>
          <p:nvPr/>
        </p:nvPicPr>
        <p:blipFill>
          <a:blip r:embed="rId7"/>
          <a:stretch/>
        </p:blipFill>
        <p:spPr>
          <a:xfrm>
            <a:off x="1692360" y="2781360"/>
            <a:ext cx="4464000" cy="38606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915" name="WordArt 13"/>
          <p:cNvSpPr txBox="1"/>
          <p:nvPr/>
        </p:nvSpPr>
        <p:spPr>
          <a:xfrm>
            <a:off x="755640" y="2637000"/>
            <a:ext cx="763272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Утром он проснулся</a:t>
            </a:r>
            <a:endParaRPr b="1" lang="en-US" sz="4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НАМЕНИТЫМ!</a:t>
            </a:r>
            <a:endParaRPr b="1" lang="en-US" sz="4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3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3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3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80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3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3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5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7" name="WordArt 5"/>
          <p:cNvSpPr txBox="1"/>
          <p:nvPr/>
        </p:nvSpPr>
        <p:spPr>
          <a:xfrm>
            <a:off x="755640" y="333360"/>
            <a:ext cx="76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ра! Ура! Слава Гагарину!!!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8" name="Рисунок 609" descr="http://www.cosmoworld.ru/spaceencyclopedia/gagarin/gagarin_2_12.jpg"/>
          <p:cNvPicPr/>
          <p:nvPr/>
        </p:nvPicPr>
        <p:blipFill>
          <a:blip r:embed="rId2"/>
          <a:stretch/>
        </p:blipFill>
        <p:spPr>
          <a:xfrm>
            <a:off x="250920" y="1523880"/>
            <a:ext cx="1876320" cy="38102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919" name="Рисунок 649" descr="http://www.cosmoworld.ru/spaceencyclopedia/gagarin/gagarin_2_36.jpg"/>
          <p:cNvPicPr/>
          <p:nvPr/>
        </p:nvPicPr>
        <p:blipFill>
          <a:blip r:embed="rId3"/>
          <a:stretch/>
        </p:blipFill>
        <p:spPr>
          <a:xfrm>
            <a:off x="5148360" y="4653000"/>
            <a:ext cx="3809880" cy="20383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920" name="Рисунок 93" descr="http://www.cosmoworld.ru/spaceencyclopedia/gagarin/gagarin08.jpg"/>
          <p:cNvPicPr/>
          <p:nvPr/>
        </p:nvPicPr>
        <p:blipFill>
          <a:blip r:embed="rId4"/>
          <a:stretch/>
        </p:blipFill>
        <p:spPr>
          <a:xfrm>
            <a:off x="2268360" y="1523880"/>
            <a:ext cx="2962440" cy="38102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921" name="Рисунок 91" descr="http://www.cosmoworld.ru/spaceencyclopedia/gagarin/gagarin06.jpg"/>
          <p:cNvPicPr/>
          <p:nvPr/>
        </p:nvPicPr>
        <p:blipFill>
          <a:blip r:embed="rId5"/>
          <a:stretch/>
        </p:blipFill>
        <p:spPr>
          <a:xfrm>
            <a:off x="5148360" y="1628640"/>
            <a:ext cx="3809880" cy="268632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922" name="Picture 10" descr="Г13"/>
          <p:cNvPicPr/>
          <p:nvPr/>
        </p:nvPicPr>
        <p:blipFill>
          <a:blip r:embed="rId6"/>
          <a:stretch/>
        </p:blipFill>
        <p:spPr>
          <a:xfrm>
            <a:off x="1619280" y="1916280"/>
            <a:ext cx="5545080" cy="43909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923" name="WordArt 10"/>
          <p:cNvSpPr txBox="1"/>
          <p:nvPr/>
        </p:nvSpPr>
        <p:spPr>
          <a:xfrm>
            <a:off x="826920" y="2637000"/>
            <a:ext cx="7921800" cy="29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4 апреля 1961 года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Юрию Гагарину присвоено звани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ероя Советского Союза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0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3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3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00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3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3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3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3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3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5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3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3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5" name="WordArt 5"/>
          <p:cNvSpPr txBox="1"/>
          <p:nvPr/>
        </p:nvSpPr>
        <p:spPr>
          <a:xfrm>
            <a:off x="611280" y="476280"/>
            <a:ext cx="79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смическая гонка</a:t>
            </a:r>
            <a:endParaRPr b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26" name="Picture 9" descr="сканирование0001"/>
          <p:cNvPicPr/>
          <p:nvPr/>
        </p:nvPicPr>
        <p:blipFill>
          <a:blip r:embed="rId2"/>
          <a:stretch/>
        </p:blipFill>
        <p:spPr>
          <a:xfrm>
            <a:off x="324000" y="2004840"/>
            <a:ext cx="2450880" cy="2848320"/>
          </a:xfrm>
          <a:prstGeom prst="rect">
            <a:avLst/>
          </a:prstGeom>
          <a:ln w="28440">
            <a:solidFill>
              <a:srgbClr val="cc3300"/>
            </a:solidFill>
            <a:miter/>
          </a:ln>
        </p:spPr>
      </p:pic>
      <p:sp>
        <p:nvSpPr>
          <p:cNvPr id="927" name="WordArt 11"/>
          <p:cNvSpPr txBox="1"/>
          <p:nvPr/>
        </p:nvSpPr>
        <p:spPr>
          <a:xfrm>
            <a:off x="250920" y="4653000"/>
            <a:ext cx="2676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.С.Хрущёв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8" name="WordArt 10"/>
          <p:cNvSpPr txBox="1"/>
          <p:nvPr/>
        </p:nvSpPr>
        <p:spPr>
          <a:xfrm>
            <a:off x="900000" y="1628640"/>
            <a:ext cx="1305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ССР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9" name="Picture 7" descr="сканирование"/>
          <p:cNvPicPr/>
          <p:nvPr/>
        </p:nvPicPr>
        <p:blipFill>
          <a:blip r:embed="rId3"/>
          <a:stretch/>
        </p:blipFill>
        <p:spPr>
          <a:xfrm>
            <a:off x="6227640" y="3213000"/>
            <a:ext cx="2438640" cy="30276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930" name="WordArt 12"/>
          <p:cNvSpPr txBox="1"/>
          <p:nvPr/>
        </p:nvSpPr>
        <p:spPr>
          <a:xfrm>
            <a:off x="6948360" y="5950080"/>
            <a:ext cx="111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Ш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1" name="WordArt 15"/>
          <p:cNvSpPr txBox="1"/>
          <p:nvPr/>
        </p:nvSpPr>
        <p:spPr>
          <a:xfrm>
            <a:off x="3274920" y="3022560"/>
            <a:ext cx="25923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961 год</a:t>
            </a:r>
            <a:endParaRPr b="1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2" name="Text Box 16"/>
          <p:cNvSpPr/>
          <p:nvPr/>
        </p:nvSpPr>
        <p:spPr>
          <a:xfrm>
            <a:off x="468360" y="5300640"/>
            <a:ext cx="3024000" cy="119124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 апреля - «Восход» ЮРИЙ ГАГ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7"/>
          <p:cNvSpPr/>
          <p:nvPr/>
        </p:nvSpPr>
        <p:spPr>
          <a:xfrm>
            <a:off x="5292720" y="1557360"/>
            <a:ext cx="356544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мая «Меркурий-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ан Шепа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9"/>
          <p:cNvSpPr/>
          <p:nvPr/>
        </p:nvSpPr>
        <p:spPr>
          <a:xfrm>
            <a:off x="4932360" y="1557360"/>
            <a:ext cx="396072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1 июля «Меркурий -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рджил Грис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20"/>
          <p:cNvSpPr/>
          <p:nvPr/>
        </p:nvSpPr>
        <p:spPr>
          <a:xfrm>
            <a:off x="250920" y="5373720"/>
            <a:ext cx="360036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августа «Восток – 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ман Т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WordArt 13"/>
          <p:cNvSpPr txBox="1"/>
          <p:nvPr/>
        </p:nvSpPr>
        <p:spPr>
          <a:xfrm>
            <a:off x="6300720" y="2781360"/>
            <a:ext cx="2362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.Кеннеди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6000"/>
                            </p:stCondLst>
                            <p:childTnLst>
                              <p:par>
                                <p:cTn id="5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80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2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9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Picture 4" descr="logo"/>
          <p:cNvPicPr/>
          <p:nvPr/>
        </p:nvPicPr>
        <p:blipFill>
          <a:blip r:embed="rId1"/>
          <a:stretch/>
        </p:blipFill>
        <p:spPr>
          <a:xfrm>
            <a:off x="-181080" y="-270000"/>
            <a:ext cx="9504360" cy="7299360"/>
          </a:xfrm>
          <a:prstGeom prst="rect">
            <a:avLst/>
          </a:prstGeom>
          <a:ln w="0">
            <a:noFill/>
          </a:ln>
        </p:spPr>
      </p:pic>
      <p:sp>
        <p:nvSpPr>
          <p:cNvPr id="938" name="WordArt 5"/>
          <p:cNvSpPr txBox="1"/>
          <p:nvPr/>
        </p:nvSpPr>
        <p:spPr>
          <a:xfrm>
            <a:off x="611280" y="476280"/>
            <a:ext cx="79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смическая гонка</a:t>
            </a:r>
            <a:endParaRPr b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39" name="Picture 9" descr="сканирование0001"/>
          <p:cNvPicPr/>
          <p:nvPr/>
        </p:nvPicPr>
        <p:blipFill>
          <a:blip r:embed="rId2"/>
          <a:stretch/>
        </p:blipFill>
        <p:spPr>
          <a:xfrm>
            <a:off x="324000" y="2004840"/>
            <a:ext cx="2450880" cy="2848320"/>
          </a:xfrm>
          <a:prstGeom prst="rect">
            <a:avLst/>
          </a:prstGeom>
          <a:ln w="28440">
            <a:solidFill>
              <a:srgbClr val="cc3300"/>
            </a:solidFill>
            <a:miter/>
          </a:ln>
        </p:spPr>
      </p:pic>
      <p:sp>
        <p:nvSpPr>
          <p:cNvPr id="940" name="WordArt 11"/>
          <p:cNvSpPr txBox="1"/>
          <p:nvPr/>
        </p:nvSpPr>
        <p:spPr>
          <a:xfrm>
            <a:off x="250920" y="4653000"/>
            <a:ext cx="2676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.С.Хрущёв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1" name="WordArt 10"/>
          <p:cNvSpPr txBox="1"/>
          <p:nvPr/>
        </p:nvSpPr>
        <p:spPr>
          <a:xfrm>
            <a:off x="900000" y="1628640"/>
            <a:ext cx="1305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ССР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42" name="Picture 7" descr="сканирование"/>
          <p:cNvPicPr/>
          <p:nvPr/>
        </p:nvPicPr>
        <p:blipFill>
          <a:blip r:embed="rId3"/>
          <a:stretch/>
        </p:blipFill>
        <p:spPr>
          <a:xfrm>
            <a:off x="6227640" y="3213000"/>
            <a:ext cx="2438640" cy="30276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943" name="WordArt 13"/>
          <p:cNvSpPr txBox="1"/>
          <p:nvPr/>
        </p:nvSpPr>
        <p:spPr>
          <a:xfrm>
            <a:off x="6227640" y="2781360"/>
            <a:ext cx="2362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.Кеннеди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4" name="WordArt 12"/>
          <p:cNvSpPr txBox="1"/>
          <p:nvPr/>
        </p:nvSpPr>
        <p:spPr>
          <a:xfrm>
            <a:off x="6948360" y="5950080"/>
            <a:ext cx="111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Ш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5" name="WordArt 21"/>
          <p:cNvSpPr txBox="1"/>
          <p:nvPr/>
        </p:nvSpPr>
        <p:spPr>
          <a:xfrm>
            <a:off x="3130560" y="3716280"/>
            <a:ext cx="288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962 го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6" name="Text Box 22"/>
          <p:cNvSpPr/>
          <p:nvPr/>
        </p:nvSpPr>
        <p:spPr>
          <a:xfrm>
            <a:off x="4356000" y="1628640"/>
            <a:ext cx="460872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 февраля «Меркурий – 6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жон Гле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34"/>
          <p:cNvSpPr/>
          <p:nvPr/>
        </p:nvSpPr>
        <p:spPr>
          <a:xfrm>
            <a:off x="4572000" y="1557360"/>
            <a:ext cx="4321080" cy="1169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</a:rPr>
              <a:t>24 мая «Меркурий -7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</a:rPr>
              <a:t>Малькольм Карпен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5"/>
          <p:cNvSpPr/>
          <p:nvPr/>
        </p:nvSpPr>
        <p:spPr>
          <a:xfrm>
            <a:off x="395280" y="5229360"/>
            <a:ext cx="4176720" cy="1169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</a:rPr>
              <a:t>11 августа «Восток - 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</a:rPr>
              <a:t>Андриян Никол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395280" y="5300640"/>
            <a:ext cx="4464000" cy="1169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 августа «Восток – 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вел Поп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8"/>
          <p:cNvSpPr/>
          <p:nvPr/>
        </p:nvSpPr>
        <p:spPr>
          <a:xfrm>
            <a:off x="4140360" y="1484280"/>
            <a:ext cx="5003640" cy="1169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октября «Меркурий – 8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олтер Шир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60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2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0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2" name="WordArt 5"/>
          <p:cNvSpPr txBox="1"/>
          <p:nvPr/>
        </p:nvSpPr>
        <p:spPr>
          <a:xfrm>
            <a:off x="611280" y="476280"/>
            <a:ext cx="79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смическая гонка</a:t>
            </a:r>
            <a:endParaRPr b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53" name="Picture 9" descr="сканирование0001"/>
          <p:cNvPicPr/>
          <p:nvPr/>
        </p:nvPicPr>
        <p:blipFill>
          <a:blip r:embed="rId2"/>
          <a:stretch/>
        </p:blipFill>
        <p:spPr>
          <a:xfrm>
            <a:off x="324000" y="2004840"/>
            <a:ext cx="2450880" cy="2848320"/>
          </a:xfrm>
          <a:prstGeom prst="rect">
            <a:avLst/>
          </a:prstGeom>
          <a:ln w="28440">
            <a:solidFill>
              <a:srgbClr val="cc3300"/>
            </a:solidFill>
            <a:miter/>
          </a:ln>
        </p:spPr>
      </p:pic>
      <p:sp>
        <p:nvSpPr>
          <p:cNvPr id="954" name="WordArt 10"/>
          <p:cNvSpPr txBox="1"/>
          <p:nvPr/>
        </p:nvSpPr>
        <p:spPr>
          <a:xfrm>
            <a:off x="900000" y="1628640"/>
            <a:ext cx="1305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ССР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5" name="WordArt 11"/>
          <p:cNvSpPr txBox="1"/>
          <p:nvPr/>
        </p:nvSpPr>
        <p:spPr>
          <a:xfrm>
            <a:off x="250920" y="4653000"/>
            <a:ext cx="2676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.С.Хрущёв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56" name="Picture 7" descr="сканирование"/>
          <p:cNvPicPr/>
          <p:nvPr/>
        </p:nvPicPr>
        <p:blipFill>
          <a:blip r:embed="rId3"/>
          <a:stretch/>
        </p:blipFill>
        <p:spPr>
          <a:xfrm>
            <a:off x="6227640" y="3213000"/>
            <a:ext cx="2438640" cy="30276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957" name="WordArt 13"/>
          <p:cNvSpPr txBox="1"/>
          <p:nvPr/>
        </p:nvSpPr>
        <p:spPr>
          <a:xfrm>
            <a:off x="6372360" y="2781360"/>
            <a:ext cx="2361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.Кеннеди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8" name="WordArt 12"/>
          <p:cNvSpPr txBox="1"/>
          <p:nvPr/>
        </p:nvSpPr>
        <p:spPr>
          <a:xfrm>
            <a:off x="6948360" y="5950080"/>
            <a:ext cx="111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Ш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9" name="WordArt 26"/>
          <p:cNvSpPr txBox="1"/>
          <p:nvPr/>
        </p:nvSpPr>
        <p:spPr>
          <a:xfrm>
            <a:off x="3059280" y="3429000"/>
            <a:ext cx="30254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963 го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0" name="Text Box 27"/>
          <p:cNvSpPr/>
          <p:nvPr/>
        </p:nvSpPr>
        <p:spPr>
          <a:xfrm>
            <a:off x="3780000" y="1557360"/>
            <a:ext cx="4897440" cy="1169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 мая «Меркурий – 9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рдон Куп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8"/>
          <p:cNvSpPr/>
          <p:nvPr/>
        </p:nvSpPr>
        <p:spPr>
          <a:xfrm>
            <a:off x="179280" y="5373720"/>
            <a:ext cx="4103640" cy="1169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14 июня «Восток – 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Валерий Бы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9"/>
          <p:cNvSpPr/>
          <p:nvPr/>
        </p:nvSpPr>
        <p:spPr>
          <a:xfrm>
            <a:off x="0" y="5300640"/>
            <a:ext cx="4968720" cy="1169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 июня «Восток – 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лентина Тереш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40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6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6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2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964" name="WordArt 5"/>
          <p:cNvSpPr txBox="1"/>
          <p:nvPr/>
        </p:nvSpPr>
        <p:spPr>
          <a:xfrm>
            <a:off x="647640" y="260280"/>
            <a:ext cx="784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ждународная семья</a:t>
            </a:r>
            <a:endParaRPr b="1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65" name="Picture 7" descr="Россия1"/>
          <p:cNvPicPr/>
          <p:nvPr/>
        </p:nvPicPr>
        <p:blipFill>
          <a:blip r:embed="rId2"/>
          <a:stretch/>
        </p:blipFill>
        <p:spPr>
          <a:xfrm>
            <a:off x="3533760" y="3213000"/>
            <a:ext cx="2075040" cy="1536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8" descr="Япония"/>
          <p:cNvPicPr/>
          <p:nvPr/>
        </p:nvPicPr>
        <p:blipFill>
          <a:blip r:embed="rId3"/>
          <a:stretch/>
        </p:blipFill>
        <p:spPr>
          <a:xfrm>
            <a:off x="3419640" y="5445000"/>
            <a:ext cx="2303280" cy="10303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9" descr="Canada"/>
          <p:cNvPicPr/>
          <p:nvPr/>
        </p:nvPicPr>
        <p:blipFill>
          <a:blip r:embed="rId4"/>
          <a:stretch/>
        </p:blipFill>
        <p:spPr>
          <a:xfrm>
            <a:off x="6227640" y="4724280"/>
            <a:ext cx="2448000" cy="12240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1" descr="Франция"/>
          <p:cNvPicPr/>
          <p:nvPr/>
        </p:nvPicPr>
        <p:blipFill>
          <a:blip r:embed="rId5"/>
          <a:stretch/>
        </p:blipFill>
        <p:spPr>
          <a:xfrm>
            <a:off x="684360" y="4581360"/>
            <a:ext cx="2016000" cy="1392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2" descr="Италия"/>
          <p:cNvPicPr/>
          <p:nvPr/>
        </p:nvPicPr>
        <p:blipFill>
          <a:blip r:embed="rId6"/>
          <a:stretch/>
        </p:blipFill>
        <p:spPr>
          <a:xfrm>
            <a:off x="611280" y="2927520"/>
            <a:ext cx="1942920" cy="1001520"/>
          </a:xfrm>
          <a:prstGeom prst="rect">
            <a:avLst/>
          </a:prstGeom>
          <a:ln w="0">
            <a:noFill/>
          </a:ln>
        </p:spPr>
      </p:pic>
      <p:sp>
        <p:nvSpPr>
          <p:cNvPr id="970" name="WordArt 13"/>
          <p:cNvSpPr txBox="1"/>
          <p:nvPr/>
        </p:nvSpPr>
        <p:spPr>
          <a:xfrm>
            <a:off x="755640" y="3716280"/>
            <a:ext cx="165744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тали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1" name="WordArt 14"/>
          <p:cNvSpPr txBox="1"/>
          <p:nvPr/>
        </p:nvSpPr>
        <p:spPr>
          <a:xfrm>
            <a:off x="3714840" y="6237360"/>
            <a:ext cx="1714320" cy="48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Япони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2" name="WordArt 15"/>
          <p:cNvSpPr txBox="1"/>
          <p:nvPr/>
        </p:nvSpPr>
        <p:spPr>
          <a:xfrm>
            <a:off x="6732720" y="5877000"/>
            <a:ext cx="1609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над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3" name="WordArt 16"/>
          <p:cNvSpPr txBox="1"/>
          <p:nvPr/>
        </p:nvSpPr>
        <p:spPr>
          <a:xfrm>
            <a:off x="611280" y="5877000"/>
            <a:ext cx="2038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ранци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4" name="Picture 19" descr="16"/>
          <p:cNvPicPr/>
          <p:nvPr/>
        </p:nvPicPr>
        <p:blipFill>
          <a:blip r:embed="rId7"/>
          <a:stretch/>
        </p:blipFill>
        <p:spPr>
          <a:xfrm>
            <a:off x="3581280" y="1341360"/>
            <a:ext cx="1979640" cy="14796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20" descr="SU1"/>
          <p:cNvPicPr/>
          <p:nvPr/>
        </p:nvPicPr>
        <p:blipFill>
          <a:blip r:embed="rId8"/>
          <a:stretch/>
        </p:blipFill>
        <p:spPr>
          <a:xfrm>
            <a:off x="6659640" y="2905200"/>
            <a:ext cx="2095560" cy="1047600"/>
          </a:xfrm>
          <a:prstGeom prst="rect">
            <a:avLst/>
          </a:prstGeom>
          <a:ln w="0">
            <a:noFill/>
          </a:ln>
        </p:spPr>
      </p:pic>
      <p:sp>
        <p:nvSpPr>
          <p:cNvPr id="976" name="WordArt 22"/>
          <p:cNvSpPr txBox="1"/>
          <p:nvPr/>
        </p:nvSpPr>
        <p:spPr>
          <a:xfrm>
            <a:off x="6948360" y="3716280"/>
            <a:ext cx="130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СС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7" name="WordArt 23"/>
          <p:cNvSpPr txBox="1"/>
          <p:nvPr/>
        </p:nvSpPr>
        <p:spPr>
          <a:xfrm>
            <a:off x="3747960" y="4581360"/>
            <a:ext cx="1648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8" name="WordArt 24"/>
          <p:cNvSpPr txBox="1"/>
          <p:nvPr/>
        </p:nvSpPr>
        <p:spPr>
          <a:xfrm>
            <a:off x="4014720" y="2492280"/>
            <a:ext cx="111456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Ш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9" name="Picture 25" descr="b2a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141300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980" name="AutoShape 21">
            <a:hlinkClick r:id="rId11" action="ppaction://hlinksldjump"/>
          </p:cNvPr>
          <p:cNvSpPr/>
          <p:nvPr/>
        </p:nvSpPr>
        <p:spPr>
          <a:xfrm>
            <a:off x="8494560" y="6165720"/>
            <a:ext cx="649440" cy="692280"/>
          </a:xfrm>
          <a:custGeom>
            <a:avLst/>
            <a:gdLst>
              <a:gd name="textAreaLeft" fmla="*/ 267480 w 649440"/>
              <a:gd name="textAreaRight" fmla="*/ 381960 w 649440"/>
              <a:gd name="textAreaTop" fmla="*/ 285120 h 692280"/>
              <a:gd name="textAreaBottom" fmla="*/ 407160 h 69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0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000"/>
                            </p:stCondLst>
                            <p:childTnLst>
                              <p:par>
                                <p:cTn id="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6000"/>
                            </p:stCondLst>
                            <p:childTnLst>
                              <p:par>
                                <p:cTn id="7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8000"/>
                            </p:stCondLst>
                            <p:childTnLst>
                              <p:par>
                                <p:cTn id="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5"/>
          <p:cNvSpPr txBox="1"/>
          <p:nvPr/>
        </p:nvSpPr>
        <p:spPr>
          <a:xfrm>
            <a:off x="1042920" y="404640"/>
            <a:ext cx="7274160" cy="9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чему Гагарин?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2" name="Рисунок 611" descr="http://www.cosmoworld.ru/spaceencyclopedia/gagarin/gagarin_2_14.jpg"/>
          <p:cNvPicPr/>
          <p:nvPr/>
        </p:nvPicPr>
        <p:blipFill>
          <a:blip r:embed="rId1"/>
          <a:stretch/>
        </p:blipFill>
        <p:spPr>
          <a:xfrm>
            <a:off x="324000" y="1484280"/>
            <a:ext cx="2943000" cy="50738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983" name="Рисунок 629" descr="http://www.cosmoworld.ru/spaceencyclopedia/gagarin/gagarin_2_23.jpg"/>
          <p:cNvPicPr/>
          <p:nvPr/>
        </p:nvPicPr>
        <p:blipFill>
          <a:blip r:embed="rId2"/>
          <a:stretch/>
        </p:blipFill>
        <p:spPr>
          <a:xfrm>
            <a:off x="5724360" y="1484280"/>
            <a:ext cx="2880000" cy="5040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ransition>
    <p:fad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cc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Рисунок 577" descr="http://www.cosmoworld.ru/spaceencyclopedia/gagarin/gagarin_2_25.jpg"/>
          <p:cNvPicPr/>
          <p:nvPr/>
        </p:nvPicPr>
        <p:blipFill>
          <a:blip r:embed="rId1"/>
          <a:stretch/>
        </p:blipFill>
        <p:spPr>
          <a:xfrm>
            <a:off x="324000" y="260280"/>
            <a:ext cx="2085840" cy="38102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985" name="WordArt 9"/>
          <p:cNvSpPr txBox="1"/>
          <p:nvPr/>
        </p:nvSpPr>
        <p:spPr>
          <a:xfrm rot="5400000">
            <a:off x="5868000" y="2564640"/>
            <a:ext cx="496872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очему Гагарин?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6" name="Picture 10" descr="ГАГАРИН"/>
          <p:cNvPicPr/>
          <p:nvPr/>
        </p:nvPicPr>
        <p:blipFill>
          <a:blip r:embed="rId2"/>
          <a:stretch/>
        </p:blipFill>
        <p:spPr>
          <a:xfrm>
            <a:off x="4932360" y="260280"/>
            <a:ext cx="2502000" cy="38322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987" name="Рисунок 576" descr="http://www.cosmoworld.ru/spaceencyclopedia/gagarin/gagarin_2_19.jpg"/>
          <p:cNvPicPr/>
          <p:nvPr/>
        </p:nvPicPr>
        <p:blipFill>
          <a:blip r:embed="rId3"/>
          <a:stretch/>
        </p:blipFill>
        <p:spPr>
          <a:xfrm>
            <a:off x="2050920" y="2349360"/>
            <a:ext cx="3810240" cy="34099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988" name="WordArt 12"/>
          <p:cNvSpPr txBox="1"/>
          <p:nvPr/>
        </p:nvSpPr>
        <p:spPr>
          <a:xfrm>
            <a:off x="324000" y="5589720"/>
            <a:ext cx="856908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Юра Гагарин родился 9 марта 1934 г. в селе Клушино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9" name="AutoShape 7">
            <a:hlinkClick r:id="rId4" action="ppaction://hlinksldjump"/>
          </p:cNvPr>
          <p:cNvSpPr/>
          <p:nvPr/>
        </p:nvSpPr>
        <p:spPr>
          <a:xfrm>
            <a:off x="8675640" y="6453360"/>
            <a:ext cx="289080" cy="21564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44" h="21600">
                <a:moveTo>
                  <a:pt x="7466" y="7493"/>
                </a:moveTo>
                <a:lnTo>
                  <a:pt x="10973" y="7493"/>
                </a:lnTo>
                <a:lnTo>
                  <a:pt x="10973" y="12828"/>
                </a:lnTo>
                <a:cubicBezTo>
                  <a:pt x="10973" y="13751"/>
                  <a:pt x="11774" y="14482"/>
                  <a:pt x="12810" y="14482"/>
                </a:cubicBezTo>
                <a:lnTo>
                  <a:pt x="14472" y="14482"/>
                </a:lnTo>
                <a:cubicBezTo>
                  <a:pt x="15508" y="14482"/>
                  <a:pt x="16308" y="13751"/>
                  <a:pt x="16308" y="12828"/>
                </a:cubicBezTo>
                <a:lnTo>
                  <a:pt x="16308" y="7493"/>
                </a:lnTo>
                <a:lnTo>
                  <a:pt x="14472" y="7493"/>
                </a:lnTo>
                <a:lnTo>
                  <a:pt x="17980" y="3985"/>
                </a:lnTo>
                <a:lnTo>
                  <a:pt x="21653" y="7493"/>
                </a:lnTo>
                <a:lnTo>
                  <a:pt x="19816" y="7493"/>
                </a:lnTo>
                <a:lnTo>
                  <a:pt x="19816" y="12828"/>
                </a:lnTo>
                <a:cubicBezTo>
                  <a:pt x="19816" y="15596"/>
                  <a:pt x="17240" y="18155"/>
                  <a:pt x="14472" y="18155"/>
                </a:cubicBezTo>
                <a:lnTo>
                  <a:pt x="12810" y="18155"/>
                </a:lnTo>
                <a:cubicBezTo>
                  <a:pt x="10042" y="18155"/>
                  <a:pt x="7466" y="15596"/>
                  <a:pt x="7466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3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3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0"/>
                            </p:stCondLst>
                            <p:childTnLst>
                              <p:par>
                                <p:cTn id="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WordArt 5"/>
          <p:cNvSpPr txBox="1"/>
          <p:nvPr/>
        </p:nvSpPr>
        <p:spPr>
          <a:xfrm rot="21382800">
            <a:off x="536400" y="550800"/>
            <a:ext cx="82108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"ЛЕГКО ЛИ БЫТЬ ПЕРВЫМ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42" name="WordArt 6"/>
          <p:cNvSpPr txBox="1"/>
          <p:nvPr/>
        </p:nvSpPr>
        <p:spPr>
          <a:xfrm>
            <a:off x="3706920" y="2637000"/>
            <a:ext cx="1728720" cy="28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Text Box 12"/>
          <p:cNvSpPr/>
          <p:nvPr/>
        </p:nvSpPr>
        <p:spPr>
          <a:xfrm>
            <a:off x="3276720" y="5661000"/>
            <a:ext cx="463212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49-1951 г – Люберецкое ремесленное учил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11" descr="Г2"/>
          <p:cNvPicPr/>
          <p:nvPr/>
        </p:nvPicPr>
        <p:blipFill>
          <a:blip r:embed="rId1"/>
          <a:stretch/>
        </p:blipFill>
        <p:spPr>
          <a:xfrm>
            <a:off x="468360" y="2060640"/>
            <a:ext cx="2643120" cy="3795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92" name="WordArt 7"/>
          <p:cNvSpPr txBox="1"/>
          <p:nvPr/>
        </p:nvSpPr>
        <p:spPr>
          <a:xfrm>
            <a:off x="395280" y="260280"/>
            <a:ext cx="717408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ff3300"/>
                    </a:gs>
                    <a:gs pos="100000">
                      <a:srgbClr val="ff00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егда на "отлично!"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ff3300"/>
                  </a:gs>
                  <a:gs pos="100000">
                    <a:srgbClr val="ff00f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3" name="Text Box 8"/>
          <p:cNvSpPr/>
          <p:nvPr/>
        </p:nvSpPr>
        <p:spPr>
          <a:xfrm>
            <a:off x="1150920" y="1773360"/>
            <a:ext cx="684072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41-1949г- годы учёбы в школ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9" descr="сканирование0002"/>
          <p:cNvPicPr/>
          <p:nvPr/>
        </p:nvPicPr>
        <p:blipFill>
          <a:blip r:embed="rId2"/>
          <a:stretch/>
        </p:blipFill>
        <p:spPr>
          <a:xfrm>
            <a:off x="2124000" y="2708280"/>
            <a:ext cx="4103640" cy="29592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995" name="Text Box 13"/>
          <p:cNvSpPr/>
          <p:nvPr/>
        </p:nvSpPr>
        <p:spPr>
          <a:xfrm>
            <a:off x="3565800" y="3429000"/>
            <a:ext cx="433980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51- 1955 г.-  Сарато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устриальный техник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Рисунок 67" descr="http://media4.picsearch.com/is?vne1cQcI8XNIGOlLaqvxSNLcMKVa4baDgkS4N6KlOr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1989000"/>
            <a:ext cx="2913120" cy="3883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97" name="Picture 11" descr="1_5839sma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2060640"/>
            <a:ext cx="2357640" cy="33940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998" name="WordArt 9"/>
          <p:cNvSpPr txBox="1"/>
          <p:nvPr/>
        </p:nvSpPr>
        <p:spPr>
          <a:xfrm rot="5400000">
            <a:off x="6012720" y="3033000"/>
            <a:ext cx="496872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очему Гагарин?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9" name="AutoShape 11">
            <a:hlinkClick r:id="rId7" action="ppaction://hlinksldjump"/>
          </p:cNvPr>
          <p:cNvSpPr/>
          <p:nvPr/>
        </p:nvSpPr>
        <p:spPr>
          <a:xfrm>
            <a:off x="8459640" y="6165720"/>
            <a:ext cx="433440" cy="35892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6034" y="7493"/>
                </a:moveTo>
                <a:lnTo>
                  <a:pt x="9541" y="7493"/>
                </a:lnTo>
                <a:lnTo>
                  <a:pt x="9541" y="12828"/>
                </a:lnTo>
                <a:cubicBezTo>
                  <a:pt x="9541" y="13751"/>
                  <a:pt x="10342" y="14482"/>
                  <a:pt x="11378" y="14482"/>
                </a:cubicBezTo>
                <a:lnTo>
                  <a:pt x="13040" y="14482"/>
                </a:lnTo>
                <a:cubicBezTo>
                  <a:pt x="14076" y="14482"/>
                  <a:pt x="14877" y="13751"/>
                  <a:pt x="14877" y="12828"/>
                </a:cubicBezTo>
                <a:lnTo>
                  <a:pt x="14877" y="7493"/>
                </a:lnTo>
                <a:lnTo>
                  <a:pt x="13040" y="7493"/>
                </a:lnTo>
                <a:lnTo>
                  <a:pt x="16548" y="3985"/>
                </a:lnTo>
                <a:lnTo>
                  <a:pt x="20221" y="7493"/>
                </a:lnTo>
                <a:lnTo>
                  <a:pt x="18384" y="7493"/>
                </a:lnTo>
                <a:lnTo>
                  <a:pt x="18384" y="12828"/>
                </a:lnTo>
                <a:cubicBezTo>
                  <a:pt x="18384" y="15596"/>
                  <a:pt x="15808" y="18155"/>
                  <a:pt x="13040" y="18155"/>
                </a:cubicBezTo>
                <a:lnTo>
                  <a:pt x="11378" y="18155"/>
                </a:lnTo>
                <a:cubicBezTo>
                  <a:pt x="8610" y="18155"/>
                  <a:pt x="6034" y="15596"/>
                  <a:pt x="603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2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7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3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cc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WordArt 5"/>
          <p:cNvSpPr txBox="1"/>
          <p:nvPr/>
        </p:nvSpPr>
        <p:spPr>
          <a:xfrm>
            <a:off x="468360" y="260280"/>
            <a:ext cx="69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ff3300"/>
                    </a:gs>
                    <a:gs pos="100000">
                      <a:srgbClr val="ff00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егда на "отлично!"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ff3300"/>
                  </a:gs>
                  <a:gs pos="100000">
                    <a:srgbClr val="ff00f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1" name="Рисунок 579" descr="http://www.cosmoworld.ru/spaceencyclopedia/gagarin/gagarin_2_27.jpg"/>
          <p:cNvPicPr/>
          <p:nvPr/>
        </p:nvPicPr>
        <p:blipFill>
          <a:blip r:embed="rId1"/>
          <a:stretch/>
        </p:blipFill>
        <p:spPr>
          <a:xfrm>
            <a:off x="684360" y="1484280"/>
            <a:ext cx="3571560" cy="22417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002" name="Picture 8" descr="Г4"/>
          <p:cNvPicPr/>
          <p:nvPr/>
        </p:nvPicPr>
        <p:blipFill>
          <a:blip r:embed="rId2"/>
          <a:stretch/>
        </p:blipFill>
        <p:spPr>
          <a:xfrm>
            <a:off x="4788000" y="1268280"/>
            <a:ext cx="2806560" cy="3456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03" name="Text Box 9"/>
          <p:cNvSpPr/>
          <p:nvPr/>
        </p:nvSpPr>
        <p:spPr>
          <a:xfrm>
            <a:off x="3927240" y="3017880"/>
            <a:ext cx="424512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55-1957 г - Оренбург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ётное учил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6"/>
          <p:cNvSpPr/>
          <p:nvPr/>
        </p:nvSpPr>
        <p:spPr>
          <a:xfrm>
            <a:off x="2270520" y="5157720"/>
            <a:ext cx="420552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54 г – начало занят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аратовском аэроклу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Picture 10" descr="Г6"/>
          <p:cNvPicPr/>
          <p:nvPr/>
        </p:nvPicPr>
        <p:blipFill>
          <a:blip r:embed="rId3"/>
          <a:stretch/>
        </p:blipFill>
        <p:spPr>
          <a:xfrm>
            <a:off x="324000" y="1484280"/>
            <a:ext cx="3438360" cy="48211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06" name="WordArt 9"/>
          <p:cNvSpPr txBox="1"/>
          <p:nvPr/>
        </p:nvSpPr>
        <p:spPr>
          <a:xfrm rot="5400000">
            <a:off x="6012720" y="3033000"/>
            <a:ext cx="496872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очему Гагарин?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2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8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7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2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cc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WordArt 5"/>
          <p:cNvSpPr txBox="1"/>
          <p:nvPr/>
        </p:nvSpPr>
        <p:spPr>
          <a:xfrm rot="5400000">
            <a:off x="5399640" y="3033000"/>
            <a:ext cx="590544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очему Гагарин?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8" name="Picture 6" descr="Г5"/>
          <p:cNvPicPr/>
          <p:nvPr/>
        </p:nvPicPr>
        <p:blipFill>
          <a:blip r:embed="rId1"/>
          <a:stretch/>
        </p:blipFill>
        <p:spPr>
          <a:xfrm>
            <a:off x="324000" y="404640"/>
            <a:ext cx="3108240" cy="5689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09" name="Picture 7" descr="Г8"/>
          <p:cNvPicPr/>
          <p:nvPr/>
        </p:nvPicPr>
        <p:blipFill>
          <a:blip r:embed="rId2"/>
          <a:stretch/>
        </p:blipFill>
        <p:spPr>
          <a:xfrm>
            <a:off x="3924360" y="260280"/>
            <a:ext cx="3487680" cy="24876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10" name="Text Box 8"/>
          <p:cNvSpPr/>
          <p:nvPr/>
        </p:nvSpPr>
        <p:spPr>
          <a:xfrm>
            <a:off x="3544560" y="3160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WordArt 8"/>
          <p:cNvSpPr txBox="1"/>
          <p:nvPr/>
        </p:nvSpPr>
        <p:spPr>
          <a:xfrm>
            <a:off x="3995640" y="2276640"/>
            <a:ext cx="3311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96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0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2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3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3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3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0"/>
                            </p:stCondLst>
                            <p:childTnLst>
                              <p:par>
                                <p:cTn id="9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3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cc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WordArt 5"/>
          <p:cNvSpPr txBox="1"/>
          <p:nvPr/>
        </p:nvSpPr>
        <p:spPr>
          <a:xfrm>
            <a:off x="826920" y="476280"/>
            <a:ext cx="74883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cc0000"/>
                    </a:gs>
                    <a:gs pos="100000">
                      <a:srgbClr val="ff00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учший из двадцати...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cc0000"/>
                  </a:gs>
                  <a:gs pos="100000">
                    <a:srgbClr val="ff00f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3" name="Text Box 6"/>
          <p:cNvSpPr/>
          <p:nvPr/>
        </p:nvSpPr>
        <p:spPr>
          <a:xfrm>
            <a:off x="1548000" y="1628640"/>
            <a:ext cx="5106240" cy="1556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60 год - Юрий Гага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ят в отря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удущих космонав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Picture 5" descr="0-9703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4149720"/>
            <a:ext cx="3702240" cy="18018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015" name="Text Box 12"/>
          <p:cNvSpPr/>
          <p:nvPr/>
        </p:nvSpPr>
        <p:spPr>
          <a:xfrm>
            <a:off x="250920" y="1386000"/>
            <a:ext cx="6516720" cy="2064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ие об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ебные 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ытания, тренир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Рисунок 635" descr="http://www.cosmoworld.ru/spaceencyclopedia/gagarin/gagarin_2_32.jpg"/>
          <p:cNvPicPr/>
          <p:nvPr/>
        </p:nvPicPr>
        <p:blipFill>
          <a:blip r:embed="rId3"/>
          <a:stretch/>
        </p:blipFill>
        <p:spPr>
          <a:xfrm>
            <a:off x="539640" y="4221000"/>
            <a:ext cx="3810240" cy="21337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17" name="Рисунок 667" descr="http://www.cosmoworld.ru/spaceencyclopedia/gagarin/gagarin_2_46.jpg"/>
          <p:cNvPicPr/>
          <p:nvPr/>
        </p:nvPicPr>
        <p:blipFill>
          <a:blip r:embed="rId4"/>
          <a:stretch/>
        </p:blipFill>
        <p:spPr>
          <a:xfrm>
            <a:off x="5940360" y="3068640"/>
            <a:ext cx="2924280" cy="34862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18" name="Picture 10" descr="0_5474sma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3240" y="3860640"/>
            <a:ext cx="3668760" cy="27147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19" name="Рисунок 630" descr="http://www.cosmoworld.ru/spaceencyclopedia/gagarin/gagarin_2_26.jpg"/>
          <p:cNvPicPr/>
          <p:nvPr/>
        </p:nvPicPr>
        <p:blipFill>
          <a:blip r:embed="rId7"/>
          <a:stretch/>
        </p:blipFill>
        <p:spPr>
          <a:xfrm>
            <a:off x="6227640" y="2492280"/>
            <a:ext cx="1866960" cy="38102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020" name="AutoShape 18"/>
          <p:cNvSpPr/>
          <p:nvPr/>
        </p:nvSpPr>
        <p:spPr>
          <a:xfrm>
            <a:off x="759636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11">
            <a:hlinkClick r:id="rId8" action="ppaction://hlinksldjump"/>
          </p:cNvPr>
          <p:cNvSpPr/>
          <p:nvPr/>
        </p:nvSpPr>
        <p:spPr>
          <a:xfrm>
            <a:off x="0" y="6215040"/>
            <a:ext cx="360360" cy="476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76280"/>
              <a:gd name="textAreaBottom" fmla="*/ 453240 h 476280"/>
            </a:gdLst>
            <a:ahLst/>
            <a:rect l="textAreaLeft" t="textAreaTop" r="textAreaRight" b="textAreaBottom"/>
            <a:pathLst>
              <a:path w="21600" h="28541">
                <a:moveTo>
                  <a:pt x="0" y="0"/>
                </a:moveTo>
                <a:lnTo>
                  <a:pt x="21600" y="0"/>
                </a:lnTo>
                <a:lnTo>
                  <a:pt x="21600" y="28541"/>
                </a:lnTo>
                <a:lnTo>
                  <a:pt x="0" y="28541"/>
                </a:lnTo>
                <a:close/>
              </a:path>
              <a:path fill="lightenLess" w="21600" h="285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541">
                <a:moveTo>
                  <a:pt x="21600" y="0"/>
                </a:moveTo>
                <a:lnTo>
                  <a:pt x="21600" y="28541"/>
                </a:lnTo>
                <a:lnTo>
                  <a:pt x="20200" y="27141"/>
                </a:lnTo>
                <a:lnTo>
                  <a:pt x="20200" y="1400"/>
                </a:lnTo>
                <a:close/>
              </a:path>
              <a:path fill="darkenLess" w="21600" h="28541">
                <a:moveTo>
                  <a:pt x="21600" y="28541"/>
                </a:moveTo>
                <a:lnTo>
                  <a:pt x="0" y="28541"/>
                </a:lnTo>
                <a:lnTo>
                  <a:pt x="1400" y="27141"/>
                </a:lnTo>
                <a:lnTo>
                  <a:pt x="20200" y="27141"/>
                </a:lnTo>
                <a:close/>
              </a:path>
              <a:path fill="lighten" w="21600" h="28541">
                <a:moveTo>
                  <a:pt x="0" y="285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141"/>
                </a:lnTo>
                <a:close/>
              </a:path>
              <a:path fill="darken" w="21600" h="28541">
                <a:moveTo>
                  <a:pt x="3794" y="10963"/>
                </a:moveTo>
                <a:lnTo>
                  <a:pt x="7301" y="10963"/>
                </a:lnTo>
                <a:lnTo>
                  <a:pt x="7301" y="16299"/>
                </a:lnTo>
                <a:cubicBezTo>
                  <a:pt x="7301" y="17221"/>
                  <a:pt x="8102" y="17952"/>
                  <a:pt x="9138" y="17952"/>
                </a:cubicBezTo>
                <a:lnTo>
                  <a:pt x="10800" y="17952"/>
                </a:lnTo>
                <a:cubicBezTo>
                  <a:pt x="11836" y="17952"/>
                  <a:pt x="12636" y="17221"/>
                  <a:pt x="12636" y="16299"/>
                </a:cubicBezTo>
                <a:lnTo>
                  <a:pt x="12636" y="10963"/>
                </a:lnTo>
                <a:lnTo>
                  <a:pt x="10800" y="10963"/>
                </a:lnTo>
                <a:lnTo>
                  <a:pt x="14308" y="7456"/>
                </a:lnTo>
                <a:lnTo>
                  <a:pt x="17981" y="10963"/>
                </a:lnTo>
                <a:lnTo>
                  <a:pt x="16144" y="10963"/>
                </a:lnTo>
                <a:lnTo>
                  <a:pt x="16144" y="16299"/>
                </a:lnTo>
                <a:cubicBezTo>
                  <a:pt x="16144" y="19066"/>
                  <a:pt x="13568" y="21625"/>
                  <a:pt x="10800" y="21625"/>
                </a:cubicBezTo>
                <a:lnTo>
                  <a:pt x="9138" y="21625"/>
                </a:lnTo>
                <a:cubicBezTo>
                  <a:pt x="6370" y="21625"/>
                  <a:pt x="3794" y="19066"/>
                  <a:pt x="3794" y="16299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9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2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6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2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7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cc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WordArt 5"/>
          <p:cNvSpPr txBox="1"/>
          <p:nvPr/>
        </p:nvSpPr>
        <p:spPr>
          <a:xfrm>
            <a:off x="1222200" y="260280"/>
            <a:ext cx="6697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ешение комиссии: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23" name="Text Box 8"/>
          <p:cNvSpPr/>
          <p:nvPr/>
        </p:nvSpPr>
        <p:spPr>
          <a:xfrm>
            <a:off x="4788000" y="206064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патриот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9"/>
          <p:cNvSpPr/>
          <p:nvPr/>
        </p:nvSpPr>
        <p:spPr>
          <a:xfrm>
            <a:off x="4859640" y="2637000"/>
            <a:ext cx="149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тв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10"/>
          <p:cNvSpPr/>
          <p:nvPr/>
        </p:nvSpPr>
        <p:spPr>
          <a:xfrm>
            <a:off x="4988160" y="330048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скром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11"/>
          <p:cNvSpPr/>
          <p:nvPr/>
        </p:nvSpPr>
        <p:spPr>
          <a:xfrm>
            <a:off x="4901760" y="3905280"/>
            <a:ext cx="31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железная в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2"/>
          <p:cNvSpPr/>
          <p:nvPr/>
        </p:nvSpPr>
        <p:spPr>
          <a:xfrm>
            <a:off x="4860000" y="4581360"/>
            <a:ext cx="15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3"/>
          <p:cNvSpPr/>
          <p:nvPr/>
        </p:nvSpPr>
        <p:spPr>
          <a:xfrm>
            <a:off x="4931280" y="515772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любовь к люд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WordArt 15"/>
          <p:cNvSpPr txBox="1"/>
          <p:nvPr/>
        </p:nvSpPr>
        <p:spPr>
          <a:xfrm>
            <a:off x="395280" y="6093000"/>
            <a:ext cx="7921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- "Задание будет выполнено!"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0" name="Рисунок 669" descr="http://www.cosmoworld.ru/spaceencyclopedia/gagarin/gagarin_2_48.jpg"/>
          <p:cNvPicPr/>
          <p:nvPr/>
        </p:nvPicPr>
        <p:blipFill>
          <a:blip r:embed="rId1"/>
          <a:stretch/>
        </p:blipFill>
        <p:spPr>
          <a:xfrm>
            <a:off x="108000" y="2060640"/>
            <a:ext cx="4464000" cy="35431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031" name="WordArt 16"/>
          <p:cNvSpPr txBox="1"/>
          <p:nvPr/>
        </p:nvSpPr>
        <p:spPr>
          <a:xfrm>
            <a:off x="1258920" y="1268280"/>
            <a:ext cx="648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ЛЕТИТ  ГАГАР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2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2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2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3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3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3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2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3" name="WordArt 5"/>
          <p:cNvSpPr txBox="1"/>
          <p:nvPr/>
        </p:nvSpPr>
        <p:spPr>
          <a:xfrm>
            <a:off x="324000" y="620640"/>
            <a:ext cx="644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ff3300"/>
                    </a:gs>
                    <a:gs pos="100000">
                      <a:srgbClr val="ff00ff"/>
                    </a:gs>
                  </a:gsLst>
                  <a:lin ang="18900000"/>
                </a:gradFill>
                <a:latin typeface="Arial"/>
              </a:rPr>
              <a:t>Посланник МИР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ff3300"/>
                  </a:gs>
                  <a:gs pos="100000">
                    <a:srgbClr val="ff00ff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pic>
        <p:nvPicPr>
          <p:cNvPr id="1034" name="Рисунок 654" descr="http://www.cosmoworld.ru/spaceencyclopedia/gagarin/gagarin_2_42.jpg"/>
          <p:cNvPicPr/>
          <p:nvPr/>
        </p:nvPicPr>
        <p:blipFill>
          <a:blip r:embed="rId2"/>
          <a:stretch/>
        </p:blipFill>
        <p:spPr>
          <a:xfrm>
            <a:off x="250920" y="2276640"/>
            <a:ext cx="3809880" cy="3095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35" name="Picture 12" descr="bird"/>
          <p:cNvPicPr/>
          <p:nvPr/>
        </p:nvPicPr>
        <p:blipFill>
          <a:blip r:embed="rId3"/>
          <a:stretch/>
        </p:blipFill>
        <p:spPr>
          <a:xfrm>
            <a:off x="684360" y="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036" name="Рисунок 1" descr="http://media4.picsearch.com/is?eZDh6S80C_pktdKZYHY0DFdDar_uquJBNVXSqvr4c0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93080" y="260280"/>
            <a:ext cx="1838160" cy="2581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37" name="Рисунок 653" descr="http://www.cosmoworld.ru/spaceencyclopedia/gagarin/gagarin_2_41.jpg"/>
          <p:cNvPicPr/>
          <p:nvPr/>
        </p:nvPicPr>
        <p:blipFill>
          <a:blip r:embed="rId6"/>
          <a:stretch/>
        </p:blipFill>
        <p:spPr>
          <a:xfrm>
            <a:off x="5076720" y="3429000"/>
            <a:ext cx="3810240" cy="27050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38" name="WordArt 15"/>
          <p:cNvSpPr txBox="1"/>
          <p:nvPr/>
        </p:nvSpPr>
        <p:spPr>
          <a:xfrm>
            <a:off x="684360" y="5229360"/>
            <a:ext cx="287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ТАЛ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9" name="WordArt 16"/>
          <p:cNvSpPr txBox="1"/>
          <p:nvPr/>
        </p:nvSpPr>
        <p:spPr>
          <a:xfrm>
            <a:off x="4356000" y="5734080"/>
            <a:ext cx="449604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ЛИКОБРИТА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40" name="Picture 9" descr="1_13873smal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1870200"/>
            <a:ext cx="4032000" cy="31176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041" name="WordArt 18"/>
          <p:cNvSpPr txBox="1"/>
          <p:nvPr/>
        </p:nvSpPr>
        <p:spPr>
          <a:xfrm>
            <a:off x="826920" y="4581360"/>
            <a:ext cx="259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Б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42" name="Рисунок 691" descr="http://www.cosmoworld.ru/spaceencyclopedia/gagarin/gagarin2.jpg"/>
          <p:cNvPicPr/>
          <p:nvPr/>
        </p:nvPicPr>
        <p:blipFill>
          <a:blip r:embed="rId9"/>
          <a:stretch/>
        </p:blipFill>
        <p:spPr>
          <a:xfrm>
            <a:off x="5076720" y="1989000"/>
            <a:ext cx="2428920" cy="41817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43" name="WordArt 20"/>
          <p:cNvSpPr txBox="1"/>
          <p:nvPr/>
        </p:nvSpPr>
        <p:spPr>
          <a:xfrm>
            <a:off x="4932360" y="5373720"/>
            <a:ext cx="26640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ЙЛОН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44" name="Рисунок 646" descr="http://www.cosmoworld.ru/spaceencyclopedia/gagarin/gagarin_2_33.jpg"/>
          <p:cNvPicPr/>
          <p:nvPr/>
        </p:nvPicPr>
        <p:blipFill>
          <a:blip r:embed="rId10"/>
          <a:stretch/>
        </p:blipFill>
        <p:spPr>
          <a:xfrm>
            <a:off x="1835280" y="2205000"/>
            <a:ext cx="5976720" cy="2943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45" name="Text Box 25"/>
          <p:cNvSpPr/>
          <p:nvPr/>
        </p:nvSpPr>
        <p:spPr>
          <a:xfrm>
            <a:off x="609120" y="2997360"/>
            <a:ext cx="7451640" cy="3506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...ваш Юрий не только ваш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принадлежит всему человечеств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ворота в космос, которые он открыл,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ахнуты для всех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 для этого нужен мир. Мир - для того,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исследовать Вселенную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окуэлл Кент,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мериканский худо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26"/>
          <p:cNvSpPr/>
          <p:nvPr/>
        </p:nvSpPr>
        <p:spPr>
          <a:xfrm>
            <a:off x="8290080" y="6278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2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2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2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3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2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2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8" name="WordArt 5"/>
          <p:cNvSpPr txBox="1"/>
          <p:nvPr/>
        </p:nvSpPr>
        <p:spPr>
          <a:xfrm>
            <a:off x="647640" y="333360"/>
            <a:ext cx="784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след за Гагарины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1049" name="Picture 7" descr="tereshkova"/>
          <p:cNvPicPr/>
          <p:nvPr/>
        </p:nvPicPr>
        <p:blipFill>
          <a:blip r:embed="rId2"/>
          <a:stretch/>
        </p:blipFill>
        <p:spPr>
          <a:xfrm>
            <a:off x="6012000" y="2781360"/>
            <a:ext cx="2800080" cy="35337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50" name="Picture 8" descr="Герман Титов, второй космонавт в мире."/>
          <p:cNvPicPr/>
          <p:nvPr/>
        </p:nvPicPr>
        <p:blipFill>
          <a:blip r:embed="rId3"/>
          <a:stretch/>
        </p:blipFill>
        <p:spPr>
          <a:xfrm>
            <a:off x="468360" y="1413000"/>
            <a:ext cx="3024000" cy="28810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051" name="WordArt 9"/>
          <p:cNvSpPr txBox="1"/>
          <p:nvPr/>
        </p:nvSpPr>
        <p:spPr>
          <a:xfrm>
            <a:off x="500040" y="4000680"/>
            <a:ext cx="294336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Герман Ти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1052" name="Text Box 10"/>
          <p:cNvSpPr/>
          <p:nvPr/>
        </p:nvSpPr>
        <p:spPr>
          <a:xfrm>
            <a:off x="142920" y="4572000"/>
            <a:ext cx="403236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монавт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дублёр Ю.Гагар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1"/>
          <p:cNvSpPr/>
          <p:nvPr/>
        </p:nvSpPr>
        <p:spPr>
          <a:xfrm>
            <a:off x="5127480" y="1576440"/>
            <a:ext cx="32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2"/>
          <p:cNvSpPr/>
          <p:nvPr/>
        </p:nvSpPr>
        <p:spPr>
          <a:xfrm>
            <a:off x="4071240" y="1928880"/>
            <a:ext cx="477864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ервая женщина - космона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Прямоугольник 15"/>
          <p:cNvSpPr/>
          <p:nvPr/>
        </p:nvSpPr>
        <p:spPr>
          <a:xfrm>
            <a:off x="201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Прямоугольник 1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2840" y="5516640"/>
            <a:ext cx="1987560" cy="1128600"/>
          </a:xfrm>
          <a:prstGeom prst="rect">
            <a:avLst/>
          </a:prstGeom>
          <a:ln w="0">
            <a:noFill/>
          </a:ln>
        </p:spPr>
      </p:pic>
      <p:pic>
        <p:nvPicPr>
          <p:cNvPr id="1057" name="Прямоугольник 1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50800" y="5516640"/>
            <a:ext cx="2560680" cy="1128600"/>
          </a:xfrm>
          <a:prstGeom prst="rect">
            <a:avLst/>
          </a:prstGeom>
          <a:ln w="0">
            <a:noFill/>
          </a:ln>
        </p:spPr>
      </p:pic>
      <p:pic>
        <p:nvPicPr>
          <p:cNvPr id="1058" name="Прямоугольник 19" descr=""/>
          <p:cNvPicPr/>
          <p:nvPr/>
        </p:nvPicPr>
        <p:blipFill>
          <a:blip r:embed="rId8"/>
          <a:stretch/>
        </p:blipFill>
        <p:spPr>
          <a:xfrm>
            <a:off x="3279600" y="5516640"/>
            <a:ext cx="2560680" cy="11286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5" descr="Леонов Алексей Архипович"/>
          <p:cNvPicPr/>
          <p:nvPr/>
        </p:nvPicPr>
        <p:blipFill>
          <a:blip r:embed="rId9"/>
          <a:stretch/>
        </p:blipFill>
        <p:spPr>
          <a:xfrm>
            <a:off x="571680" y="2143080"/>
            <a:ext cx="2928600" cy="33688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060" name="WordArt 16"/>
          <p:cNvSpPr txBox="1"/>
          <p:nvPr/>
        </p:nvSpPr>
        <p:spPr>
          <a:xfrm>
            <a:off x="1000080" y="2428920"/>
            <a:ext cx="2143080" cy="1000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Алексе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Леон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061" name="TextBox 22"/>
          <p:cNvSpPr/>
          <p:nvPr/>
        </p:nvSpPr>
        <p:spPr>
          <a:xfrm>
            <a:off x="3874320" y="2786040"/>
            <a:ext cx="5087880" cy="1130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м 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шел в  открытый косм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2" name="Прямоугольник 23" descr=""/>
          <p:cNvPicPr/>
          <p:nvPr/>
        </p:nvPicPr>
        <p:blipFill>
          <a:blip r:embed="rId10"/>
          <a:stretch/>
        </p:blipFill>
        <p:spPr>
          <a:xfrm>
            <a:off x="5181480" y="5443560"/>
            <a:ext cx="2560680" cy="1133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3" descr="Джанибеков Владимир Александрович"/>
          <p:cNvPicPr/>
          <p:nvPr/>
        </p:nvPicPr>
        <p:blipFill>
          <a:blip r:embed="rId11"/>
          <a:stretch/>
        </p:blipFill>
        <p:spPr>
          <a:xfrm>
            <a:off x="5940360" y="1916280"/>
            <a:ext cx="2846520" cy="36734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64" name="Прямоугольник 25" descr=""/>
          <p:cNvPicPr/>
          <p:nvPr/>
        </p:nvPicPr>
        <p:blipFill>
          <a:blip r:embed="rId12"/>
          <a:stretch/>
        </p:blipFill>
        <p:spPr>
          <a:xfrm>
            <a:off x="5218200" y="1274760"/>
            <a:ext cx="3925800" cy="1023840"/>
          </a:xfrm>
          <a:prstGeom prst="rect">
            <a:avLst/>
          </a:prstGeom>
          <a:ln w="0">
            <a:noFill/>
          </a:ln>
        </p:spPr>
      </p:pic>
      <p:sp>
        <p:nvSpPr>
          <p:cNvPr id="1065" name="TextBox 26"/>
          <p:cNvSpPr/>
          <p:nvPr/>
        </p:nvSpPr>
        <p:spPr>
          <a:xfrm>
            <a:off x="142920" y="3857760"/>
            <a:ext cx="5357880" cy="180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ш земляк (ст.Егорлыкская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ершил  5  космических полё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Прямоугольник 27" descr=""/>
          <p:cNvPicPr/>
          <p:nvPr/>
        </p:nvPicPr>
        <p:blipFill>
          <a:blip r:embed="rId13"/>
          <a:stretch/>
        </p:blipFill>
        <p:spPr>
          <a:xfrm>
            <a:off x="6802560" y="5443560"/>
            <a:ext cx="1792080" cy="1133280"/>
          </a:xfrm>
          <a:prstGeom prst="rect">
            <a:avLst/>
          </a:prstGeom>
          <a:ln w="0">
            <a:noFill/>
          </a:ln>
        </p:spPr>
      </p:pic>
      <p:pic>
        <p:nvPicPr>
          <p:cNvPr id="1067" name="Прямоугольник 28" descr=""/>
          <p:cNvPicPr/>
          <p:nvPr/>
        </p:nvPicPr>
        <p:blipFill>
          <a:blip r:embed="rId14"/>
          <a:stretch/>
        </p:blipFill>
        <p:spPr>
          <a:xfrm>
            <a:off x="414360" y="1195560"/>
            <a:ext cx="8308800" cy="3979800"/>
          </a:xfrm>
          <a:prstGeom prst="rect">
            <a:avLst/>
          </a:prstGeom>
          <a:ln w="0">
            <a:noFill/>
          </a:ln>
        </p:spPr>
      </p:pic>
      <p:sp>
        <p:nvSpPr>
          <p:cNvPr id="1068" name="WordArt 26"/>
          <p:cNvSpPr txBox="1"/>
          <p:nvPr/>
        </p:nvSpPr>
        <p:spPr>
          <a:xfrm>
            <a:off x="6156360" y="5589720"/>
            <a:ext cx="2495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аленти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ерешк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0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2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2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2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3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2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2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2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0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0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500"/>
                            </p:stCondLst>
                            <p:childTnLst>
                              <p:par>
                                <p:cTn id="1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2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2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7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2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7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5" dur="2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2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2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0" name="WordArt 6"/>
          <p:cNvSpPr txBox="1"/>
          <p:nvPr/>
        </p:nvSpPr>
        <p:spPr>
          <a:xfrm>
            <a:off x="898560" y="404640"/>
            <a:ext cx="734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мейный фотоальбом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1" name="Рисунок 95" descr="http://www.cosmoworld.ru/spaceencyclopedia/gagarin/gagarin10.jpg"/>
          <p:cNvPicPr/>
          <p:nvPr/>
        </p:nvPicPr>
        <p:blipFill>
          <a:blip r:embed="rId2"/>
          <a:stretch/>
        </p:blipFill>
        <p:spPr>
          <a:xfrm>
            <a:off x="5000760" y="1285920"/>
            <a:ext cx="3809880" cy="28861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072" name="Рисунок 580" descr="http://www.cosmoworld.ru/spaceencyclopedia/gagarin/gagarin_2_45.jpg"/>
          <p:cNvPicPr/>
          <p:nvPr/>
        </p:nvPicPr>
        <p:blipFill>
          <a:blip r:embed="rId3"/>
          <a:stretch/>
        </p:blipFill>
        <p:spPr>
          <a:xfrm>
            <a:off x="357120" y="1214280"/>
            <a:ext cx="3786120" cy="2727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73" name="Рисунок 666" descr="http://www.cosmoworld.ru/spaceencyclopedia/gagarin/gagarin_2_44.jpg"/>
          <p:cNvPicPr/>
          <p:nvPr/>
        </p:nvPicPr>
        <p:blipFill>
          <a:blip r:embed="rId4"/>
          <a:stretch/>
        </p:blipFill>
        <p:spPr>
          <a:xfrm>
            <a:off x="357120" y="4124160"/>
            <a:ext cx="3714840" cy="2665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74" name="Picture 12" descr="1-5681small"/>
          <p:cNvPicPr/>
          <p:nvPr/>
        </p:nvPicPr>
        <p:blipFill>
          <a:blip r:embed="rId5"/>
          <a:stretch/>
        </p:blipFill>
        <p:spPr>
          <a:xfrm>
            <a:off x="5357880" y="4500720"/>
            <a:ext cx="2857320" cy="19810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75" name="Рисунок 81" descr="http://www.cosmoworld.ru/spaceencyclopedia/gagarin/gagarin11.jpg"/>
          <p:cNvPicPr/>
          <p:nvPr/>
        </p:nvPicPr>
        <p:blipFill>
          <a:blip r:embed="rId6"/>
          <a:stretch/>
        </p:blipFill>
        <p:spPr>
          <a:xfrm>
            <a:off x="500040" y="1214280"/>
            <a:ext cx="3456000" cy="31798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076" name="Рисунок 590" descr="http://www.cosmoworld.ru/spaceencyclopedia/gagarin/gagarin_2_05.jpg"/>
          <p:cNvPicPr/>
          <p:nvPr/>
        </p:nvPicPr>
        <p:blipFill>
          <a:blip r:embed="rId7"/>
          <a:stretch/>
        </p:blipFill>
        <p:spPr>
          <a:xfrm>
            <a:off x="4857840" y="1357200"/>
            <a:ext cx="3809880" cy="26766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077" name="Picture 11" descr="1-2118small"/>
          <p:cNvPicPr/>
          <p:nvPr/>
        </p:nvPicPr>
        <p:blipFill>
          <a:blip r:embed="rId8"/>
          <a:stretch/>
        </p:blipFill>
        <p:spPr>
          <a:xfrm>
            <a:off x="3571920" y="3786120"/>
            <a:ext cx="2143080" cy="28861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78" name="Picture 13" descr="гагарин.jpg"/>
          <p:cNvPicPr/>
          <p:nvPr/>
        </p:nvPicPr>
        <p:blipFill>
          <a:blip r:embed="rId9"/>
          <a:stretch/>
        </p:blipFill>
        <p:spPr>
          <a:xfrm>
            <a:off x="2124000" y="1413000"/>
            <a:ext cx="4896000" cy="4824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p:transition>
    <p:fade/>
  </p:transition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0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2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2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2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2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8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500"/>
                            </p:stCondLst>
                            <p:childTnLst>
                              <p:par>
                                <p:cTn id="1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2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2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2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9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2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500"/>
                            </p:stCondLst>
                            <p:childTnLst>
                              <p:par>
                                <p:cTn id="1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2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2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2" dur="2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0" name="WordArt 5"/>
          <p:cNvSpPr txBox="1"/>
          <p:nvPr/>
        </p:nvSpPr>
        <p:spPr>
          <a:xfrm>
            <a:off x="1547640" y="404640"/>
            <a:ext cx="62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27 марта 1968 года...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1081" name="Рисунок 84" descr="http://www.cosmoworld.ru/spaceencyclopedia/gagarin/gagarin14.jpg"/>
          <p:cNvPicPr/>
          <p:nvPr/>
        </p:nvPicPr>
        <p:blipFill>
          <a:blip r:embed="rId2"/>
          <a:stretch/>
        </p:blipFill>
        <p:spPr>
          <a:xfrm>
            <a:off x="2376360" y="2062080"/>
            <a:ext cx="4391280" cy="27338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082" name="WordArt 8"/>
          <p:cNvSpPr txBox="1"/>
          <p:nvPr/>
        </p:nvSpPr>
        <p:spPr>
          <a:xfrm>
            <a:off x="1979640" y="4797360"/>
            <a:ext cx="5761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следние 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1 минут в небе...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Вечная Слава!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3" name="Рисунок 772" descr="http://files.school-collection.edu.ru/dlrstore/78e74112-0a01-022a-007a-140fe6c40e05/%5bEST5_04-28%5d_%5bPD_03%5d.jpg"/>
          <p:cNvPicPr/>
          <p:nvPr/>
        </p:nvPicPr>
        <p:blipFill>
          <a:blip r:embed="rId3"/>
          <a:stretch/>
        </p:blipFill>
        <p:spPr>
          <a:xfrm>
            <a:off x="1868400" y="404640"/>
            <a:ext cx="5405400" cy="54057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084" name="WordArt 10"/>
          <p:cNvSpPr txBox="1"/>
          <p:nvPr/>
        </p:nvSpPr>
        <p:spPr>
          <a:xfrm>
            <a:off x="1042920" y="5516640"/>
            <a:ext cx="7561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Для нас ТЫ всег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ЕРВЫЙ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0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2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2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6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0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WordArt 6"/>
          <p:cNvSpPr txBox="1"/>
          <p:nvPr/>
        </p:nvSpPr>
        <p:spPr>
          <a:xfrm>
            <a:off x="468360" y="476280"/>
            <a:ext cx="745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ст "Изучение уровня внимания".</a:t>
            </a:r>
            <a:endParaRPr b="1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6" name="Text Box 7"/>
          <p:cNvSpPr/>
          <p:nvPr/>
        </p:nvSpPr>
        <p:spPr>
          <a:xfrm>
            <a:off x="468360" y="1773360"/>
            <a:ext cx="8372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Стар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ы </a:t>
            </a: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лебеди склонили перед ним гордые шеи. Взрослые и 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дти </a:t>
            </a: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толпились на берегу. 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Внизу </a:t>
            </a: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над ними расстилалась ледяная пустыня. В от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ф</a:t>
            </a: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ет я 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кивал </a:t>
            </a: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ему рукой. Солнце дохо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т</a:t>
            </a: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ило до верхушек деревьев и 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т</a:t>
            </a: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ряталось за ними. Сорняки живучи и плодовиты. Я уже заснул, когда кто – то окликнул меня. На столе лежала карта 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на шего </a:t>
            </a: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города. 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Самолёт сюда</a:t>
            </a: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, чтобы помочь людям. 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Скоро удалось мне на маш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WordArt 8"/>
          <p:cNvSpPr txBox="1"/>
          <p:nvPr/>
        </p:nvSpPr>
        <p:spPr>
          <a:xfrm>
            <a:off x="1511280" y="6165720"/>
            <a:ext cx="6121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удь внимательным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8" name="Picture 9" descr="j0299125"/>
          <p:cNvPicPr/>
          <p:nvPr/>
        </p:nvPicPr>
        <p:blipFill>
          <a:blip r:embed="rId1"/>
          <a:stretch/>
        </p:blipFill>
        <p:spPr>
          <a:xfrm flipH="1">
            <a:off x="8027640" y="189000"/>
            <a:ext cx="841320" cy="141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0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7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2000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9" descr="J0189248"/>
          <p:cNvPicPr/>
          <p:nvPr/>
        </p:nvPicPr>
        <p:blipFill>
          <a:blip r:embed="rId1"/>
          <a:stretch/>
        </p:blipFill>
        <p:spPr>
          <a:xfrm>
            <a:off x="0" y="-3240"/>
            <a:ext cx="8893080" cy="6861240"/>
          </a:xfrm>
          <a:prstGeom prst="rect">
            <a:avLst/>
          </a:prstGeom>
          <a:ln w="0">
            <a:noFill/>
          </a:ln>
        </p:spPr>
      </p:pic>
      <p:sp>
        <p:nvSpPr>
          <p:cNvPr id="844" name="AutoShape 10">
            <a:hlinkClick r:id="rId2" action="ppaction://hlinksldjump"/>
          </p:cNvPr>
          <p:cNvSpPr/>
          <p:nvPr/>
        </p:nvSpPr>
        <p:spPr>
          <a:xfrm rot="5673600">
            <a:off x="2305080" y="1447560"/>
            <a:ext cx="2950920" cy="2881440"/>
          </a:xfrm>
          <a:prstGeom prst="pi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14">
            <a:hlinkClick r:id="rId3" action="ppaction://hlinksldjump"/>
          </p:cNvPr>
          <p:cNvSpPr/>
          <p:nvPr/>
        </p:nvSpPr>
        <p:spPr>
          <a:xfrm rot="5125800">
            <a:off x="433440" y="3679560"/>
            <a:ext cx="2950920" cy="2881440"/>
          </a:xfrm>
          <a:prstGeom prst="pi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15">
            <a:hlinkClick r:id="rId4" action="ppaction://hlinksldjump"/>
          </p:cNvPr>
          <p:cNvSpPr/>
          <p:nvPr/>
        </p:nvSpPr>
        <p:spPr>
          <a:xfrm rot="2189400">
            <a:off x="4787640" y="3644640"/>
            <a:ext cx="2950920" cy="2881080"/>
          </a:xfrm>
          <a:prstGeom prst="pi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16">
            <a:hlinkClick r:id="rId5" action="ppaction://hlinksldjump"/>
          </p:cNvPr>
          <p:cNvSpPr/>
          <p:nvPr/>
        </p:nvSpPr>
        <p:spPr>
          <a:xfrm rot="5909400">
            <a:off x="6227280" y="1376280"/>
            <a:ext cx="2951280" cy="2881440"/>
          </a:xfrm>
          <a:prstGeom prst="pi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8">
            <a:hlinkClick r:id="rId6" action="ppaction://hlinksldjump"/>
          </p:cNvPr>
          <p:cNvSpPr/>
          <p:nvPr/>
        </p:nvSpPr>
        <p:spPr>
          <a:xfrm>
            <a:off x="2987640" y="24922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Первый  космонав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0">
            <a:hlinkClick r:id="rId7" action="ppaction://hlinksldjump"/>
          </p:cNvPr>
          <p:cNvSpPr/>
          <p:nvPr/>
        </p:nvSpPr>
        <p:spPr>
          <a:xfrm>
            <a:off x="971640" y="458136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Хроника Великого         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>
            <a:hlinkClick r:id="rId8" action="ppaction://hlinksldjump"/>
          </p:cNvPr>
          <p:cNvSpPr/>
          <p:nvPr/>
        </p:nvSpPr>
        <p:spPr>
          <a:xfrm>
            <a:off x="6948360" y="2349360"/>
            <a:ext cx="1441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Поч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агари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2">
            <a:hlinkClick r:id="rId9" action="ppaction://hlinksldjump"/>
          </p:cNvPr>
          <p:cNvSpPr/>
          <p:nvPr/>
        </p:nvSpPr>
        <p:spPr>
          <a:xfrm>
            <a:off x="5364000" y="4869000"/>
            <a:ext cx="17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Наш Гага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WordArt 23"/>
          <p:cNvSpPr txBox="1"/>
          <p:nvPr/>
        </p:nvSpPr>
        <p:spPr>
          <a:xfrm>
            <a:off x="0" y="476280"/>
            <a:ext cx="799308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Ход классного ча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5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WordArt 3"/>
          <p:cNvSpPr txBox="1"/>
          <p:nvPr/>
        </p:nvSpPr>
        <p:spPr>
          <a:xfrm>
            <a:off x="900000" y="549360"/>
            <a:ext cx="705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верь себя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0" name="Text Box 4"/>
          <p:cNvSpPr/>
          <p:nvPr/>
        </p:nvSpPr>
        <p:spPr>
          <a:xfrm>
            <a:off x="684360" y="1773360"/>
            <a:ext cx="813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0 - 2 ВЫСШИЙ уровень вним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ТЫ МОЖЕШЬ СТАТЬ КОСМОНАВ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5"/>
          <p:cNvSpPr/>
          <p:nvPr/>
        </p:nvSpPr>
        <p:spPr>
          <a:xfrm>
            <a:off x="611280" y="3213000"/>
            <a:ext cx="820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3 - 4 СРЕДНИЙ уровень вним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ПОТРЕНИРУЙСЯ ЕЩЁ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6"/>
          <p:cNvSpPr/>
          <p:nvPr/>
        </p:nvSpPr>
        <p:spPr>
          <a:xfrm>
            <a:off x="611280" y="4869000"/>
            <a:ext cx="831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Более 5 – НИЗКИЙ уровень вним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ВЫБЕРИ ПРОФЕССИЮ НА  ЗЕМЛ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2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2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2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2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2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2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2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2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WordArt 6"/>
          <p:cNvSpPr txBox="1"/>
          <p:nvPr/>
        </p:nvSpPr>
        <p:spPr>
          <a:xfrm>
            <a:off x="539640" y="404640"/>
            <a:ext cx="806472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Любой космический маршрут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крыт для тех, кто любит труд"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4" name="Rectangle 7"/>
          <p:cNvSpPr/>
          <p:nvPr/>
        </p:nvSpPr>
        <p:spPr>
          <a:xfrm>
            <a:off x="5435640" y="2565360"/>
            <a:ext cx="1368360" cy="2735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AutoShape 8"/>
          <p:cNvSpPr/>
          <p:nvPr/>
        </p:nvSpPr>
        <p:spPr>
          <a:xfrm>
            <a:off x="1908000" y="1700280"/>
            <a:ext cx="1584360" cy="2160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AutoShape 10"/>
          <p:cNvSpPr/>
          <p:nvPr/>
        </p:nvSpPr>
        <p:spPr>
          <a:xfrm flipH="1">
            <a:off x="539640" y="3645000"/>
            <a:ext cx="1008000" cy="194472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11"/>
          <p:cNvSpPr/>
          <p:nvPr/>
        </p:nvSpPr>
        <p:spPr>
          <a:xfrm>
            <a:off x="2700360" y="4869000"/>
            <a:ext cx="64764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AutoShape 12"/>
          <p:cNvSpPr/>
          <p:nvPr/>
        </p:nvSpPr>
        <p:spPr>
          <a:xfrm>
            <a:off x="7596360" y="1844640"/>
            <a:ext cx="1008000" cy="194472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AutoShape 13"/>
          <p:cNvSpPr/>
          <p:nvPr/>
        </p:nvSpPr>
        <p:spPr>
          <a:xfrm flipH="1">
            <a:off x="4427640" y="2060640"/>
            <a:ext cx="288720" cy="172872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WordArt 14"/>
          <p:cNvSpPr txBox="1"/>
          <p:nvPr/>
        </p:nvSpPr>
        <p:spPr>
          <a:xfrm rot="20628600">
            <a:off x="4500720" y="5444640"/>
            <a:ext cx="433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Сконструируй ракету.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1101" name="AutoShape 10"/>
          <p:cNvSpPr/>
          <p:nvPr/>
        </p:nvSpPr>
        <p:spPr>
          <a:xfrm>
            <a:off x="8494560" y="6165720"/>
            <a:ext cx="649440" cy="692280"/>
          </a:xfrm>
          <a:custGeom>
            <a:avLst/>
            <a:gdLst>
              <a:gd name="textAreaLeft" fmla="*/ 267480 w 649440"/>
              <a:gd name="textAreaRight" fmla="*/ 381960 w 649440"/>
              <a:gd name="textAreaTop" fmla="*/ 285120 h 692280"/>
              <a:gd name="textAreaBottom" fmla="*/ 407160 h 69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0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1" dur="2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4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2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2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2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2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2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2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2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2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2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2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2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2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2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2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2" name="Group 17"/>
          <p:cNvGrpSpPr/>
          <p:nvPr/>
        </p:nvGrpSpPr>
        <p:grpSpPr>
          <a:xfrm>
            <a:off x="250920" y="5229360"/>
            <a:ext cx="1152360" cy="1368360"/>
            <a:chOff x="250920" y="5229360"/>
            <a:chExt cx="1152360" cy="1368360"/>
          </a:xfrm>
        </p:grpSpPr>
        <p:sp>
          <p:nvSpPr>
            <p:cNvPr id="1103" name="AutoShape 18"/>
            <p:cNvSpPr/>
            <p:nvPr/>
          </p:nvSpPr>
          <p:spPr>
            <a:xfrm>
              <a:off x="250920" y="5229360"/>
              <a:ext cx="1152360" cy="136836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WordArt 19"/>
            <p:cNvSpPr txBox="1"/>
            <p:nvPr/>
          </p:nvSpPr>
          <p:spPr>
            <a:xfrm>
              <a:off x="475200" y="5647320"/>
              <a:ext cx="453240" cy="79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к</a:t>
              </a:r>
              <a:endPara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05" name="Group 8"/>
          <p:cNvGrpSpPr/>
          <p:nvPr/>
        </p:nvGrpSpPr>
        <p:grpSpPr>
          <a:xfrm>
            <a:off x="755640" y="4437000"/>
            <a:ext cx="1079640" cy="1152720"/>
            <a:chOff x="755640" y="4437000"/>
            <a:chExt cx="1079640" cy="1152720"/>
          </a:xfrm>
        </p:grpSpPr>
        <p:sp>
          <p:nvSpPr>
            <p:cNvPr id="1106" name="AutoShape 9"/>
            <p:cNvSpPr/>
            <p:nvPr/>
          </p:nvSpPr>
          <p:spPr>
            <a:xfrm>
              <a:off x="755640" y="4437000"/>
              <a:ext cx="1079640" cy="115272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WordArt 10"/>
            <p:cNvSpPr txBox="1"/>
            <p:nvPr/>
          </p:nvSpPr>
          <p:spPr>
            <a:xfrm>
              <a:off x="946080" y="4821120"/>
              <a:ext cx="444240" cy="640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О</a:t>
              </a:r>
              <a:endPara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08" name="Group 20"/>
          <p:cNvGrpSpPr/>
          <p:nvPr/>
        </p:nvGrpSpPr>
        <p:grpSpPr>
          <a:xfrm>
            <a:off x="1187280" y="3645000"/>
            <a:ext cx="1008360" cy="1150920"/>
            <a:chOff x="1187280" y="3645000"/>
            <a:chExt cx="1008360" cy="1150920"/>
          </a:xfrm>
        </p:grpSpPr>
        <p:sp>
          <p:nvSpPr>
            <p:cNvPr id="1109" name="AutoShape 21"/>
            <p:cNvSpPr/>
            <p:nvPr/>
          </p:nvSpPr>
          <p:spPr>
            <a:xfrm>
              <a:off x="1187280" y="3645000"/>
              <a:ext cx="1008360" cy="115092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WordArt 22"/>
            <p:cNvSpPr txBox="1"/>
            <p:nvPr/>
          </p:nvSpPr>
          <p:spPr>
            <a:xfrm>
              <a:off x="1365120" y="4028400"/>
              <a:ext cx="474480" cy="68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8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с</a:t>
              </a:r>
              <a:endPara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11" name="Group 23"/>
          <p:cNvGrpSpPr/>
          <p:nvPr/>
        </p:nvGrpSpPr>
        <p:grpSpPr>
          <a:xfrm>
            <a:off x="1763640" y="2708280"/>
            <a:ext cx="1079640" cy="1224000"/>
            <a:chOff x="1763640" y="2708280"/>
            <a:chExt cx="1079640" cy="1224000"/>
          </a:xfrm>
        </p:grpSpPr>
        <p:sp>
          <p:nvSpPr>
            <p:cNvPr id="1112" name="AutoShape 24"/>
            <p:cNvSpPr/>
            <p:nvPr/>
          </p:nvSpPr>
          <p:spPr>
            <a:xfrm>
              <a:off x="1763640" y="2708280"/>
              <a:ext cx="1079640" cy="122400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WordArt 25"/>
            <p:cNvSpPr txBox="1"/>
            <p:nvPr/>
          </p:nvSpPr>
          <p:spPr>
            <a:xfrm>
              <a:off x="1954080" y="3116160"/>
              <a:ext cx="468000" cy="71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1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м</a:t>
              </a:r>
              <a:endPara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14" name="Group 5"/>
          <p:cNvGrpSpPr/>
          <p:nvPr/>
        </p:nvGrpSpPr>
        <p:grpSpPr>
          <a:xfrm>
            <a:off x="2411280" y="1989000"/>
            <a:ext cx="1081080" cy="1081080"/>
            <a:chOff x="2411280" y="1989000"/>
            <a:chExt cx="1081080" cy="1081080"/>
          </a:xfrm>
        </p:grpSpPr>
        <p:sp>
          <p:nvSpPr>
            <p:cNvPr id="1115" name="AutoShape 6"/>
            <p:cNvSpPr/>
            <p:nvPr/>
          </p:nvSpPr>
          <p:spPr>
            <a:xfrm>
              <a:off x="2411280" y="1989000"/>
              <a:ext cx="1081080" cy="1081080"/>
            </a:xfrm>
            <a:prstGeom prst="cube">
              <a:avLst>
                <a:gd name="adj" fmla="val 2500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WordArt 7"/>
            <p:cNvSpPr txBox="1"/>
            <p:nvPr/>
          </p:nvSpPr>
          <p:spPr>
            <a:xfrm>
              <a:off x="2665440" y="2349360"/>
              <a:ext cx="397440" cy="64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О</a:t>
              </a:r>
              <a:endPara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17" name="Group 29"/>
          <p:cNvGrpSpPr/>
          <p:nvPr/>
        </p:nvGrpSpPr>
        <p:grpSpPr>
          <a:xfrm>
            <a:off x="3059280" y="1341360"/>
            <a:ext cx="1223640" cy="1008000"/>
            <a:chOff x="3059280" y="1341360"/>
            <a:chExt cx="1223640" cy="1008000"/>
          </a:xfrm>
        </p:grpSpPr>
        <p:sp>
          <p:nvSpPr>
            <p:cNvPr id="1118" name="AutoShape 30"/>
            <p:cNvSpPr/>
            <p:nvPr/>
          </p:nvSpPr>
          <p:spPr>
            <a:xfrm>
              <a:off x="3059280" y="1341360"/>
              <a:ext cx="1223640" cy="1008000"/>
            </a:xfrm>
            <a:prstGeom prst="cube">
              <a:avLst>
                <a:gd name="adj" fmla="val 2500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WordArt 31"/>
            <p:cNvSpPr txBox="1"/>
            <p:nvPr/>
          </p:nvSpPr>
          <p:spPr>
            <a:xfrm>
              <a:off x="3346920" y="1677240"/>
              <a:ext cx="427320" cy="60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7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н</a:t>
              </a:r>
              <a:endParaRPr b="0" lang="en-US" sz="1800" spc="1" strike="noStrike">
                <a:ln w="0">
                  <a:noFill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20" name="Group 32"/>
          <p:cNvGrpSpPr/>
          <p:nvPr/>
        </p:nvGrpSpPr>
        <p:grpSpPr>
          <a:xfrm>
            <a:off x="3959280" y="1557360"/>
            <a:ext cx="1224000" cy="1008000"/>
            <a:chOff x="3959280" y="1557360"/>
            <a:chExt cx="1224000" cy="1008000"/>
          </a:xfrm>
        </p:grpSpPr>
        <p:sp>
          <p:nvSpPr>
            <p:cNvPr id="1121" name="AutoShape 33"/>
            <p:cNvSpPr/>
            <p:nvPr/>
          </p:nvSpPr>
          <p:spPr>
            <a:xfrm>
              <a:off x="3959280" y="1557360"/>
              <a:ext cx="1224000" cy="1008000"/>
            </a:xfrm>
            <a:prstGeom prst="cube">
              <a:avLst>
                <a:gd name="adj" fmla="val 25000"/>
              </a:avLst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WordArt 34"/>
            <p:cNvSpPr txBox="1"/>
            <p:nvPr/>
          </p:nvSpPr>
          <p:spPr>
            <a:xfrm>
              <a:off x="4175280" y="1893240"/>
              <a:ext cx="575640" cy="60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20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а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23" name="Group 35"/>
          <p:cNvGrpSpPr/>
          <p:nvPr/>
        </p:nvGrpSpPr>
        <p:grpSpPr>
          <a:xfrm>
            <a:off x="4859280" y="1989000"/>
            <a:ext cx="1152720" cy="1079640"/>
            <a:chOff x="4859280" y="1989000"/>
            <a:chExt cx="1152720" cy="1079640"/>
          </a:xfrm>
        </p:grpSpPr>
        <p:sp>
          <p:nvSpPr>
            <p:cNvPr id="1124" name="AutoShape 36"/>
            <p:cNvSpPr/>
            <p:nvPr/>
          </p:nvSpPr>
          <p:spPr>
            <a:xfrm>
              <a:off x="4859280" y="1989000"/>
              <a:ext cx="1152720" cy="1079640"/>
            </a:xfrm>
            <a:prstGeom prst="cube">
              <a:avLst>
                <a:gd name="adj" fmla="val 25000"/>
              </a:avLst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WordArt 37"/>
            <p:cNvSpPr txBox="1"/>
            <p:nvPr/>
          </p:nvSpPr>
          <p:spPr>
            <a:xfrm>
              <a:off x="5062680" y="2348640"/>
              <a:ext cx="474480" cy="59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23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в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4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26" name="Group 11"/>
          <p:cNvGrpSpPr/>
          <p:nvPr/>
        </p:nvGrpSpPr>
        <p:grpSpPr>
          <a:xfrm>
            <a:off x="5580000" y="2781360"/>
            <a:ext cx="1079640" cy="1008000"/>
            <a:chOff x="5580000" y="2781360"/>
            <a:chExt cx="1079640" cy="1008000"/>
          </a:xfrm>
        </p:grpSpPr>
        <p:sp>
          <p:nvSpPr>
            <p:cNvPr id="1127" name="AutoShape 12"/>
            <p:cNvSpPr/>
            <p:nvPr/>
          </p:nvSpPr>
          <p:spPr>
            <a:xfrm>
              <a:off x="5580000" y="2781360"/>
              <a:ext cx="1079640" cy="1008000"/>
            </a:xfrm>
            <a:prstGeom prst="cube">
              <a:avLst>
                <a:gd name="adj" fmla="val 25000"/>
              </a:avLst>
            </a:pr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WordArt 13"/>
            <p:cNvSpPr txBox="1"/>
            <p:nvPr/>
          </p:nvSpPr>
          <p:spPr>
            <a:xfrm>
              <a:off x="5897160" y="3117240"/>
              <a:ext cx="380880" cy="60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26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Т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7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29" name="Group 14"/>
          <p:cNvGrpSpPr/>
          <p:nvPr/>
        </p:nvGrpSpPr>
        <p:grpSpPr>
          <a:xfrm>
            <a:off x="6227640" y="3500280"/>
            <a:ext cx="1224000" cy="1224000"/>
            <a:chOff x="6227640" y="3500280"/>
            <a:chExt cx="1224000" cy="1224000"/>
          </a:xfrm>
        </p:grpSpPr>
        <p:sp>
          <p:nvSpPr>
            <p:cNvPr id="1130" name="AutoShape 15"/>
            <p:cNvSpPr/>
            <p:nvPr/>
          </p:nvSpPr>
          <p:spPr>
            <a:xfrm>
              <a:off x="6227640" y="3500280"/>
              <a:ext cx="1224000" cy="1224000"/>
            </a:xfrm>
            <a:prstGeom prst="cube">
              <a:avLst>
                <a:gd name="adj" fmla="val 25000"/>
              </a:avLst>
            </a:pr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WordArt 16"/>
            <p:cNvSpPr txBox="1"/>
            <p:nvPr/>
          </p:nvSpPr>
          <p:spPr>
            <a:xfrm>
              <a:off x="6515640" y="3840480"/>
              <a:ext cx="476640" cy="73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29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И</a:t>
              </a:r>
              <a:endParaRPr b="0" lang="en-US" sz="1800" spc="1" strike="noStrike">
                <a:ln w="0">
                  <a:noFill/>
                </a:ln>
                <a:blipFill rotWithShape="0">
                  <a:blip r:embed="rId30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32" name="Group 38"/>
          <p:cNvGrpSpPr/>
          <p:nvPr/>
        </p:nvGrpSpPr>
        <p:grpSpPr>
          <a:xfrm>
            <a:off x="6948360" y="4581360"/>
            <a:ext cx="1224000" cy="1152720"/>
            <a:chOff x="6948360" y="4581360"/>
            <a:chExt cx="1224000" cy="1152720"/>
          </a:xfrm>
        </p:grpSpPr>
        <p:sp>
          <p:nvSpPr>
            <p:cNvPr id="1133" name="AutoShape 39"/>
            <p:cNvSpPr/>
            <p:nvPr/>
          </p:nvSpPr>
          <p:spPr>
            <a:xfrm>
              <a:off x="6948360" y="4581360"/>
              <a:ext cx="1224000" cy="1152720"/>
            </a:xfrm>
            <a:prstGeom prst="cube">
              <a:avLst>
                <a:gd name="adj" fmla="val 25000"/>
              </a:avLst>
            </a:pr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WordArt 40"/>
            <p:cNvSpPr txBox="1"/>
            <p:nvPr/>
          </p:nvSpPr>
          <p:spPr>
            <a:xfrm>
              <a:off x="7092000" y="4981320"/>
              <a:ext cx="625320" cy="688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2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к</a:t>
              </a:r>
              <a:endPara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35" name="Group 26"/>
          <p:cNvGrpSpPr/>
          <p:nvPr/>
        </p:nvGrpSpPr>
        <p:grpSpPr>
          <a:xfrm>
            <a:off x="7524720" y="5445000"/>
            <a:ext cx="1224000" cy="1079640"/>
            <a:chOff x="7524720" y="5445000"/>
            <a:chExt cx="1224000" cy="1079640"/>
          </a:xfrm>
        </p:grpSpPr>
        <p:sp>
          <p:nvSpPr>
            <p:cNvPr id="1136" name="AutoShape 27"/>
            <p:cNvSpPr/>
            <p:nvPr/>
          </p:nvSpPr>
          <p:spPr>
            <a:xfrm>
              <a:off x="7524720" y="5445000"/>
              <a:ext cx="1224000" cy="1079640"/>
            </a:xfrm>
            <a:prstGeom prst="cube">
              <a:avLst>
                <a:gd name="adj" fmla="val 25000"/>
              </a:avLst>
            </a:pr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WordArt 28"/>
            <p:cNvSpPr txBox="1"/>
            <p:nvPr/>
          </p:nvSpPr>
          <p:spPr>
            <a:xfrm>
              <a:off x="7812360" y="5804640"/>
              <a:ext cx="450000" cy="64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5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а</a:t>
              </a:r>
              <a:endParaRPr b="0" lang="en-US" sz="1800" spc="1" strike="noStrike">
                <a:ln w="0">
                  <a:noFill/>
                </a:ln>
                <a:blipFill rotWithShape="0">
                  <a:blip r:embed="rId36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138" name="WordArt 4"/>
          <p:cNvSpPr txBox="1"/>
          <p:nvPr/>
        </p:nvSpPr>
        <p:spPr>
          <a:xfrm>
            <a:off x="539640" y="333360"/>
            <a:ext cx="82105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мый умный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39" name="Picture 41" descr="boy1"/>
          <p:cNvPicPr/>
          <p:nvPr/>
        </p:nvPicPr>
        <p:blipFill>
          <a:blip r:embed="rId37"/>
          <a:stretch/>
        </p:blipFill>
        <p:spPr>
          <a:xfrm>
            <a:off x="3403440" y="3933720"/>
            <a:ext cx="2337120" cy="257976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43" descr="PEOP2141"/>
          <p:cNvPicPr/>
          <p:nvPr/>
        </p:nvPicPr>
        <p:blipFill>
          <a:blip r:embed="rId38"/>
          <a:stretch/>
        </p:blipFill>
        <p:spPr>
          <a:xfrm>
            <a:off x="250920" y="1700280"/>
            <a:ext cx="1150920" cy="188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0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3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9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WordArt 4"/>
          <p:cNvSpPr txBox="1"/>
          <p:nvPr/>
        </p:nvSpPr>
        <p:spPr>
          <a:xfrm>
            <a:off x="539640" y="404640"/>
            <a:ext cx="806472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осмонавтом хочешь стать,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лжен много - много знать"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2" name="WordArt 5"/>
          <p:cNvSpPr txBox="1"/>
          <p:nvPr/>
        </p:nvSpPr>
        <p:spPr>
          <a:xfrm>
            <a:off x="466560" y="2349360"/>
            <a:ext cx="821088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Сколько времени был в полёте Гагарин?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3" name="WordArt 6"/>
          <p:cNvSpPr txBox="1"/>
          <p:nvPr/>
        </p:nvSpPr>
        <p:spPr>
          <a:xfrm>
            <a:off x="468360" y="4869000"/>
            <a:ext cx="259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8 су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44" name="WordArt 7"/>
          <p:cNvSpPr txBox="1"/>
          <p:nvPr/>
        </p:nvSpPr>
        <p:spPr>
          <a:xfrm>
            <a:off x="3495600" y="573408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108 мину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45" name="WordArt 8"/>
          <p:cNvSpPr txBox="1"/>
          <p:nvPr/>
        </p:nvSpPr>
        <p:spPr>
          <a:xfrm>
            <a:off x="5940360" y="4724280"/>
            <a:ext cx="1866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10 ча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46" name="WordArt 9"/>
          <p:cNvSpPr txBox="1"/>
          <p:nvPr/>
        </p:nvSpPr>
        <p:spPr>
          <a:xfrm>
            <a:off x="395280" y="2133720"/>
            <a:ext cx="8353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На каком космическом корабле он летал?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7" name="WordArt 10"/>
          <p:cNvSpPr txBox="1"/>
          <p:nvPr/>
        </p:nvSpPr>
        <p:spPr>
          <a:xfrm>
            <a:off x="539640" y="4869000"/>
            <a:ext cx="216072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"Союз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48" name="WordArt 11"/>
          <p:cNvSpPr txBox="1"/>
          <p:nvPr/>
        </p:nvSpPr>
        <p:spPr>
          <a:xfrm>
            <a:off x="3089160" y="5445000"/>
            <a:ext cx="296388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"Меркурий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49" name="WordArt 12"/>
          <p:cNvSpPr txBox="1"/>
          <p:nvPr/>
        </p:nvSpPr>
        <p:spPr>
          <a:xfrm>
            <a:off x="5796000" y="4581360"/>
            <a:ext cx="280836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"Восток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50" name="WordArt 13"/>
          <p:cNvSpPr txBox="1"/>
          <p:nvPr/>
        </p:nvSpPr>
        <p:spPr>
          <a:xfrm>
            <a:off x="395280" y="2708280"/>
            <a:ext cx="835344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Какие позывные были у Юрия Гагарина?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1" name="WordArt 14"/>
          <p:cNvSpPr txBox="1"/>
          <p:nvPr/>
        </p:nvSpPr>
        <p:spPr>
          <a:xfrm>
            <a:off x="468360" y="4437000"/>
            <a:ext cx="237636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"Кедр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52" name="WordArt 15"/>
          <p:cNvSpPr txBox="1"/>
          <p:nvPr/>
        </p:nvSpPr>
        <p:spPr>
          <a:xfrm>
            <a:off x="3276720" y="5229360"/>
            <a:ext cx="2663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"Топол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53" name="WordArt 16"/>
          <p:cNvSpPr txBox="1"/>
          <p:nvPr/>
        </p:nvSpPr>
        <p:spPr>
          <a:xfrm>
            <a:off x="6012000" y="4797360"/>
            <a:ext cx="25923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"Звезд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0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2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5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8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1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5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8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4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500"/>
                            </p:stCondLst>
                            <p:childTnLst>
                              <p:par>
                                <p:cTn id="15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2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2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4" dur="2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7" dur="2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0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4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7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0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500"/>
                            </p:stCondLst>
                            <p:childTnLst>
                              <p:par>
                                <p:cTn id="1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2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2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3" dur="2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6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9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WordArt 8"/>
          <p:cNvSpPr txBox="1"/>
          <p:nvPr/>
        </p:nvSpPr>
        <p:spPr>
          <a:xfrm>
            <a:off x="539640" y="404640"/>
            <a:ext cx="806472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осмонавтом хочешь стать,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лжен много - много знать"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5" name="WordArt 9"/>
          <p:cNvSpPr txBox="1"/>
          <p:nvPr/>
        </p:nvSpPr>
        <p:spPr>
          <a:xfrm>
            <a:off x="287280" y="1916280"/>
            <a:ext cx="8569440" cy="19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Кто является конструктором космических кораблей?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6" name="WordArt 10"/>
          <p:cNvSpPr txBox="1"/>
          <p:nvPr/>
        </p:nvSpPr>
        <p:spPr>
          <a:xfrm>
            <a:off x="500040" y="4286160"/>
            <a:ext cx="3313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Н.С.ХРУЩЁ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57" name="WordArt 11"/>
          <p:cNvSpPr txBox="1"/>
          <p:nvPr/>
        </p:nvSpPr>
        <p:spPr>
          <a:xfrm>
            <a:off x="2771640" y="5300640"/>
            <a:ext cx="27241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.П.Королё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58" name="WordArt 12"/>
          <p:cNvSpPr txBox="1"/>
          <p:nvPr/>
        </p:nvSpPr>
        <p:spPr>
          <a:xfrm>
            <a:off x="5651640" y="4149720"/>
            <a:ext cx="30286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Ю.Левит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59" name="WordArt 13"/>
          <p:cNvSpPr txBox="1"/>
          <p:nvPr/>
        </p:nvSpPr>
        <p:spPr>
          <a:xfrm>
            <a:off x="574560" y="2349360"/>
            <a:ext cx="7993080" cy="13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.Кто полетел в космос вторым?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0" name="WordArt 14"/>
          <p:cNvSpPr txBox="1"/>
          <p:nvPr/>
        </p:nvSpPr>
        <p:spPr>
          <a:xfrm>
            <a:off x="1116000" y="4221000"/>
            <a:ext cx="2160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Г.Тит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1" name="WordArt 15"/>
          <p:cNvSpPr txBox="1"/>
          <p:nvPr/>
        </p:nvSpPr>
        <p:spPr>
          <a:xfrm>
            <a:off x="2556000" y="5445000"/>
            <a:ext cx="339552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В.Джанибе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2" name="WordArt 16"/>
          <p:cNvSpPr txBox="1"/>
          <p:nvPr/>
        </p:nvSpPr>
        <p:spPr>
          <a:xfrm>
            <a:off x="5508720" y="3860640"/>
            <a:ext cx="302400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А.Никола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fill="hold">
                      <p:stCondLst>
                        <p:cond delay="0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2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2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8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2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1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7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0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500"/>
                            </p:stCondLst>
                            <p:childTnLst>
                              <p:par>
                                <p:cTn id="16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2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2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7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2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3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6" dur="2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0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3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6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9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WordArt 9"/>
          <p:cNvSpPr txBox="1"/>
          <p:nvPr/>
        </p:nvSpPr>
        <p:spPr>
          <a:xfrm>
            <a:off x="539640" y="404640"/>
            <a:ext cx="806472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осмонавтом хочешь стать,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лжен много - много знать"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4" name="WordArt 10"/>
          <p:cNvSpPr txBox="1"/>
          <p:nvPr/>
        </p:nvSpPr>
        <p:spPr>
          <a:xfrm>
            <a:off x="358920" y="1916280"/>
            <a:ext cx="8424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.Кто совершил Первый выход в открытый космос?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5" name="WordArt 11"/>
          <p:cNvSpPr txBox="1"/>
          <p:nvPr/>
        </p:nvSpPr>
        <p:spPr>
          <a:xfrm>
            <a:off x="539640" y="4149720"/>
            <a:ext cx="2880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.Вол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6" name="WordArt 12"/>
          <p:cNvSpPr txBox="1"/>
          <p:nvPr/>
        </p:nvSpPr>
        <p:spPr>
          <a:xfrm>
            <a:off x="2843280" y="5516640"/>
            <a:ext cx="345600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.Комар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7" name="WordArt 13"/>
          <p:cNvSpPr txBox="1"/>
          <p:nvPr/>
        </p:nvSpPr>
        <p:spPr>
          <a:xfrm>
            <a:off x="6084720" y="4221000"/>
            <a:ext cx="24418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А.Лео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0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2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2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9" dur="2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2" dur="2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5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8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4" descr="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9" name="WordArt 7"/>
          <p:cNvSpPr txBox="1"/>
          <p:nvPr/>
        </p:nvSpPr>
        <p:spPr>
          <a:xfrm>
            <a:off x="250920" y="5300640"/>
            <a:ext cx="8208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Адрес:п. Целина ул. Механизаторов,38 а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70" name="WordArt 8"/>
          <p:cNvSpPr txBox="1"/>
          <p:nvPr/>
        </p:nvSpPr>
        <p:spPr>
          <a:xfrm>
            <a:off x="395280" y="6093000"/>
            <a:ext cx="799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E-mail:School 32 @ celina.donpak.ru.</a:t>
            </a:r>
            <a:endParaRPr b="1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71" name="WordArt 9"/>
          <p:cNvSpPr txBox="1"/>
          <p:nvPr/>
        </p:nvSpPr>
        <p:spPr>
          <a:xfrm rot="20712000">
            <a:off x="-180720" y="259920"/>
            <a:ext cx="7201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3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0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2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2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7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0" dur="2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3" dur="2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3" name="WordArt 9"/>
          <p:cNvSpPr txBox="1"/>
          <p:nvPr/>
        </p:nvSpPr>
        <p:spPr>
          <a:xfrm>
            <a:off x="324000" y="260280"/>
            <a:ext cx="8496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ерман Степанович Титов- </a:t>
            </a:r>
            <a:endParaRPr b="1" i="1" lang="en-US" sz="1800" spc="1" strike="noStrike">
              <a:ln w="9360">
                <a:solidFill>
                  <a:srgbClr val="ff66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вершил ПЕРВЫЙ в Мире многовитковый полёт.</a:t>
            </a:r>
            <a:endParaRPr b="1" i="1" lang="en-US" sz="1800" spc="1" strike="noStrike">
              <a:ln w="9360">
                <a:solidFill>
                  <a:srgbClr val="ff66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4" name="Text Box 11"/>
          <p:cNvSpPr/>
          <p:nvPr/>
        </p:nvSpPr>
        <p:spPr>
          <a:xfrm>
            <a:off x="250920" y="1916280"/>
            <a:ext cx="5765760" cy="4757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ётчик – космонавт, генерал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йтенант ави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дился в Алтайском крае. При подгото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вого в мире космического полё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ыл дублёром Юрия Алексеевича Гагар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ой космический полёт соверш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 -7 августа 1961 г. на корабл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утнике «ВОСТОК – 2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 был первый в мире многовитковый полё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ВОСТОК – 2» находился в полёте более су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сделал больше 17 витков вокруг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ёт Германа Степановича Титова доказа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человек может находиться в космо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статочно долгое врем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ерман  Степанович Титов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ерой Советского Сою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5" name="Picture 10" descr="Герман Титов, второй космонавт в мире."/>
          <p:cNvPicPr/>
          <p:nvPr/>
        </p:nvPicPr>
        <p:blipFill>
          <a:blip r:embed="rId2"/>
          <a:stretch/>
        </p:blipFill>
        <p:spPr>
          <a:xfrm>
            <a:off x="6227640" y="2708280"/>
            <a:ext cx="2737080" cy="2608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176" name="Picture 12" descr="b4a"/>
          <p:cNvPicPr/>
          <p:nvPr/>
        </p:nvPicPr>
        <p:blipFill>
          <a:blip r:embed="rId3"/>
          <a:stretch/>
        </p:blipFill>
        <p:spPr>
          <a:xfrm>
            <a:off x="7885080" y="18720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1177" name="AutoShape 10"/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162720 w 395280"/>
              <a:gd name="textAreaRight" fmla="*/ 232560 w 395280"/>
              <a:gd name="textAreaTop" fmla="*/ 196200 h 476280"/>
              <a:gd name="textAreaBottom" fmla="*/ 2800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4" dur="indefinite" restart="never" nodeType="tmRoot">
          <p:childTnLst>
            <p:seq>
              <p:cTn id="1735" dur="indefinite" nodeType="mainSeq">
                <p:childTnLst>
                  <p:par>
                    <p:cTn id="1736" fill="hold">
                      <p:stCondLst>
                        <p:cond delay="0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0" dur="2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2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2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2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8" dur="2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2" dur="2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9" name="Picture 9" descr="Терешкова Валентина первая женщина космонавт"/>
          <p:cNvPicPr/>
          <p:nvPr/>
        </p:nvPicPr>
        <p:blipFill>
          <a:blip r:embed="rId2"/>
          <a:stretch/>
        </p:blipFill>
        <p:spPr>
          <a:xfrm>
            <a:off x="250920" y="1484280"/>
            <a:ext cx="2431800" cy="3006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180" name="WordArt 10"/>
          <p:cNvSpPr txBox="1"/>
          <p:nvPr/>
        </p:nvSpPr>
        <p:spPr>
          <a:xfrm>
            <a:off x="468360" y="187200"/>
            <a:ext cx="8064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алентина Владимировна</a:t>
            </a:r>
            <a:endParaRPr b="1" lang="en-US" sz="1800" spc="1" strike="noStrike">
              <a:ln w="9360">
                <a:solidFill>
                  <a:srgbClr val="ff66cc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ерешкова- ПЕРВАЯ женщина космонавт.</a:t>
            </a:r>
            <a:endParaRPr b="1" lang="en-US" sz="1800" spc="1" strike="noStrike">
              <a:ln w="9360">
                <a:solidFill>
                  <a:srgbClr val="ff66cc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181" name="Picture 11" descr="b4a"/>
          <p:cNvPicPr/>
          <p:nvPr/>
        </p:nvPicPr>
        <p:blipFill>
          <a:blip r:embed="rId3"/>
          <a:stretch/>
        </p:blipFill>
        <p:spPr>
          <a:xfrm>
            <a:off x="7956720" y="0"/>
            <a:ext cx="936360" cy="936720"/>
          </a:xfrm>
          <a:prstGeom prst="rect">
            <a:avLst/>
          </a:prstGeom>
          <a:ln w="0">
            <a:noFill/>
          </a:ln>
        </p:spPr>
      </p:pic>
      <p:sp>
        <p:nvSpPr>
          <p:cNvPr id="1182" name="Text Box 12"/>
          <p:cNvSpPr/>
          <p:nvPr/>
        </p:nvSpPr>
        <p:spPr>
          <a:xfrm>
            <a:off x="2916360" y="1212840"/>
            <a:ext cx="6048360" cy="5367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дилась 6 марта 1937 г. в деревне Масленниково,  Ярославской области.  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 16 июня  1962 г. - инструктор-космонавт  ВВ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16 июня 1963 года в 12 часов 30 минут по московскому времени в Советском Союзе на орбиту спутника Земли выведен космический корабль "Восток-6" впервые в мире пилотируемый женщиной  - гражданкой Советского Союза, космонав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решковой Валентиной Владимиров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6 -19 июня 1963 г. - космический полет в качестве командира КК "Восток-6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ет проходил одновременно с полетом корабля "Восток-5", пилотируем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. Быковским. Продолжительность пол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 сут. 22 час. 50 мин. Позывной - "Чайка"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й присвоено 22 июня  1963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вани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ерой Советского Союза  и  Лётчик-космонавт ССС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AutoShape 9"/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162720 w 395280"/>
              <a:gd name="textAreaRight" fmla="*/ 232560 w 395280"/>
              <a:gd name="textAreaTop" fmla="*/ 196200 h 476280"/>
              <a:gd name="textAreaBottom" fmla="*/ 2800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0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9" dur="2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2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2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2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7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5" name="WordArt 9"/>
          <p:cNvSpPr txBox="1"/>
          <p:nvPr/>
        </p:nvSpPr>
        <p:spPr>
          <a:xfrm>
            <a:off x="395280" y="260280"/>
            <a:ext cx="8353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лексей Архипович Леонов- </a:t>
            </a:r>
            <a:endParaRPr b="1" lang="en-US" sz="1800" spc="1" strike="noStrike">
              <a:ln w="9360">
                <a:solidFill>
                  <a:srgbClr val="ff66cc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ЕРВЫМ в Мире совершил выход в открытый космос.</a:t>
            </a:r>
            <a:endParaRPr b="1" lang="en-US" sz="1800" spc="1" strike="noStrike">
              <a:ln w="9360">
                <a:solidFill>
                  <a:srgbClr val="ff66cc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186" name="Picture 10" descr="Леонов Алексей Архипович"/>
          <p:cNvPicPr/>
          <p:nvPr/>
        </p:nvPicPr>
        <p:blipFill>
          <a:blip r:embed="rId2"/>
          <a:stretch/>
        </p:blipFill>
        <p:spPr>
          <a:xfrm>
            <a:off x="395280" y="1989000"/>
            <a:ext cx="2657520" cy="30560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187" name="Text Box 11"/>
          <p:cNvSpPr/>
          <p:nvPr/>
        </p:nvSpPr>
        <p:spPr>
          <a:xfrm>
            <a:off x="3851280" y="1989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12"/>
          <p:cNvSpPr/>
          <p:nvPr/>
        </p:nvSpPr>
        <p:spPr>
          <a:xfrm>
            <a:off x="3276720" y="1773360"/>
            <a:ext cx="5616360" cy="4483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ётчик – космонавт, генерал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йор авиации. Родился в Кемеровской области. Совершил два полёта в космос. Первый – 18 марта 1965 г. вторым пилотом на космическом корабле «Восход – 2». Во время этого полёта Алексей Архипович впервые в мире вышел  из кабины космического корабля в открытый космос. Второй свой полёт Леонов совершил в июле 1975 года командиром космического корабля «Союз -19». Это был первый совместный полёт советского космического корабля «Союз» и американского космического корабля «Аполлон». Алексей Архипови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онов – дважды  Герой Советского Сою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исал книгу «Выхожу в космо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Picture 13" descr="b4a"/>
          <p:cNvPicPr/>
          <p:nvPr/>
        </p:nvPicPr>
        <p:blipFill>
          <a:blip r:embed="rId3"/>
          <a:stretch/>
        </p:blipFill>
        <p:spPr>
          <a:xfrm>
            <a:off x="7740720" y="22392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190" name="AutoShape 10"/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162720 w 395280"/>
              <a:gd name="textAreaRight" fmla="*/ 232560 w 395280"/>
              <a:gd name="textAreaTop" fmla="*/ 196200 h 476280"/>
              <a:gd name="textAreaBottom" fmla="*/ 2800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72" dur="indefinite" restart="never" nodeType="tmRoot">
          <p:childTnLst>
            <p:seq>
              <p:cTn id="1773" dur="indefinite" nodeType="mainSeq">
                <p:childTnLst>
                  <p:par>
                    <p:cTn id="1774" fill="hold">
                      <p:stCondLst>
                        <p:cond delay="0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2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2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2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2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0" dur="2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WordArt 8"/>
          <p:cNvSpPr txBox="1"/>
          <p:nvPr/>
        </p:nvSpPr>
        <p:spPr>
          <a:xfrm>
            <a:off x="928800" y="142920"/>
            <a:ext cx="67150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Юрий Гагарин-</a:t>
            </a:r>
            <a:endParaRPr b="1" lang="en-US" sz="40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4" name="Text Box 9"/>
          <p:cNvSpPr/>
          <p:nvPr/>
        </p:nvSpPr>
        <p:spPr>
          <a:xfrm>
            <a:off x="250920" y="472428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ndara"/>
              </a:rPr>
              <a:t>первый  космонавт планеты Земл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Рисунок 15" descr="http://www.librairieduglobe.com/cms/wp-content/gagarin3.jpg"/>
          <p:cNvPicPr/>
          <p:nvPr/>
        </p:nvPicPr>
        <p:blipFill>
          <a:blip r:embed="rId1"/>
          <a:stretch/>
        </p:blipFill>
        <p:spPr>
          <a:xfrm>
            <a:off x="1500120" y="2000160"/>
            <a:ext cx="5923080" cy="29289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3" descr="Джанибеков Владимир Александрович"/>
          <p:cNvPicPr/>
          <p:nvPr/>
        </p:nvPicPr>
        <p:blipFill>
          <a:blip r:embed="rId2"/>
          <a:stretch/>
        </p:blipFill>
        <p:spPr>
          <a:xfrm>
            <a:off x="324000" y="1844640"/>
            <a:ext cx="2400120" cy="30956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193" name="WordArt 4"/>
          <p:cNvSpPr txBox="1"/>
          <p:nvPr/>
        </p:nvSpPr>
        <p:spPr>
          <a:xfrm>
            <a:off x="468360" y="404640"/>
            <a:ext cx="8351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ладимир Александрович Джанибеков - </a:t>
            </a:r>
            <a:endParaRPr b="1" lang="en-US" sz="1800" spc="1" strike="noStrike">
              <a:ln w="9360">
                <a:solidFill>
                  <a:srgbClr val="ff66cc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динственный из советских и российских космонавтов,</a:t>
            </a:r>
            <a:endParaRPr b="1" lang="en-US" sz="1800" spc="1" strike="noStrike">
              <a:ln w="9360">
                <a:solidFill>
                  <a:srgbClr val="ff66cc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вершивший </a:t>
            </a:r>
            <a:endParaRPr b="1" lang="en-US" sz="1800" spc="1" strike="noStrike">
              <a:ln w="9360">
                <a:solidFill>
                  <a:srgbClr val="ff66cc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 космических  </a:t>
            </a:r>
            <a:endParaRPr b="1" lang="en-US" sz="1800" spc="1" strike="noStrike">
              <a:ln w="9360">
                <a:solidFill>
                  <a:srgbClr val="ff66cc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лётов.</a:t>
            </a:r>
            <a:endParaRPr b="1" lang="en-US" sz="1800" spc="1" strike="noStrike">
              <a:ln w="9360">
                <a:solidFill>
                  <a:srgbClr val="ff66cc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194" name="Picture 5" descr="b4a"/>
          <p:cNvPicPr/>
          <p:nvPr/>
        </p:nvPicPr>
        <p:blipFill>
          <a:blip r:embed="rId3"/>
          <a:stretch/>
        </p:blipFill>
        <p:spPr>
          <a:xfrm>
            <a:off x="7956720" y="223920"/>
            <a:ext cx="936360" cy="936720"/>
          </a:xfrm>
          <a:prstGeom prst="rect">
            <a:avLst/>
          </a:prstGeom>
          <a:ln w="0">
            <a:noFill/>
          </a:ln>
        </p:spPr>
      </p:pic>
      <p:sp>
        <p:nvSpPr>
          <p:cNvPr id="1195" name="Text Box 6"/>
          <p:cNvSpPr/>
          <p:nvPr/>
        </p:nvSpPr>
        <p:spPr>
          <a:xfrm>
            <a:off x="2987640" y="3213000"/>
            <a:ext cx="5905440" cy="3385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ётчик –космонавт СССР, генерал – майор авиации.  Родился 13 мая 1942 года в селе Искандер Бостанлыкского района Ташкентской области  в семье служащего. Великая Отечественная война продиктовала выбор профессии. Одиннадцатилетний мальчик надел военную форму, стал суворовцем. Детские годы прошли в ст. Егорлыкской Ростовской области. Первый полёт в космос совершил в 1978 году на корабле «Союз – 27».            Владимир Александрович Джанибе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        дважды  Герой Советского Союз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AutoShape 9"/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162720 w 395280"/>
              <a:gd name="textAreaRight" fmla="*/ 232560 w 395280"/>
              <a:gd name="textAreaTop" fmla="*/ 196200 h 476280"/>
              <a:gd name="textAreaBottom" fmla="*/ 2800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1" dur="indefinite" restart="never" nodeType="tmRoot">
          <p:childTnLst>
            <p:seq>
              <p:cTn id="1792" dur="indefinite" nodeType="mainSeq">
                <p:childTnLst>
                  <p:par>
                    <p:cTn id="1793" fill="hold">
                      <p:stCondLst>
                        <p:cond delay="0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7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0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3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7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WordArt 5"/>
          <p:cNvSpPr txBox="1"/>
          <p:nvPr/>
        </p:nvSpPr>
        <p:spPr>
          <a:xfrm>
            <a:off x="4572000" y="1125360"/>
            <a:ext cx="4392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2 апреля 1961 года-</a:t>
            </a:r>
            <a:endParaRPr b="1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7" name="Рисунок 606" descr="http://www.cosmoworld.ru/spaceencyclopedia/gagarin/gagarin_2_09.jpg"/>
          <p:cNvPicPr/>
          <p:nvPr/>
        </p:nvPicPr>
        <p:blipFill>
          <a:blip r:embed="rId1"/>
          <a:stretch/>
        </p:blipFill>
        <p:spPr>
          <a:xfrm>
            <a:off x="206280" y="855720"/>
            <a:ext cx="3768840" cy="4878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858" name="WordArt 8"/>
          <p:cNvSpPr txBox="1"/>
          <p:nvPr/>
        </p:nvSpPr>
        <p:spPr>
          <a:xfrm>
            <a:off x="4356000" y="3645000"/>
            <a:ext cx="4464000" cy="27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ервый полёт человека в космос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59" name="WordArt 9"/>
          <p:cNvSpPr txBox="1"/>
          <p:nvPr/>
        </p:nvSpPr>
        <p:spPr>
          <a:xfrm>
            <a:off x="4356000" y="3075120"/>
            <a:ext cx="431964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-Поехали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3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Рисунок 79" descr="http://www.cosmoworld.ru/spaceencyclopedia/gagarin/vostok.jpg"/>
          <p:cNvPicPr/>
          <p:nvPr/>
        </p:nvPicPr>
        <p:blipFill>
          <a:blip r:embed="rId1"/>
          <a:stretch/>
        </p:blipFill>
        <p:spPr>
          <a:xfrm>
            <a:off x="5435640" y="1844640"/>
            <a:ext cx="3232080" cy="4729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61" name="Рисунок 608" descr="http://www.cosmoworld.ru/spaceencyclopedia/gagarin/gagarin_2_11.jpg"/>
          <p:cNvPicPr/>
          <p:nvPr/>
        </p:nvPicPr>
        <p:blipFill>
          <a:blip r:embed="rId2"/>
          <a:stretch/>
        </p:blipFill>
        <p:spPr>
          <a:xfrm>
            <a:off x="468360" y="201600"/>
            <a:ext cx="3433680" cy="6453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62" name="WordArt 10"/>
          <p:cNvSpPr txBox="1"/>
          <p:nvPr/>
        </p:nvSpPr>
        <p:spPr>
          <a:xfrm>
            <a:off x="4189320" y="549360"/>
            <a:ext cx="49546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смический корабль</a:t>
            </a:r>
            <a:endParaRPr b="1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3" name="WordArt 11"/>
          <p:cNvSpPr txBox="1"/>
          <p:nvPr/>
        </p:nvSpPr>
        <p:spPr>
          <a:xfrm rot="5400000">
            <a:off x="2231640" y="3701880"/>
            <a:ext cx="46800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ВОСТОК"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Рисунок 73" descr="http://media2.picsearch.com/is?jznVPu3V9lzsvjOonbCqvgE0Kv5IvTfmRahxzmQCko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141720"/>
            <a:ext cx="4321080" cy="32414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865" name="Рисунок 31" descr="http://media5.picsearch.com/is?UjP2TKr9gAOHk5xmaswPbR5OpnmOJ3rBFBODKUHyl0I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549360"/>
            <a:ext cx="2300040" cy="1725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66" name="WordArt 7"/>
          <p:cNvSpPr txBox="1"/>
          <p:nvPr/>
        </p:nvSpPr>
        <p:spPr>
          <a:xfrm>
            <a:off x="552600" y="404640"/>
            <a:ext cx="49561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ргей Павлович</a:t>
            </a:r>
            <a:endParaRPr b="1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ролёв-</a:t>
            </a:r>
            <a:endParaRPr b="1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324000" y="1700280"/>
            <a:ext cx="70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генеральный конструк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осмических рак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4716360" y="3789360"/>
            <a:ext cx="483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- «Кедр», как чувствуете себ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8">
            <a:hlinkClick r:id="rId5" action="ppaction://hlinksldjump"/>
          </p:cNvPr>
          <p:cNvSpPr/>
          <p:nvPr/>
        </p:nvSpPr>
        <p:spPr>
          <a:xfrm>
            <a:off x="8494560" y="6165720"/>
            <a:ext cx="649440" cy="692280"/>
          </a:xfrm>
          <a:custGeom>
            <a:avLst/>
            <a:gdLst>
              <a:gd name="textAreaLeft" fmla="*/ 267480 w 649440"/>
              <a:gd name="textAreaRight" fmla="*/ 381960 w 649440"/>
              <a:gd name="textAreaTop" fmla="*/ 285120 h 692280"/>
              <a:gd name="textAreaBottom" fmla="*/ 407160 h 69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1" name="WordArt 7"/>
          <p:cNvSpPr txBox="1"/>
          <p:nvPr/>
        </p:nvSpPr>
        <p:spPr>
          <a:xfrm>
            <a:off x="324000" y="260280"/>
            <a:ext cx="3890880" cy="181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ХРОНИКА  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ВЕЛИКОГО  ДН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pic>
        <p:nvPicPr>
          <p:cNvPr id="872" name="Прямоугольник 6" descr=""/>
          <p:cNvPicPr/>
          <p:nvPr/>
        </p:nvPicPr>
        <p:blipFill>
          <a:blip r:embed="rId2"/>
          <a:stretch/>
        </p:blipFill>
        <p:spPr>
          <a:xfrm>
            <a:off x="4572000" y="189000"/>
            <a:ext cx="4297320" cy="1590480"/>
          </a:xfrm>
          <a:prstGeom prst="rect">
            <a:avLst/>
          </a:prstGeom>
          <a:ln w="0">
            <a:noFill/>
          </a:ln>
        </p:spPr>
      </p:pic>
      <p:sp>
        <p:nvSpPr>
          <p:cNvPr id="873" name="TextBox 7"/>
          <p:cNvSpPr/>
          <p:nvPr/>
        </p:nvSpPr>
        <p:spPr>
          <a:xfrm>
            <a:off x="4211640" y="2708280"/>
            <a:ext cx="4714920" cy="2043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30 мин утра  - подъём, зарядка, водные процедуры, завтра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Рисунок 631" descr="http://www.cosmoworld.ru/spaceencyclopedia/gagarin/gagarin_2_28.jpg"/>
          <p:cNvPicPr/>
          <p:nvPr/>
        </p:nvPicPr>
        <p:blipFill>
          <a:blip r:embed="rId3"/>
          <a:stretch/>
        </p:blipFill>
        <p:spPr>
          <a:xfrm>
            <a:off x="250920" y="2492280"/>
            <a:ext cx="3809880" cy="37720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75" name="Picture 14" descr="0-704smal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4360" y="4365720"/>
            <a:ext cx="2928960" cy="21081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76" name="Рисунок 721" descr="http://www.cosmoworld.ru/spaceencyclopedia/gagarin/gg12.jpg"/>
          <p:cNvPicPr/>
          <p:nvPr/>
        </p:nvPicPr>
        <p:blipFill>
          <a:blip r:embed="rId6"/>
          <a:stretch/>
        </p:blipFill>
        <p:spPr>
          <a:xfrm>
            <a:off x="5292720" y="1700280"/>
            <a:ext cx="3214800" cy="47419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877" name="TextBox 17"/>
          <p:cNvSpPr/>
          <p:nvPr/>
        </p:nvSpPr>
        <p:spPr>
          <a:xfrm>
            <a:off x="324000" y="2055960"/>
            <a:ext cx="4643280" cy="1373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00 мин – медицинский осмотр, облачение в скафан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Рисунок 723" descr="http://www.cosmoworld.ru/spaceencyclopedia/gagarin/gg14.jpg"/>
          <p:cNvPicPr/>
          <p:nvPr/>
        </p:nvPicPr>
        <p:blipFill>
          <a:blip r:embed="rId7"/>
          <a:stretch/>
        </p:blipFill>
        <p:spPr>
          <a:xfrm>
            <a:off x="6227640" y="1844640"/>
            <a:ext cx="2752920" cy="42577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79" name="Picture 17" descr="F:\Скафандр.bmp"/>
          <p:cNvPicPr/>
          <p:nvPr/>
        </p:nvPicPr>
        <p:blipFill>
          <a:blip r:embed="rId8"/>
          <a:stretch/>
        </p:blipFill>
        <p:spPr>
          <a:xfrm>
            <a:off x="3306600" y="3059280"/>
            <a:ext cx="2529000" cy="37987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3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1" name="Прямоугольник 5" descr=""/>
          <p:cNvPicPr/>
          <p:nvPr/>
        </p:nvPicPr>
        <p:blipFill>
          <a:blip r:embed="rId2"/>
          <a:stretch/>
        </p:blipFill>
        <p:spPr>
          <a:xfrm>
            <a:off x="0" y="208080"/>
            <a:ext cx="4029120" cy="1919160"/>
          </a:xfrm>
          <a:prstGeom prst="rect">
            <a:avLst/>
          </a:prstGeom>
          <a:ln w="0">
            <a:noFill/>
          </a:ln>
        </p:spPr>
      </p:pic>
      <p:sp>
        <p:nvSpPr>
          <p:cNvPr id="882" name="TextBox 10"/>
          <p:cNvSpPr/>
          <p:nvPr/>
        </p:nvSpPr>
        <p:spPr>
          <a:xfrm>
            <a:off x="4643280" y="4714920"/>
            <a:ext cx="4214880" cy="1557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50 мин – прибытие на стартовую площад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Зая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радио и печа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Рисунок 11" descr="http://media3.picsearch.com/is?m8292Vfhik5VW4X1yoyaxpRnw_rawodIHwuqPp0v3Tc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72040" y="1857240"/>
            <a:ext cx="2862360" cy="25862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84" name="Picture 10" descr="Г9"/>
          <p:cNvPicPr/>
          <p:nvPr/>
        </p:nvPicPr>
        <p:blipFill>
          <a:blip r:embed="rId6"/>
          <a:stretch/>
        </p:blipFill>
        <p:spPr>
          <a:xfrm>
            <a:off x="468360" y="2492280"/>
            <a:ext cx="3767040" cy="3159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85" name="Рисунок 15" descr="http://media5.picsearch.com/is?MkXhhtvIXHrwaz0Ge21us8UGAk7Jb1APR88qC87ScgQ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35640" y="1916280"/>
            <a:ext cx="2435040" cy="38620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886" name="TextBox 13"/>
          <p:cNvSpPr/>
          <p:nvPr/>
        </p:nvSpPr>
        <p:spPr>
          <a:xfrm>
            <a:off x="395280" y="3429000"/>
            <a:ext cx="4464000" cy="180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00 мин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щание с друзьями перед полё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ъём в рак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Прямоугольник 6" descr=""/>
          <p:cNvPicPr/>
          <p:nvPr/>
        </p:nvPicPr>
        <p:blipFill>
          <a:blip r:embed="rId9"/>
          <a:stretch/>
        </p:blipFill>
        <p:spPr>
          <a:xfrm>
            <a:off x="4846680" y="189000"/>
            <a:ext cx="4297320" cy="159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3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2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3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3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3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3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3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3:55:08Z</dcterms:created>
  <dc:creator>1</dc:creator>
  <dc:description/>
  <dc:language>en-US</dc:language>
  <cp:lastModifiedBy>Учитель</cp:lastModifiedBy>
  <dcterms:modified xsi:type="dcterms:W3CDTF">2010-01-19T11:36:50Z</dcterms:modified>
  <cp:revision>390</cp:revision>
  <dc:subject/>
  <dc:title>Слайд 1</dc:title>
</cp:coreProperties>
</file>