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CF6-5F91-4596-AC81-9C1EC470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EA0-79EB-4B16-89A6-4EE63DC8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E8A-417C-4C2B-B3B9-15DEE67B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EC6-FDD2-4775-BC16-D687DABF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6544-96EF-41A4-89E8-D991FFFC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205E-D751-4FE4-8272-FC04990E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7FA2-71B4-4E57-A66B-728A4A0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5679-7177-4EFB-8137-DED7B085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2A48-CF76-413C-9A44-1A03CF9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51FF-E147-47A0-B010-552A040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CFF-B2C3-47BC-A407-5C8E7C3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477-3614-473B-8654-8A1D9F6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1166-B3B0-4722-B792-D8F7ECCE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53D-F032-4B01-AA7F-56250BE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7056-28B2-4041-95A2-9563E052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30A-7385-489B-A4C6-3D822D85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71B-49FC-4DCF-8949-81F9599D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0B9-082A-4C26-A0CC-CEC5B4EE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258-AF84-458C-86A1-8742C3E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B27-2C80-47D5-95E4-9D7B574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5F1-FF5E-41C3-BACA-9E061612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50A-374C-4D77-852E-89E11ED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156-19C2-49FE-93B7-6F59FB14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AF2-93E6-4C0B-BC04-BBB99E2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149-C19D-4B43-ABF3-F9E26155EB7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DD9-83CA-4B9A-8B68-1A608DF2C42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.wikipedia.org/wiki/Bild:Franz_Schubert_c1827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eutsche und osterreichische Komponisten</a:t>
            </a: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tunde in der Klasse 11-B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ittelschule 19, Deuschlehrerin Kudrjaschowa L.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Joschkar – Ola, 2007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57160" cy="165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8876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as war Johann Sebastian Bach?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812000" y="6093000"/>
            <a:ext cx="503280" cy="547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7560"/>
              <a:gd name="textAreaBottom" fmla="*/ 515160 h 547560"/>
            </a:gdLst>
            <a:ahLst/>
            <a:rect l="textAreaLeft" t="textAreaTop" r="textAreaRight" b="textAreaBottom"/>
            <a:pathLst>
              <a:path w="21600" h="23499">
                <a:moveTo>
                  <a:pt x="0" y="0"/>
                </a:moveTo>
                <a:lnTo>
                  <a:pt x="21600" y="0"/>
                </a:lnTo>
                <a:lnTo>
                  <a:pt x="21600" y="23499"/>
                </a:lnTo>
                <a:lnTo>
                  <a:pt x="0" y="23499"/>
                </a:lnTo>
                <a:close/>
              </a:path>
              <a:path fill="lightenLess" w="21600" h="234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9">
                <a:moveTo>
                  <a:pt x="21600" y="0"/>
                </a:moveTo>
                <a:lnTo>
                  <a:pt x="21600" y="23499"/>
                </a:lnTo>
                <a:lnTo>
                  <a:pt x="20200" y="22099"/>
                </a:lnTo>
                <a:lnTo>
                  <a:pt x="20200" y="1400"/>
                </a:lnTo>
                <a:close/>
              </a:path>
              <a:path fill="darkenLess" w="21600" h="23499">
                <a:moveTo>
                  <a:pt x="21600" y="23499"/>
                </a:moveTo>
                <a:lnTo>
                  <a:pt x="0" y="23499"/>
                </a:lnTo>
                <a:lnTo>
                  <a:pt x="1400" y="22099"/>
                </a:lnTo>
                <a:lnTo>
                  <a:pt x="20200" y="22099"/>
                </a:lnTo>
                <a:close/>
              </a:path>
              <a:path fill="lighten" w="21600" h="23499">
                <a:moveTo>
                  <a:pt x="0" y="234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9"/>
                </a:lnTo>
                <a:close/>
              </a:path>
              <a:path fill="darken" w="21600" h="23499">
                <a:moveTo>
                  <a:pt x="3794" y="8442"/>
                </a:moveTo>
                <a:lnTo>
                  <a:pt x="7301" y="8442"/>
                </a:lnTo>
                <a:lnTo>
                  <a:pt x="7301" y="13777"/>
                </a:lnTo>
                <a:cubicBezTo>
                  <a:pt x="7301" y="14700"/>
                  <a:pt x="8102" y="15431"/>
                  <a:pt x="9138" y="15431"/>
                </a:cubicBezTo>
                <a:lnTo>
                  <a:pt x="10800" y="15431"/>
                </a:lnTo>
                <a:cubicBezTo>
                  <a:pt x="11836" y="15431"/>
                  <a:pt x="12636" y="14700"/>
                  <a:pt x="12636" y="13777"/>
                </a:cubicBezTo>
                <a:lnTo>
                  <a:pt x="12636" y="8442"/>
                </a:lnTo>
                <a:lnTo>
                  <a:pt x="10800" y="8442"/>
                </a:lnTo>
                <a:lnTo>
                  <a:pt x="14308" y="4935"/>
                </a:lnTo>
                <a:lnTo>
                  <a:pt x="17981" y="8442"/>
                </a:lnTo>
                <a:lnTo>
                  <a:pt x="16144" y="8442"/>
                </a:lnTo>
                <a:lnTo>
                  <a:pt x="16144" y="13777"/>
                </a:lnTo>
                <a:cubicBezTo>
                  <a:pt x="16144" y="16545"/>
                  <a:pt x="13568" y="19104"/>
                  <a:pt x="10800" y="19104"/>
                </a:cubicBezTo>
                <a:lnTo>
                  <a:pt x="9138" y="19104"/>
                </a:lnTo>
                <a:cubicBezTo>
                  <a:pt x="6370" y="19104"/>
                  <a:pt x="3794" y="16545"/>
                  <a:pt x="3794" y="13777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3933720"/>
            <a:ext cx="506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Der grosse Komponist und Musiker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Lebensjahre von J.S.Bach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667640" y="5950080"/>
            <a:ext cx="503280" cy="547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7560"/>
              <a:gd name="textAreaBottom" fmla="*/ 515160 h 547560"/>
            </a:gdLst>
            <a:ahLst/>
            <a:rect l="textAreaLeft" t="textAreaTop" r="textAreaRight" b="textAreaBottom"/>
            <a:pathLst>
              <a:path w="21600" h="23499">
                <a:moveTo>
                  <a:pt x="0" y="0"/>
                </a:moveTo>
                <a:lnTo>
                  <a:pt x="21600" y="0"/>
                </a:lnTo>
                <a:lnTo>
                  <a:pt x="21600" y="23499"/>
                </a:lnTo>
                <a:lnTo>
                  <a:pt x="0" y="23499"/>
                </a:lnTo>
                <a:close/>
              </a:path>
              <a:path fill="lightenLess" w="21600" h="234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9">
                <a:moveTo>
                  <a:pt x="21600" y="0"/>
                </a:moveTo>
                <a:lnTo>
                  <a:pt x="21600" y="23499"/>
                </a:lnTo>
                <a:lnTo>
                  <a:pt x="20200" y="22099"/>
                </a:lnTo>
                <a:lnTo>
                  <a:pt x="20200" y="1400"/>
                </a:lnTo>
                <a:close/>
              </a:path>
              <a:path fill="darkenLess" w="21600" h="23499">
                <a:moveTo>
                  <a:pt x="21600" y="23499"/>
                </a:moveTo>
                <a:lnTo>
                  <a:pt x="0" y="23499"/>
                </a:lnTo>
                <a:lnTo>
                  <a:pt x="1400" y="22099"/>
                </a:lnTo>
                <a:lnTo>
                  <a:pt x="20200" y="22099"/>
                </a:lnTo>
                <a:close/>
              </a:path>
              <a:path fill="lighten" w="21600" h="23499">
                <a:moveTo>
                  <a:pt x="0" y="234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9"/>
                </a:lnTo>
                <a:close/>
              </a:path>
              <a:path fill="darken" w="21600" h="23499">
                <a:moveTo>
                  <a:pt x="3794" y="8442"/>
                </a:moveTo>
                <a:lnTo>
                  <a:pt x="7301" y="8442"/>
                </a:lnTo>
                <a:lnTo>
                  <a:pt x="7301" y="13777"/>
                </a:lnTo>
                <a:cubicBezTo>
                  <a:pt x="7301" y="14700"/>
                  <a:pt x="8102" y="15431"/>
                  <a:pt x="9138" y="15431"/>
                </a:cubicBezTo>
                <a:lnTo>
                  <a:pt x="10800" y="15431"/>
                </a:lnTo>
                <a:cubicBezTo>
                  <a:pt x="11836" y="15431"/>
                  <a:pt x="12636" y="14700"/>
                  <a:pt x="12636" y="13777"/>
                </a:cubicBezTo>
                <a:lnTo>
                  <a:pt x="12636" y="8442"/>
                </a:lnTo>
                <a:lnTo>
                  <a:pt x="10800" y="8442"/>
                </a:lnTo>
                <a:lnTo>
                  <a:pt x="14308" y="4935"/>
                </a:lnTo>
                <a:lnTo>
                  <a:pt x="17981" y="8442"/>
                </a:lnTo>
                <a:lnTo>
                  <a:pt x="16144" y="8442"/>
                </a:lnTo>
                <a:lnTo>
                  <a:pt x="16144" y="13777"/>
                </a:lnTo>
                <a:cubicBezTo>
                  <a:pt x="16144" y="16545"/>
                  <a:pt x="13568" y="19104"/>
                  <a:pt x="10800" y="19104"/>
                </a:cubicBezTo>
                <a:lnTo>
                  <a:pt x="9138" y="19104"/>
                </a:lnTo>
                <a:cubicBezTo>
                  <a:pt x="6370" y="19104"/>
                  <a:pt x="3794" y="16545"/>
                  <a:pt x="3794" y="13777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3213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a) 1685 – 1750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96960" y="389088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b) 1989 – 2007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c) 1234 – 1267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o leitete er den Thomanerchor?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67640" y="6021360"/>
            <a:ext cx="504720" cy="547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7560"/>
              <a:gd name="textAreaBottom" fmla="*/ 515160 h 547560"/>
            </a:gdLst>
            <a:ahLst/>
            <a:rect l="textAreaLeft" t="textAreaTop" r="textAreaRight" b="textAreaBottom"/>
            <a:pathLst>
              <a:path w="21600" h="23432">
                <a:moveTo>
                  <a:pt x="0" y="0"/>
                </a:moveTo>
                <a:lnTo>
                  <a:pt x="21600" y="0"/>
                </a:lnTo>
                <a:lnTo>
                  <a:pt x="21600" y="23432"/>
                </a:lnTo>
                <a:lnTo>
                  <a:pt x="0" y="23432"/>
                </a:lnTo>
                <a:close/>
              </a:path>
              <a:path fill="lightenLess" w="21600" h="234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2">
                <a:moveTo>
                  <a:pt x="21600" y="0"/>
                </a:moveTo>
                <a:lnTo>
                  <a:pt x="21600" y="23432"/>
                </a:lnTo>
                <a:lnTo>
                  <a:pt x="20200" y="22032"/>
                </a:lnTo>
                <a:lnTo>
                  <a:pt x="20200" y="1400"/>
                </a:lnTo>
                <a:close/>
              </a:path>
              <a:path fill="darkenLess" w="21600" h="23432">
                <a:moveTo>
                  <a:pt x="21600" y="23432"/>
                </a:moveTo>
                <a:lnTo>
                  <a:pt x="0" y="23432"/>
                </a:lnTo>
                <a:lnTo>
                  <a:pt x="1400" y="22032"/>
                </a:lnTo>
                <a:lnTo>
                  <a:pt x="20200" y="22032"/>
                </a:lnTo>
                <a:close/>
              </a:path>
              <a:path fill="lighten" w="21600" h="23432">
                <a:moveTo>
                  <a:pt x="0" y="234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2"/>
                </a:lnTo>
                <a:close/>
              </a:path>
              <a:path fill="darken" w="21600" h="23432">
                <a:moveTo>
                  <a:pt x="3794" y="8409"/>
                </a:moveTo>
                <a:lnTo>
                  <a:pt x="7301" y="8409"/>
                </a:lnTo>
                <a:lnTo>
                  <a:pt x="7301" y="13744"/>
                </a:lnTo>
                <a:cubicBezTo>
                  <a:pt x="7301" y="14667"/>
                  <a:pt x="8102" y="15398"/>
                  <a:pt x="9138" y="15398"/>
                </a:cubicBezTo>
                <a:lnTo>
                  <a:pt x="10800" y="15398"/>
                </a:lnTo>
                <a:cubicBezTo>
                  <a:pt x="11836" y="15398"/>
                  <a:pt x="12636" y="14667"/>
                  <a:pt x="12636" y="13744"/>
                </a:cubicBezTo>
                <a:lnTo>
                  <a:pt x="12636" y="8409"/>
                </a:lnTo>
                <a:lnTo>
                  <a:pt x="10800" y="8409"/>
                </a:lnTo>
                <a:lnTo>
                  <a:pt x="14308" y="4901"/>
                </a:lnTo>
                <a:lnTo>
                  <a:pt x="17981" y="8409"/>
                </a:lnTo>
                <a:lnTo>
                  <a:pt x="16144" y="8409"/>
                </a:lnTo>
                <a:lnTo>
                  <a:pt x="16144" y="13744"/>
                </a:lnTo>
                <a:cubicBezTo>
                  <a:pt x="16144" y="16512"/>
                  <a:pt x="13568" y="19071"/>
                  <a:pt x="10800" y="19071"/>
                </a:cubicBezTo>
                <a:lnTo>
                  <a:pt x="9138" y="19071"/>
                </a:lnTo>
                <a:cubicBezTo>
                  <a:pt x="6370" y="19071"/>
                  <a:pt x="3794" y="16512"/>
                  <a:pt x="3794" y="13744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443700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In Leipzig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Wie heissen die bekanntesten Werke von Bach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2421000"/>
            <a:ext cx="60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Johanne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Matthau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667640" y="6093000"/>
            <a:ext cx="576360" cy="54900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676" h="21600">
                <a:moveTo>
                  <a:pt x="0" y="0"/>
                </a:moveTo>
                <a:lnTo>
                  <a:pt x="22676" y="0"/>
                </a:lnTo>
                <a:lnTo>
                  <a:pt x="22676" y="21600"/>
                </a:lnTo>
                <a:lnTo>
                  <a:pt x="0" y="21600"/>
                </a:lnTo>
                <a:close/>
              </a:path>
              <a:path fill="lightenLess" w="22676" h="21600">
                <a:moveTo>
                  <a:pt x="0" y="0"/>
                </a:moveTo>
                <a:lnTo>
                  <a:pt x="22676" y="0"/>
                </a:lnTo>
                <a:lnTo>
                  <a:pt x="21276" y="1400"/>
                </a:lnTo>
                <a:lnTo>
                  <a:pt x="1400" y="1400"/>
                </a:lnTo>
                <a:close/>
              </a:path>
              <a:path fill="darken" w="22676" h="21600">
                <a:moveTo>
                  <a:pt x="22676" y="0"/>
                </a:moveTo>
                <a:lnTo>
                  <a:pt x="22676" y="21600"/>
                </a:lnTo>
                <a:lnTo>
                  <a:pt x="21276" y="20200"/>
                </a:lnTo>
                <a:lnTo>
                  <a:pt x="21276" y="1400"/>
                </a:lnTo>
                <a:close/>
              </a:path>
              <a:path fill="darkenLess" w="22676" h="21600">
                <a:moveTo>
                  <a:pt x="22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6" y="20200"/>
                </a:lnTo>
                <a:close/>
              </a:path>
              <a:path fill="lighten" w="22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76" h="21600">
                <a:moveTo>
                  <a:pt x="4331" y="7493"/>
                </a:moveTo>
                <a:lnTo>
                  <a:pt x="7839" y="7493"/>
                </a:lnTo>
                <a:lnTo>
                  <a:pt x="7839" y="12828"/>
                </a:lnTo>
                <a:cubicBezTo>
                  <a:pt x="7839" y="13751"/>
                  <a:pt x="8640" y="14482"/>
                  <a:pt x="9675" y="14482"/>
                </a:cubicBezTo>
                <a:lnTo>
                  <a:pt x="11338" y="14482"/>
                </a:lnTo>
                <a:cubicBezTo>
                  <a:pt x="12374" y="14482"/>
                  <a:pt x="13174" y="13751"/>
                  <a:pt x="13174" y="12828"/>
                </a:cubicBezTo>
                <a:lnTo>
                  <a:pt x="13174" y="7493"/>
                </a:lnTo>
                <a:lnTo>
                  <a:pt x="11338" y="7493"/>
                </a:lnTo>
                <a:lnTo>
                  <a:pt x="14845" y="3985"/>
                </a:lnTo>
                <a:lnTo>
                  <a:pt x="18518" y="7493"/>
                </a:lnTo>
                <a:lnTo>
                  <a:pt x="16682" y="7493"/>
                </a:lnTo>
                <a:lnTo>
                  <a:pt x="16682" y="12828"/>
                </a:lnTo>
                <a:cubicBezTo>
                  <a:pt x="16682" y="15596"/>
                  <a:pt x="14106" y="18155"/>
                  <a:pt x="11338" y="18155"/>
                </a:cubicBezTo>
                <a:lnTo>
                  <a:pt x="9675" y="18155"/>
                </a:lnTo>
                <a:cubicBezTo>
                  <a:pt x="6908" y="18155"/>
                  <a:pt x="4331" y="15596"/>
                  <a:pt x="4331" y="1282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3414600"/>
            <a:ext cx="64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b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schonste Mulleri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anderer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ondscheisonat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llegro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o ist Beethoven gebor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537080" cy="3122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740720" y="6165720"/>
            <a:ext cx="536400" cy="538200"/>
          </a:xfrm>
          <a:custGeom>
            <a:avLst/>
            <a:gdLst>
              <a:gd name="textAreaLeft" fmla="*/ 34560 w 536400"/>
              <a:gd name="textAreaRight" fmla="*/ 501840 w 5364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7529"/>
                </a:moveTo>
                <a:lnTo>
                  <a:pt x="7301" y="7529"/>
                </a:lnTo>
                <a:lnTo>
                  <a:pt x="7301" y="12864"/>
                </a:lnTo>
                <a:cubicBezTo>
                  <a:pt x="7301" y="13787"/>
                  <a:pt x="8102" y="14518"/>
                  <a:pt x="9138" y="14518"/>
                </a:cubicBezTo>
                <a:lnTo>
                  <a:pt x="10800" y="14518"/>
                </a:lnTo>
                <a:cubicBezTo>
                  <a:pt x="11836" y="14518"/>
                  <a:pt x="12636" y="13787"/>
                  <a:pt x="12636" y="12864"/>
                </a:cubicBezTo>
                <a:lnTo>
                  <a:pt x="12636" y="7529"/>
                </a:lnTo>
                <a:lnTo>
                  <a:pt x="10800" y="7529"/>
                </a:lnTo>
                <a:lnTo>
                  <a:pt x="14308" y="4021"/>
                </a:lnTo>
                <a:lnTo>
                  <a:pt x="17981" y="7529"/>
                </a:lnTo>
                <a:lnTo>
                  <a:pt x="16144" y="7529"/>
                </a:lnTo>
                <a:lnTo>
                  <a:pt x="16144" y="12864"/>
                </a:lnTo>
                <a:cubicBezTo>
                  <a:pt x="16144" y="15632"/>
                  <a:pt x="13568" y="18191"/>
                  <a:pt x="10800" y="18191"/>
                </a:cubicBezTo>
                <a:lnTo>
                  <a:pt x="9138" y="18191"/>
                </a:lnTo>
                <a:cubicBezTo>
                  <a:pt x="6370" y="18191"/>
                  <a:pt x="3794" y="15632"/>
                  <a:pt x="3794" y="12864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805360"/>
            <a:ext cx="275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In Bon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Aus welcher Familie stammte Ludvig van Beethoven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0720" y="6021360"/>
            <a:ext cx="539640" cy="620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20640"/>
              <a:gd name="textAreaBottom" fmla="*/ 58572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20200" y="23440"/>
                </a:lnTo>
                <a:lnTo>
                  <a:pt x="20200" y="140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1400" y="23440"/>
                </a:lnTo>
                <a:lnTo>
                  <a:pt x="20200" y="2344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40"/>
                </a:lnTo>
                <a:close/>
              </a:path>
              <a:path fill="darken" w="21600" h="24840">
                <a:moveTo>
                  <a:pt x="3794" y="9113"/>
                </a:moveTo>
                <a:lnTo>
                  <a:pt x="7301" y="9113"/>
                </a:lnTo>
                <a:lnTo>
                  <a:pt x="7301" y="14448"/>
                </a:lnTo>
                <a:cubicBezTo>
                  <a:pt x="7301" y="15371"/>
                  <a:pt x="8102" y="16102"/>
                  <a:pt x="9138" y="16102"/>
                </a:cubicBezTo>
                <a:lnTo>
                  <a:pt x="10800" y="16102"/>
                </a:lnTo>
                <a:cubicBezTo>
                  <a:pt x="11836" y="16102"/>
                  <a:pt x="12636" y="15371"/>
                  <a:pt x="12636" y="14448"/>
                </a:cubicBezTo>
                <a:lnTo>
                  <a:pt x="12636" y="9113"/>
                </a:lnTo>
                <a:lnTo>
                  <a:pt x="10800" y="9113"/>
                </a:lnTo>
                <a:lnTo>
                  <a:pt x="14308" y="5605"/>
                </a:lnTo>
                <a:lnTo>
                  <a:pt x="17981" y="9113"/>
                </a:lnTo>
                <a:lnTo>
                  <a:pt x="16144" y="9113"/>
                </a:lnTo>
                <a:lnTo>
                  <a:pt x="16144" y="14448"/>
                </a:lnTo>
                <a:cubicBezTo>
                  <a:pt x="16144" y="17216"/>
                  <a:pt x="13568" y="19775"/>
                  <a:pt x="10800" y="19775"/>
                </a:cubicBezTo>
                <a:lnTo>
                  <a:pt x="9138" y="19775"/>
                </a:lnTo>
                <a:cubicBezTo>
                  <a:pt x="6370" y="19775"/>
                  <a:pt x="3794" y="17216"/>
                  <a:pt x="3794" y="1444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515772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Aus einer Musikantenfamili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In wieviel Jahren gab er das erste Konzert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4720" y="6021360"/>
            <a:ext cx="609480" cy="6825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2560"/>
              <a:gd name="textAreaBottom" fmla="*/ 643320 h 682560"/>
            </a:gdLst>
            <a:ahLst/>
            <a:rect l="textAreaLeft" t="textAreaTop" r="textAreaRight" b="textAreaBottom"/>
            <a:pathLst>
              <a:path w="21600" h="24188">
                <a:moveTo>
                  <a:pt x="0" y="0"/>
                </a:moveTo>
                <a:lnTo>
                  <a:pt x="21600" y="0"/>
                </a:lnTo>
                <a:lnTo>
                  <a:pt x="21600" y="24188"/>
                </a:lnTo>
                <a:lnTo>
                  <a:pt x="0" y="24188"/>
                </a:lnTo>
                <a:close/>
              </a:path>
              <a:path fill="lightenLess" w="21600" h="24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8">
                <a:moveTo>
                  <a:pt x="21600" y="0"/>
                </a:moveTo>
                <a:lnTo>
                  <a:pt x="21600" y="24188"/>
                </a:lnTo>
                <a:lnTo>
                  <a:pt x="20200" y="22788"/>
                </a:lnTo>
                <a:lnTo>
                  <a:pt x="20200" y="1400"/>
                </a:lnTo>
                <a:close/>
              </a:path>
              <a:path fill="darkenLess" w="21600" h="24188">
                <a:moveTo>
                  <a:pt x="21600" y="24188"/>
                </a:moveTo>
                <a:lnTo>
                  <a:pt x="0" y="24188"/>
                </a:lnTo>
                <a:lnTo>
                  <a:pt x="1400" y="22788"/>
                </a:lnTo>
                <a:lnTo>
                  <a:pt x="20200" y="22788"/>
                </a:lnTo>
                <a:close/>
              </a:path>
              <a:path fill="lighten" w="21600" h="24188">
                <a:moveTo>
                  <a:pt x="0" y="24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8"/>
                </a:lnTo>
                <a:close/>
              </a:path>
              <a:path fill="darken" w="21600" h="24188">
                <a:moveTo>
                  <a:pt x="3794" y="8787"/>
                </a:moveTo>
                <a:lnTo>
                  <a:pt x="7301" y="8787"/>
                </a:lnTo>
                <a:lnTo>
                  <a:pt x="7301" y="14122"/>
                </a:lnTo>
                <a:cubicBezTo>
                  <a:pt x="7301" y="15045"/>
                  <a:pt x="8102" y="15776"/>
                  <a:pt x="9138" y="15776"/>
                </a:cubicBezTo>
                <a:lnTo>
                  <a:pt x="10800" y="15776"/>
                </a:lnTo>
                <a:cubicBezTo>
                  <a:pt x="11836" y="15776"/>
                  <a:pt x="12636" y="15045"/>
                  <a:pt x="12636" y="14122"/>
                </a:cubicBezTo>
                <a:lnTo>
                  <a:pt x="12636" y="8787"/>
                </a:lnTo>
                <a:lnTo>
                  <a:pt x="10800" y="8787"/>
                </a:lnTo>
                <a:lnTo>
                  <a:pt x="14308" y="5279"/>
                </a:lnTo>
                <a:lnTo>
                  <a:pt x="17981" y="8787"/>
                </a:lnTo>
                <a:lnTo>
                  <a:pt x="16144" y="8787"/>
                </a:lnTo>
                <a:lnTo>
                  <a:pt x="16144" y="14122"/>
                </a:lnTo>
                <a:cubicBezTo>
                  <a:pt x="16144" y="16890"/>
                  <a:pt x="13568" y="19449"/>
                  <a:pt x="10800" y="19449"/>
                </a:cubicBezTo>
                <a:lnTo>
                  <a:pt x="9138" y="19449"/>
                </a:lnTo>
                <a:cubicBezTo>
                  <a:pt x="6370" y="19449"/>
                  <a:pt x="3794" y="16890"/>
                  <a:pt x="3794" y="14122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465300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In 8 Jahre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ie heissen die Hauptwerke von Beethoven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2637000"/>
            <a:ext cx="55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8f8f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ondscheinsonat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llegro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609300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4448" y="7493"/>
                </a:moveTo>
                <a:lnTo>
                  <a:pt x="7955" y="7493"/>
                </a:lnTo>
                <a:lnTo>
                  <a:pt x="7955" y="12828"/>
                </a:lnTo>
                <a:cubicBezTo>
                  <a:pt x="7955" y="13751"/>
                  <a:pt x="8756" y="14482"/>
                  <a:pt x="9792" y="14482"/>
                </a:cubicBezTo>
                <a:lnTo>
                  <a:pt x="11454" y="14482"/>
                </a:lnTo>
                <a:cubicBezTo>
                  <a:pt x="12490" y="14482"/>
                  <a:pt x="13291" y="13751"/>
                  <a:pt x="13291" y="12828"/>
                </a:cubicBezTo>
                <a:lnTo>
                  <a:pt x="13291" y="7493"/>
                </a:lnTo>
                <a:lnTo>
                  <a:pt x="11454" y="7493"/>
                </a:lnTo>
                <a:lnTo>
                  <a:pt x="14962" y="3985"/>
                </a:lnTo>
                <a:lnTo>
                  <a:pt x="18635" y="7493"/>
                </a:lnTo>
                <a:lnTo>
                  <a:pt x="16798" y="7493"/>
                </a:lnTo>
                <a:lnTo>
                  <a:pt x="16798" y="12828"/>
                </a:lnTo>
                <a:cubicBezTo>
                  <a:pt x="16798" y="15596"/>
                  <a:pt x="14222" y="18155"/>
                  <a:pt x="11454" y="18155"/>
                </a:cubicBezTo>
                <a:lnTo>
                  <a:pt x="9792" y="18155"/>
                </a:lnTo>
                <a:cubicBezTo>
                  <a:pt x="7024" y="18155"/>
                  <a:pt x="4448" y="15596"/>
                  <a:pt x="4448" y="1282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63640" y="3645000"/>
            <a:ext cx="590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b)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Johanne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Matthau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)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schonste Mulleri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anderer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o wurde Schubert gebor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2544840" cy="3609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313000" cy="342900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667640" y="6093000"/>
            <a:ext cx="504720" cy="549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94">
                <a:moveTo>
                  <a:pt x="0" y="0"/>
                </a:moveTo>
                <a:lnTo>
                  <a:pt x="21600" y="0"/>
                </a:lnTo>
                <a:lnTo>
                  <a:pt x="21600" y="23494"/>
                </a:lnTo>
                <a:lnTo>
                  <a:pt x="0" y="23494"/>
                </a:lnTo>
                <a:close/>
              </a:path>
              <a:path fill="lightenLess" w="21600" h="234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4">
                <a:moveTo>
                  <a:pt x="21600" y="0"/>
                </a:moveTo>
                <a:lnTo>
                  <a:pt x="21600" y="23494"/>
                </a:lnTo>
                <a:lnTo>
                  <a:pt x="20200" y="22094"/>
                </a:lnTo>
                <a:lnTo>
                  <a:pt x="20200" y="1400"/>
                </a:lnTo>
                <a:close/>
              </a:path>
              <a:path fill="darkenLess" w="21600" h="23494">
                <a:moveTo>
                  <a:pt x="21600" y="23494"/>
                </a:moveTo>
                <a:lnTo>
                  <a:pt x="0" y="23494"/>
                </a:lnTo>
                <a:lnTo>
                  <a:pt x="1400" y="22094"/>
                </a:lnTo>
                <a:lnTo>
                  <a:pt x="20200" y="22094"/>
                </a:lnTo>
                <a:close/>
              </a:path>
              <a:path fill="lighten" w="21600" h="23494">
                <a:moveTo>
                  <a:pt x="0" y="234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4"/>
                </a:lnTo>
                <a:close/>
              </a:path>
              <a:path fill="darken" w="21600" h="23494">
                <a:moveTo>
                  <a:pt x="3794" y="8439"/>
                </a:moveTo>
                <a:lnTo>
                  <a:pt x="7301" y="8439"/>
                </a:lnTo>
                <a:lnTo>
                  <a:pt x="7301" y="13775"/>
                </a:lnTo>
                <a:cubicBezTo>
                  <a:pt x="7301" y="14697"/>
                  <a:pt x="8102" y="15428"/>
                  <a:pt x="9138" y="15428"/>
                </a:cubicBezTo>
                <a:lnTo>
                  <a:pt x="10800" y="15428"/>
                </a:lnTo>
                <a:cubicBezTo>
                  <a:pt x="11836" y="15428"/>
                  <a:pt x="12636" y="14697"/>
                  <a:pt x="12636" y="13775"/>
                </a:cubicBezTo>
                <a:lnTo>
                  <a:pt x="12636" y="8439"/>
                </a:lnTo>
                <a:lnTo>
                  <a:pt x="10800" y="8439"/>
                </a:lnTo>
                <a:lnTo>
                  <a:pt x="14308" y="4932"/>
                </a:lnTo>
                <a:lnTo>
                  <a:pt x="17981" y="8439"/>
                </a:lnTo>
                <a:lnTo>
                  <a:pt x="16144" y="8439"/>
                </a:lnTo>
                <a:lnTo>
                  <a:pt x="16144" y="13775"/>
                </a:lnTo>
                <a:cubicBezTo>
                  <a:pt x="16144" y="16543"/>
                  <a:pt x="13568" y="19101"/>
                  <a:pt x="10800" y="19101"/>
                </a:cubicBezTo>
                <a:lnTo>
                  <a:pt x="9138" y="19101"/>
                </a:lnTo>
                <a:cubicBezTo>
                  <a:pt x="6370" y="19101"/>
                  <a:pt x="3794" y="16543"/>
                  <a:pt x="3794" y="13775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3640" y="5661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In Wie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Nenne Schuberts Lebensjahre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11280" y="2492280"/>
            <a:ext cx="35258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a) 1797 – 1828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524720" y="6021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8322"/>
                </a:moveTo>
                <a:lnTo>
                  <a:pt x="7301" y="8322"/>
                </a:lnTo>
                <a:lnTo>
                  <a:pt x="7301" y="13657"/>
                </a:lnTo>
                <a:cubicBezTo>
                  <a:pt x="7301" y="14580"/>
                  <a:pt x="8102" y="15311"/>
                  <a:pt x="9138" y="15311"/>
                </a:cubicBezTo>
                <a:lnTo>
                  <a:pt x="10800" y="15311"/>
                </a:lnTo>
                <a:cubicBezTo>
                  <a:pt x="11836" y="15311"/>
                  <a:pt x="12636" y="14580"/>
                  <a:pt x="12636" y="13657"/>
                </a:cubicBezTo>
                <a:lnTo>
                  <a:pt x="12636" y="8322"/>
                </a:lnTo>
                <a:lnTo>
                  <a:pt x="10800" y="8322"/>
                </a:lnTo>
                <a:lnTo>
                  <a:pt x="14308" y="4814"/>
                </a:lnTo>
                <a:lnTo>
                  <a:pt x="17981" y="8322"/>
                </a:lnTo>
                <a:lnTo>
                  <a:pt x="16144" y="8322"/>
                </a:lnTo>
                <a:lnTo>
                  <a:pt x="16144" y="13657"/>
                </a:lnTo>
                <a:cubicBezTo>
                  <a:pt x="16144" y="16425"/>
                  <a:pt x="13568" y="18984"/>
                  <a:pt x="10800" y="18984"/>
                </a:cubicBezTo>
                <a:lnTo>
                  <a:pt x="9138" y="18984"/>
                </a:lnTo>
                <a:cubicBezTo>
                  <a:pt x="6370" y="18984"/>
                  <a:pt x="3794" y="16425"/>
                  <a:pt x="3794" y="13657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84280" y="30700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) 1345 – 1376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c)  1990 - 2007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ohann Sebastian B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7544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56000" y="2060640"/>
            <a:ext cx="3908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Wurde geboren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am 31. Marz 1685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n Eisenach in Thuringen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st gestorben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am 28. Juli 1750 in Leipzig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nstrumente: die Orgel, das Klavi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as klingende Werk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Aria aus Suita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№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812000" y="616428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139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as war sein Vater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 von Beruf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667640" y="6093000"/>
            <a:ext cx="504720" cy="549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494">
                <a:moveTo>
                  <a:pt x="0" y="0"/>
                </a:moveTo>
                <a:lnTo>
                  <a:pt x="21600" y="0"/>
                </a:lnTo>
                <a:lnTo>
                  <a:pt x="21600" y="23494"/>
                </a:lnTo>
                <a:lnTo>
                  <a:pt x="0" y="23494"/>
                </a:lnTo>
                <a:close/>
              </a:path>
              <a:path fill="lightenLess" w="21600" h="234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4">
                <a:moveTo>
                  <a:pt x="21600" y="0"/>
                </a:moveTo>
                <a:lnTo>
                  <a:pt x="21600" y="23494"/>
                </a:lnTo>
                <a:lnTo>
                  <a:pt x="20200" y="22094"/>
                </a:lnTo>
                <a:lnTo>
                  <a:pt x="20200" y="1400"/>
                </a:lnTo>
                <a:close/>
              </a:path>
              <a:path fill="darkenLess" w="21600" h="23494">
                <a:moveTo>
                  <a:pt x="21600" y="23494"/>
                </a:moveTo>
                <a:lnTo>
                  <a:pt x="0" y="23494"/>
                </a:lnTo>
                <a:lnTo>
                  <a:pt x="1400" y="22094"/>
                </a:lnTo>
                <a:lnTo>
                  <a:pt x="20200" y="22094"/>
                </a:lnTo>
                <a:close/>
              </a:path>
              <a:path fill="lighten" w="21600" h="23494">
                <a:moveTo>
                  <a:pt x="0" y="234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4"/>
                </a:lnTo>
                <a:close/>
              </a:path>
              <a:path fill="darken" w="21600" h="23494">
                <a:moveTo>
                  <a:pt x="3794" y="8439"/>
                </a:moveTo>
                <a:lnTo>
                  <a:pt x="7301" y="8439"/>
                </a:lnTo>
                <a:lnTo>
                  <a:pt x="7301" y="13775"/>
                </a:lnTo>
                <a:cubicBezTo>
                  <a:pt x="7301" y="14697"/>
                  <a:pt x="8102" y="15428"/>
                  <a:pt x="9138" y="15428"/>
                </a:cubicBezTo>
                <a:lnTo>
                  <a:pt x="10800" y="15428"/>
                </a:lnTo>
                <a:cubicBezTo>
                  <a:pt x="11836" y="15428"/>
                  <a:pt x="12636" y="14697"/>
                  <a:pt x="12636" y="13775"/>
                </a:cubicBezTo>
                <a:lnTo>
                  <a:pt x="12636" y="8439"/>
                </a:lnTo>
                <a:lnTo>
                  <a:pt x="10800" y="8439"/>
                </a:lnTo>
                <a:lnTo>
                  <a:pt x="14308" y="4932"/>
                </a:lnTo>
                <a:lnTo>
                  <a:pt x="17981" y="8439"/>
                </a:lnTo>
                <a:lnTo>
                  <a:pt x="16144" y="8439"/>
                </a:lnTo>
                <a:lnTo>
                  <a:pt x="16144" y="13775"/>
                </a:lnTo>
                <a:cubicBezTo>
                  <a:pt x="16144" y="16543"/>
                  <a:pt x="13568" y="19101"/>
                  <a:pt x="10800" y="19101"/>
                </a:cubicBezTo>
                <a:lnTo>
                  <a:pt x="9138" y="19101"/>
                </a:lnTo>
                <a:cubicBezTo>
                  <a:pt x="6370" y="19101"/>
                  <a:pt x="3794" y="16543"/>
                  <a:pt x="3794" y="13775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3789360"/>
            <a:ext cx="54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Er war Schullehr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Wie heissen Schuberts hervorragende Werke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schonste Mulleri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anderer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7667640" y="6165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4438" y="7493"/>
                </a:moveTo>
                <a:lnTo>
                  <a:pt x="7946" y="7493"/>
                </a:lnTo>
                <a:lnTo>
                  <a:pt x="7946" y="12828"/>
                </a:lnTo>
                <a:cubicBezTo>
                  <a:pt x="7946" y="13751"/>
                  <a:pt x="8746" y="14482"/>
                  <a:pt x="9782" y="14482"/>
                </a:cubicBezTo>
                <a:lnTo>
                  <a:pt x="11444" y="14482"/>
                </a:lnTo>
                <a:cubicBezTo>
                  <a:pt x="12480" y="14482"/>
                  <a:pt x="13281" y="13751"/>
                  <a:pt x="13281" y="12828"/>
                </a:cubicBezTo>
                <a:lnTo>
                  <a:pt x="13281" y="7493"/>
                </a:lnTo>
                <a:lnTo>
                  <a:pt x="11444" y="7493"/>
                </a:lnTo>
                <a:lnTo>
                  <a:pt x="14952" y="3985"/>
                </a:lnTo>
                <a:lnTo>
                  <a:pt x="18625" y="7493"/>
                </a:lnTo>
                <a:lnTo>
                  <a:pt x="16788" y="7493"/>
                </a:lnTo>
                <a:lnTo>
                  <a:pt x="16788" y="12828"/>
                </a:lnTo>
                <a:cubicBezTo>
                  <a:pt x="16788" y="15596"/>
                  <a:pt x="14212" y="18155"/>
                  <a:pt x="11444" y="18155"/>
                </a:cubicBezTo>
                <a:lnTo>
                  <a:pt x="9782" y="18155"/>
                </a:lnTo>
                <a:cubicBezTo>
                  <a:pt x="7014" y="18155"/>
                  <a:pt x="4438" y="15596"/>
                  <a:pt x="4438" y="1282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3284640"/>
            <a:ext cx="7848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b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Johanne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Matthau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ondscheisonat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llegro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o wurde Schumann geboren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6093000"/>
            <a:ext cx="466560" cy="53964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981">
                <a:moveTo>
                  <a:pt x="0" y="0"/>
                </a:moveTo>
                <a:lnTo>
                  <a:pt x="21600" y="0"/>
                </a:lnTo>
                <a:lnTo>
                  <a:pt x="21600" y="24981"/>
                </a:lnTo>
                <a:lnTo>
                  <a:pt x="0" y="24981"/>
                </a:lnTo>
                <a:close/>
              </a:path>
              <a:path fill="lightenLess" w="21600" h="249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81">
                <a:moveTo>
                  <a:pt x="21600" y="0"/>
                </a:moveTo>
                <a:lnTo>
                  <a:pt x="21600" y="24981"/>
                </a:lnTo>
                <a:lnTo>
                  <a:pt x="20200" y="23581"/>
                </a:lnTo>
                <a:lnTo>
                  <a:pt x="20200" y="1400"/>
                </a:lnTo>
                <a:close/>
              </a:path>
              <a:path fill="darkenLess" w="21600" h="24981">
                <a:moveTo>
                  <a:pt x="21600" y="24981"/>
                </a:moveTo>
                <a:lnTo>
                  <a:pt x="0" y="24981"/>
                </a:lnTo>
                <a:lnTo>
                  <a:pt x="1400" y="23581"/>
                </a:lnTo>
                <a:lnTo>
                  <a:pt x="20200" y="23581"/>
                </a:lnTo>
                <a:close/>
              </a:path>
              <a:path fill="lighten" w="21600" h="24981">
                <a:moveTo>
                  <a:pt x="0" y="249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81"/>
                </a:lnTo>
                <a:close/>
              </a:path>
              <a:path fill="darken" w="21600" h="24981">
                <a:moveTo>
                  <a:pt x="3794" y="9183"/>
                </a:moveTo>
                <a:lnTo>
                  <a:pt x="7301" y="9183"/>
                </a:lnTo>
                <a:lnTo>
                  <a:pt x="7301" y="14518"/>
                </a:lnTo>
                <a:cubicBezTo>
                  <a:pt x="7301" y="15441"/>
                  <a:pt x="8102" y="16172"/>
                  <a:pt x="9138" y="16172"/>
                </a:cubicBezTo>
                <a:lnTo>
                  <a:pt x="10800" y="16172"/>
                </a:lnTo>
                <a:cubicBezTo>
                  <a:pt x="11836" y="16172"/>
                  <a:pt x="12636" y="15441"/>
                  <a:pt x="12636" y="14518"/>
                </a:cubicBezTo>
                <a:lnTo>
                  <a:pt x="12636" y="9183"/>
                </a:lnTo>
                <a:lnTo>
                  <a:pt x="10800" y="9183"/>
                </a:lnTo>
                <a:lnTo>
                  <a:pt x="14308" y="5675"/>
                </a:lnTo>
                <a:lnTo>
                  <a:pt x="17981" y="9183"/>
                </a:lnTo>
                <a:lnTo>
                  <a:pt x="16144" y="9183"/>
                </a:lnTo>
                <a:lnTo>
                  <a:pt x="16144" y="14518"/>
                </a:lnTo>
                <a:cubicBezTo>
                  <a:pt x="16144" y="17286"/>
                  <a:pt x="13568" y="19845"/>
                  <a:pt x="10800" y="19845"/>
                </a:cubicBezTo>
                <a:lnTo>
                  <a:pt x="9138" y="19845"/>
                </a:lnTo>
                <a:cubicBezTo>
                  <a:pt x="6370" y="19845"/>
                  <a:pt x="3794" y="17286"/>
                  <a:pt x="3794" y="1451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4653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In Zwickau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er ist das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17151" t="9283" r="16566" b="7032"/>
          <a:stretch/>
        </p:blipFill>
        <p:spPr>
          <a:xfrm>
            <a:off x="3276720" y="1916280"/>
            <a:ext cx="2324160" cy="3097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67640" y="6237360"/>
            <a:ext cx="468360" cy="4665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83" h="21600">
                <a:moveTo>
                  <a:pt x="0" y="0"/>
                </a:moveTo>
                <a:lnTo>
                  <a:pt x="21683" y="0"/>
                </a:lnTo>
                <a:lnTo>
                  <a:pt x="21683" y="21600"/>
                </a:lnTo>
                <a:lnTo>
                  <a:pt x="0" y="21600"/>
                </a:lnTo>
                <a:close/>
              </a:path>
              <a:path fill="lightenLess" w="21683" h="21600">
                <a:moveTo>
                  <a:pt x="0" y="0"/>
                </a:moveTo>
                <a:lnTo>
                  <a:pt x="21683" y="0"/>
                </a:lnTo>
                <a:lnTo>
                  <a:pt x="20283" y="1400"/>
                </a:lnTo>
                <a:lnTo>
                  <a:pt x="1400" y="1400"/>
                </a:lnTo>
                <a:close/>
              </a:path>
              <a:path fill="darken" w="21683" h="21600">
                <a:moveTo>
                  <a:pt x="21683" y="0"/>
                </a:moveTo>
                <a:lnTo>
                  <a:pt x="21683" y="21600"/>
                </a:lnTo>
                <a:lnTo>
                  <a:pt x="20283" y="20200"/>
                </a:lnTo>
                <a:lnTo>
                  <a:pt x="20283" y="1400"/>
                </a:lnTo>
                <a:close/>
              </a:path>
              <a:path fill="darkenLess" w="21683" h="21600">
                <a:moveTo>
                  <a:pt x="2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3" y="20200"/>
                </a:lnTo>
                <a:close/>
              </a:path>
              <a:path fill="lighten" w="2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3" h="21600">
                <a:moveTo>
                  <a:pt x="3835" y="7493"/>
                </a:moveTo>
                <a:lnTo>
                  <a:pt x="7343" y="7493"/>
                </a:lnTo>
                <a:lnTo>
                  <a:pt x="7343" y="12828"/>
                </a:lnTo>
                <a:cubicBezTo>
                  <a:pt x="7343" y="13751"/>
                  <a:pt x="8143" y="14482"/>
                  <a:pt x="9179" y="14482"/>
                </a:cubicBezTo>
                <a:lnTo>
                  <a:pt x="10842" y="14482"/>
                </a:lnTo>
                <a:cubicBezTo>
                  <a:pt x="11877" y="14482"/>
                  <a:pt x="12678" y="13751"/>
                  <a:pt x="12678" y="12828"/>
                </a:cubicBezTo>
                <a:lnTo>
                  <a:pt x="12678" y="7493"/>
                </a:lnTo>
                <a:lnTo>
                  <a:pt x="10842" y="7493"/>
                </a:lnTo>
                <a:lnTo>
                  <a:pt x="14349" y="3985"/>
                </a:lnTo>
                <a:lnTo>
                  <a:pt x="18022" y="7493"/>
                </a:lnTo>
                <a:lnTo>
                  <a:pt x="16186" y="7493"/>
                </a:lnTo>
                <a:lnTo>
                  <a:pt x="16186" y="12828"/>
                </a:lnTo>
                <a:cubicBezTo>
                  <a:pt x="16186" y="15596"/>
                  <a:pt x="13609" y="18155"/>
                  <a:pt x="10842" y="18155"/>
                </a:cubicBezTo>
                <a:lnTo>
                  <a:pt x="9179" y="18155"/>
                </a:lnTo>
                <a:cubicBezTo>
                  <a:pt x="6411" y="18155"/>
                  <a:pt x="3835" y="15596"/>
                  <a:pt x="3835" y="1282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5373720"/>
            <a:ext cx="52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Clara Schuman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ie viel Kinder hatten Clara und Robert Schumann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609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4365720"/>
            <a:ext cx="63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Sie hatten 8 Kinder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ie heissen die Hauptwerke von Schuman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apillons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arnaval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6165720"/>
            <a:ext cx="538200" cy="466920"/>
          </a:xfrm>
          <a:custGeom>
            <a:avLst/>
            <a:gdLst>
              <a:gd name="textAreaLeft" fmla="*/ 30240 w 538200"/>
              <a:gd name="textAreaRight" fmla="*/ 507960 w 5382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4895" h="21600">
                <a:moveTo>
                  <a:pt x="0" y="0"/>
                </a:moveTo>
                <a:lnTo>
                  <a:pt x="24895" y="0"/>
                </a:lnTo>
                <a:lnTo>
                  <a:pt x="24895" y="21600"/>
                </a:lnTo>
                <a:lnTo>
                  <a:pt x="0" y="21600"/>
                </a:lnTo>
                <a:close/>
              </a:path>
              <a:path fill="lightenLess" w="24895" h="21600">
                <a:moveTo>
                  <a:pt x="0" y="0"/>
                </a:moveTo>
                <a:lnTo>
                  <a:pt x="24895" y="0"/>
                </a:lnTo>
                <a:lnTo>
                  <a:pt x="23495" y="1400"/>
                </a:lnTo>
                <a:lnTo>
                  <a:pt x="1400" y="1400"/>
                </a:lnTo>
                <a:close/>
              </a:path>
              <a:path fill="darken" w="24895" h="21600">
                <a:moveTo>
                  <a:pt x="24895" y="0"/>
                </a:moveTo>
                <a:lnTo>
                  <a:pt x="24895" y="21600"/>
                </a:lnTo>
                <a:lnTo>
                  <a:pt x="23495" y="20200"/>
                </a:lnTo>
                <a:lnTo>
                  <a:pt x="23495" y="1400"/>
                </a:lnTo>
                <a:close/>
              </a:path>
              <a:path fill="darkenLess" w="24895" h="21600">
                <a:moveTo>
                  <a:pt x="24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95" y="20200"/>
                </a:lnTo>
                <a:close/>
              </a:path>
              <a:path fill="lighten" w="24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95" h="21600">
                <a:moveTo>
                  <a:pt x="5441" y="7493"/>
                </a:moveTo>
                <a:lnTo>
                  <a:pt x="8949" y="7493"/>
                </a:lnTo>
                <a:lnTo>
                  <a:pt x="8949" y="12828"/>
                </a:lnTo>
                <a:cubicBezTo>
                  <a:pt x="8949" y="13751"/>
                  <a:pt x="9749" y="14482"/>
                  <a:pt x="10785" y="14482"/>
                </a:cubicBezTo>
                <a:lnTo>
                  <a:pt x="12447" y="14482"/>
                </a:lnTo>
                <a:cubicBezTo>
                  <a:pt x="13483" y="14482"/>
                  <a:pt x="14284" y="13751"/>
                  <a:pt x="14284" y="12828"/>
                </a:cubicBezTo>
                <a:lnTo>
                  <a:pt x="14284" y="7493"/>
                </a:lnTo>
                <a:lnTo>
                  <a:pt x="12447" y="7493"/>
                </a:lnTo>
                <a:lnTo>
                  <a:pt x="15955" y="3985"/>
                </a:lnTo>
                <a:lnTo>
                  <a:pt x="19628" y="7493"/>
                </a:lnTo>
                <a:lnTo>
                  <a:pt x="17792" y="7493"/>
                </a:lnTo>
                <a:lnTo>
                  <a:pt x="17792" y="12828"/>
                </a:lnTo>
                <a:cubicBezTo>
                  <a:pt x="17792" y="15596"/>
                  <a:pt x="15215" y="18155"/>
                  <a:pt x="12447" y="18155"/>
                </a:cubicBezTo>
                <a:lnTo>
                  <a:pt x="10785" y="18155"/>
                </a:lnTo>
                <a:cubicBezTo>
                  <a:pt x="8017" y="18155"/>
                  <a:pt x="5441" y="15596"/>
                  <a:pt x="5441" y="12828"/>
                </a:cubicBez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0160" y="294012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b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Johanne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ie Matthaus Passion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)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ondscheisonat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und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llegro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429000" cy="3816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udwig van Beethov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27480" y="287496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1337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urde geboren: am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17.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ezember 1770 in Bonn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st gestorben:am 26. Marz 1827 in Wien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nstrumente: das Klavier, die Geige, das Cell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as klingende Werk: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ondscheinsonat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88000" y="1125360"/>
            <a:ext cx="15130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332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olfgang Amadeus Moza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2560" y="3162240"/>
            <a:ext cx="325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29973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urde geboren: 1756 in Salzburg, Osterreich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st gestorben: 1791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nstrumente: das Klavier, die Geig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as klingende Werk: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Allegro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885080" y="6210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2681280" cy="3887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15364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590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chard Wagn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559320" cy="396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1916280"/>
            <a:ext cx="410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Wurde geboren: am 22. Mai 1813 in  Leipzig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st gestorben: am 13. Februar 1883 in Italie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ie Opere: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Tristan und Isolda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Valkiria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er Ring von Nibelungen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as klingende Werk: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er Flug des Valkirias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956720" y="6164280"/>
            <a:ext cx="43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668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ohannes Brah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624120" cy="403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00720" y="2781360"/>
            <a:ext cx="34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7280" y="21337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urde geboren: am 7. Mai 1833 in  Hamburg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st gestorben: am 3. April 1897 in Wien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nstrumente: das Klavier, die Geige, das Cell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as klingende Werk: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Der ungarische Tanz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7800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895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z Schube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2205000"/>
            <a:ext cx="390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urde geboren: am 31. Januar 1797 in Wien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st gestorben: am 19 November 1828 in Wien. Instrumente: Klavier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as klingende Werk: Quintett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Forell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Franz Schubert, gemalt um 1827 (oder bis Herbst 1828) von Anton Depauly (1798-1866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76640"/>
            <a:ext cx="3181320" cy="3889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804000" y="692280"/>
            <a:ext cx="115272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621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obert Schuman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8360" y="6093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1554120" cy="1944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35280" y="2060640"/>
            <a:ext cx="484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Wurde geboren: 1810 in Zwickau in einer Musikantenfamilie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st gestorben: 1856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Hauptwerke: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apillons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arnaval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hantasie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Das klingende Werk: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Jugendalbum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51198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684360" y="907920"/>
          <a:ext cx="7772400" cy="5486400"/>
        </p:xfrm>
        <a:graphic>
          <a:graphicData uri="http://schemas.openxmlformats.org/drawingml/2006/table">
            <a:tbl>
              <a:tblPr/>
              <a:tblGrid>
                <a:gridCol w="1870200"/>
                <a:gridCol w="1238040"/>
                <a:gridCol w="1555920"/>
                <a:gridCol w="1554120"/>
                <a:gridCol w="1554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50035"/>
                          </a:solidFill>
                          <a:latin typeface="Times New Roman"/>
                        </a:rPr>
                        <a:t>Bach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1" action="ppaction://hlinksldjump"/>
                        </a:rPr>
                        <a:t>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2" action="ppaction://hlinksldjump"/>
                        </a:rPr>
                        <a:t>2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3" action="ppaction://hlinksldjump"/>
                        </a:rPr>
                        <a:t>3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4" action="ppaction://hlinksldjump"/>
                        </a:rPr>
                        <a:t>4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50035"/>
                          </a:solidFill>
                          <a:latin typeface="Times New Roman"/>
                        </a:rPr>
                        <a:t>Beethove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5" action="ppaction://hlinksldjump"/>
                        </a:rPr>
                        <a:t>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6" action="ppaction://hlinksldjump"/>
                        </a:rPr>
                        <a:t>2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7" action="ppaction://hlinksldjump"/>
                        </a:rPr>
                        <a:t>3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50035"/>
                          </a:solidFill>
                          <a:latin typeface="Bauhaus 93"/>
                        </a:rPr>
                        <a:t>4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50035"/>
                          </a:solidFill>
                          <a:latin typeface="Times New Roman"/>
                        </a:rPr>
                        <a:t>Schubert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8" action="ppaction://hlinksldjump"/>
                        </a:rPr>
                        <a:t>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9" action="ppaction://hlinksldjump"/>
                        </a:rPr>
                        <a:t>2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10" action="ppaction://hlinksldjump"/>
                        </a:rPr>
                        <a:t>3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350035"/>
                          </a:solidFill>
                          <a:uFillTx/>
                          <a:latin typeface="Bauhaus 93"/>
                          <a:hlinkClick r:id="rId11" action="ppaction://hlinksldjump"/>
                        </a:rPr>
                        <a:t>4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50035"/>
                          </a:solidFill>
                          <a:latin typeface="Times New Roman"/>
                        </a:rPr>
                        <a:t>Schumann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50035"/>
                          </a:solidFill>
                          <a:latin typeface="Bauhaus 93"/>
                        </a:rPr>
                        <a:t>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50035"/>
                          </a:solidFill>
                          <a:latin typeface="Bauhaus 93"/>
                        </a:rPr>
                        <a:t>2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50035"/>
                          </a:solidFill>
                          <a:latin typeface="Bauhaus 93"/>
                        </a:rPr>
                        <a:t>3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50035"/>
                          </a:solidFill>
                          <a:latin typeface="Bauhaus 93"/>
                        </a:rPr>
                        <a:t>4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20:47:28Z</dcterms:created>
  <dc:creator>Наташа</dc:creator>
  <dc:description/>
  <cp:keywords/>
  <dc:language>en-US</dc:language>
  <cp:lastModifiedBy>Кудряшов</cp:lastModifiedBy>
  <dcterms:modified xsi:type="dcterms:W3CDTF">2007-12-25T18:11:33Z</dcterms:modified>
  <cp:revision>88</cp:revision>
  <dc:subject/>
  <dc:title>Театральны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61049</vt:lpwstr>
  </property>
</Properties>
</file>