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0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491-1048-4783-AAC8-CC1DA88C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9E3-1422-4988-AF01-8903C0B9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882-85D0-4C0B-ADB4-38837D30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37C-6996-430F-8B32-5FE9E7C2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FF1B-BBDF-4723-80EC-FCF87B12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1E33-E2E3-4FB2-827E-7BCE8C3F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1315-DBC1-4944-A9F6-2CDB175B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1F30-E7ED-4CEF-821A-F7496AE8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B49A-0391-4F58-B0FE-9C5FD5F9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5411-AE19-4AAE-B488-BCD7A24E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F2B1-6C49-4F1F-9159-63FFE96F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78A-88D2-4D8B-AA99-3C034F46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2092-677E-4AEC-BBDB-6CF9C3A2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C3A2-4DF8-494A-A002-1649833A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94CF-A2A6-49D8-AD80-41BC1603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2525-8393-4403-96E9-762C5AED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898C-0CC6-4612-8ED6-9A41213A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BFA-E7E6-4C7B-A777-C0699DB2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2B5-7444-4F88-8DCC-51FE833D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4D1-D06E-4332-B98C-81EBB37F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FE5-3923-42A6-8BD9-F4E609C0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250-94BB-4B0B-A17E-3CC86AF1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215-1E97-4C43-937A-C3DA76B8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F7D-7B2B-4DAA-BBAA-A4E843AC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F0E9-6083-4EB9-8369-550DA0043DF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39E3-0593-4AE6-BCAA-E33353F352C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9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4.jpeg"/><Relationship Id="rId3" Type="http://schemas.openxmlformats.org/officeDocument/2006/relationships/image" Target="../media/image37.jpeg"/><Relationship Id="rId4" Type="http://schemas.openxmlformats.org/officeDocument/2006/relationships/image" Target="../media/image34.jpe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9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E427-B197-427C-9663-BEABBF609D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Валерий Яковлевич  Брюсов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(1873 – 1924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132000" cy="4103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Сон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«К  портрету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М. Ю. Лермонтов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724360" y="3213000"/>
            <a:ext cx="3168720" cy="3645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C55-6294-4B44-9970-9DA9727514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Эпиграф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95280" y="1844640"/>
            <a:ext cx="4537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 отчизну  я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о странною           любовью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(М.Ю.Лермонтов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09744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6AC-EB75-4C64-A5DE-C6338EF57A72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Эпиграф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95280" y="1844640"/>
            <a:ext cx="4537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 отчизну  я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о странною           любовью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(М.Ю.Лермонт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        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«Родина», 1841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09744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EA3-1A42-4284-9221-E3E791F6861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Особенности  патриотизма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М.Ю. Лермонтов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Анализ  стихотворения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«Родина» (1841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2017800" cy="29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E5F-B16F-4617-827F-986D7BF181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12000" spc="-1" strike="noStrike">
                <a:solidFill>
                  <a:srgbClr val="ff3300"/>
                </a:solidFill>
                <a:latin typeface="Arial"/>
              </a:rPr>
              <a:t>?</a:t>
            </a:r>
            <a:br>
              <a:rPr sz="12000"/>
            </a:br>
            <a:endParaRPr b="0" lang="en-US" sz="1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        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ПАТРИОТИЗМ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D84-1EDF-4BFE-A6CD-347E7287453B}" type="slidenum">
              <a:t>14</a:t>
            </a:fld>
          </a:p>
        </p:txBody>
      </p:sp>
    </p:spTree>
  </p:cSld>
  <p:transition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АТРИОТИЗМ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преданность  и  любовь  к  своему  отечеству,  к  своему  народу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768-4FE9-4D0D-92E1-35190BB19BD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5480" y="366840"/>
            <a:ext cx="7516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Цели  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- разобраться, в  чём  особенность  патриотизма  поэта  к родине, используя  все  уровни  поэтической организации  текст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- отработать  навыки  анализа  стихотворени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- расширить  словарный запа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C9F-E202-4DC4-8359-662555F6A5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Объект исследования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творчество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М. Ю. Лермонтов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Предмет исследования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стихотворение «Родина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Цель исследования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?  Россия  для М.Ю. Лермонто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2C3-2D3E-4476-B4C5-A8DA0DC05E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езультаты  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600200"/>
          <a:ext cx="8229600" cy="4204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ча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ча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блюд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езульта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116-8B91-4686-AEB6-EA79B7E2D2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езультаты  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600200"/>
          <a:ext cx="8229600" cy="4204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 ча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 ча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блюд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езульта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185-59C6-4D2E-921B-F30EB9475F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ЗДРАВСТВУЙТЕ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536C-5813-446A-923D-C1BB6A81B3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8777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Особенности  патриотизма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М.Ю. Лермонтов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Анализ  стихотворения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«Родина» (1841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2017800" cy="29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D09-2E44-4967-B417-FA95A616C6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стория создания стихотворения «Родина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572000" cy="2808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888000" cy="4537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971640" y="4581360"/>
            <a:ext cx="3960720" cy="227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228-8BBE-48D1-9716-43D733B65D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стория создания стихотворения «Родина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2952720" cy="4319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4392720" cy="2737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332000" y="4410000"/>
            <a:ext cx="388764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298D-5DE9-48B2-BA6C-2D37641991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стория создания стихотворения «Родина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537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BAE-6B78-4F88-B6F9-BF79D83B02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стория создания стихотворения «Родина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521080" cy="4248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635280" y="2349360"/>
            <a:ext cx="5040360" cy="331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B07F-D5A3-44C0-8723-5C8358E1B1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184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М.Ю. Лермон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«Родин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22D-C315-482C-9AFE-D605884BBD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Образы  Росс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4716360" cy="4149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428472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4D0-D77F-47B4-9C73-D10BAA7F9C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бразы  Росс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4299120"/>
            <a:ext cx="4176720" cy="2558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932360" y="4221000"/>
            <a:ext cx="4211640" cy="2637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4211640" cy="2736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4932360" y="1268280"/>
            <a:ext cx="4211640" cy="26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6F8-2518-45E8-98B9-1A625B61F2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бразы  Росс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00720" y="1916280"/>
            <a:ext cx="4643280" cy="4005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140360" cy="3024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4140360" cy="24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A26-7105-47EB-B2EC-4BD64D1D07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бразы  Росс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2952720" cy="2376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771640" y="1268280"/>
            <a:ext cx="3888000" cy="2665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156360" y="4221000"/>
            <a:ext cx="280836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A94-8384-412B-8814-4C9DEACA2A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63640" y="2349360"/>
            <a:ext cx="619308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   ЛИТЕРАТУР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03F-22E8-4EC1-A6B2-117EC1ED517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бразы  Росси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3024360" cy="4824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3168720" cy="4969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3348000" y="2276640"/>
            <a:ext cx="2303640" cy="43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CB1-35DF-461A-903A-B2D4361CB25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бразы  Росси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3024000" cy="2637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50920" y="4292640"/>
            <a:ext cx="2449440" cy="2565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2484360" y="1484280"/>
            <a:ext cx="3743280" cy="26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6C4-0E81-46C5-93CD-36BC902EED6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бразы  Росс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3024360" cy="3961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2449440" cy="4005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6372360" y="1484280"/>
            <a:ext cx="2520720" cy="38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14EF-85DB-438E-8F62-81B115FFDF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184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М.Ю. Лермонтов   «Родина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ТЕМ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   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Verdana"/>
              </a:rPr>
              <a:t>                                                        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E54-4181-4D1B-AB89-12959704B0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Автограф стихотворения «Родина»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в рукописи «Отчизна»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3960720" cy="551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9C6-9A6F-4466-9963-8E7007DE38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Автограф стихотворения «Родина»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в рукописи «Отчизна»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887640" cy="5229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816360" cy="522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702-A964-4BAA-BCE9-4E72C50FBB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ЖАН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?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25D-B371-4FD0-924A-9B28A3CC4D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ЖАН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Ода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Дума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Лирическое  стихотворение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C04-F46F-4FF7-8C76-30E1483AD5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             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НАСТРОЕ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580-54B3-467D-998A-4E8AD58B219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ФОНЕТ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5D7-2E0F-4D5D-97C5-B873949E2A6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УРОК - ИССЛЕДОВ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1AA7-0BDC-40A9-A854-00410BDF5FE7}" type="slidenum">
              <a:t>4</a:t>
            </a:fld>
          </a:p>
        </p:txBody>
      </p:sp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ФОНЕТИКА-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раздел  науки  о  языке,  изучающий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звуки  реч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3BF-3D7C-4255-8021-3FF84249464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НАСТРО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ПРЕОБЛАДАЮЩИЕ   ЗВУКИ   РЕЧ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О        А       Э        У         Ы         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573408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672-5849-4A45-8D7F-0D06C37570C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НАСТРО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О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 – величие, торжеств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3399"/>
                </a:solidFill>
                <a:latin typeface="Verdana"/>
              </a:rPr>
              <a:t>Е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 – нежность,  приглушен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2E3-AE8C-4F5F-898B-8B50DBCB69A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РОДИНА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?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ОТЧИЗН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303-20CE-4207-924C-ED27D7A1D4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РОДИНА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?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ОТЧИЗН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367-EDE1-4A53-B47F-85E6077371C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РОДИНА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ОТЧИЗН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1.Отечество, родная сторона.            Отечество, Родин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2.Место рожд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992-D8A6-48F0-BF52-FE10C284BA3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en-US" sz="8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РОДИН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ОТЧИЗ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.Отечество, родная сторона.            Отечество, Родин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.Место рожд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440-840F-448B-991C-55F83714C16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омпозиц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en-US" sz="96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121-A289-4117-85AB-82CDFA5AE0FE}" type="slidenum">
              <a:t>47</a:t>
            </a:fld>
          </a:p>
        </p:txBody>
      </p:sp>
    </p:spTree>
  </p:cSld>
  <p:transition>
    <p:wipe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Композиция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строение,  соотношение  и  взаимное расположение част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EC8B-24C5-46E1-8C1C-D80FF136080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отчизну я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D4E-C0F0-4600-8BC0-E13F831ADC5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br>
              <a:rPr sz="9600"/>
            </a:br>
            <a:br>
              <a:rPr sz="96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ССЛЕДОВА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859120"/>
            <a:ext cx="8229600" cy="32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365-4B45-4CCB-BFAD-E2BE0963B3ED}" type="slidenum">
              <a:t>5</a:t>
            </a:fld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отчизну я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главная  мыс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8D3-82B1-40AE-8EAC-80DD14E6FDF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Синтакси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                       </a:t>
            </a:r>
            <a:r>
              <a:rPr b="0" lang="en-US" sz="6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C08-B8EA-4099-8157-50630B2A291B}" type="slidenum">
              <a:t>51</a:t>
            </a:fld>
          </a:p>
        </p:txBody>
      </p:sp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Синтаксис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раздел  науки  о  языке,  изучающ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словосочетание  и  предложение 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F64-BB0C-4647-B692-FE094FF23FD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отчизну я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AB3-A2C4-42E2-BA5D-C1A48BB481F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ff"/>
                </a:solidFill>
                <a:latin typeface="Verdana"/>
              </a:rPr>
              <a:t>Люблю отчизну я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33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о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841-D745-4AD2-858C-C538898681A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УНКТУАЦ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6FF9-7646-4D3E-96D8-084507AFEF7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УНКТУАЦИЯ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раздел  науки  о  языке,  изучающий  знаки  разделения  и  заверш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191-A03F-4442-BF91-A6FBBCBBA07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ff"/>
                </a:solidFill>
                <a:latin typeface="Verdana"/>
              </a:rPr>
              <a:t>Люблю отчизну я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33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о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4B4-E57E-461D-ACE8-D9BF135E4EC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ЛЕКСИК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          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1BD-926B-4E51-8ED4-8C0B1C003B4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ЛЕКСИКА -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раздел науки о языке, изучающий словарный состав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890-5242-47CA-A578-D4B01D1D599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ИССЛЕДОВАНИЕ-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859120"/>
            <a:ext cx="8229600" cy="32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открытие  нового, интересн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045-0356-470E-9DB5-9EE4947E0DE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отчизну я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ключевое слов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65D-739F-44DC-A0EE-7889AFF25FB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Люблю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отчизну я, но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странною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любовью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ключевое слов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1EE-24B1-4D0D-845F-39B069514AF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0" lang="en-US" sz="8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ЛЮБОВЬ-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СТРАННЫЙ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чувство самоотверженной,              необыкновенный, необычный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сердечной привязанности.              особенный, вызывающ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недоумен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C66-6B73-4B16-B7C4-C6F2A7F733C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Люблю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отчизну я, но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странною  любовью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D26-E575-4333-B0A9-D11F677CC62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МОРФОЛОГ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7CD-4A90-44DE-B756-049D994F42A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Морфология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раздел  науки  о  языке,  изучающ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части  речи 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58C-0E99-406F-98E3-838937BA70D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отчизну я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3E2-CFC3-4B97-B569-99FE7BA3F19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отчизну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я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мой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мне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8B3-4688-4CE0-A45B-2FDCC0ED611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ИНВЕРС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83A-6AE1-4986-94C1-084C85AA9D4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нверсия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изменение  привычного  порядка слов  или словосочетаний  как  стилистический приём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FC0-118C-4452-A864-C273423B460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8469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ОБЪЕКТ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E8F-2915-461C-BF5C-07C57C5827B7}" type="slidenum">
              <a:t>7</a:t>
            </a:fld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Люблю отчизну я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7EB-1807-4911-9294-1D253761934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Люблю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отчизну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я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, но странною  любовью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F01-B766-4293-BB94-17A118FEF0F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ЛЮБЛЮ  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Я  ЛЮБЛ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4D4-7A9A-40E7-8B2C-C76220CD3BA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«Родин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Люблю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 отчизну я, но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странною  любовью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победит  её  рассудок  м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слава, купленная кровью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полный гордого доверия пок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и  темной старины заветного предань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Не шевелят во мне отрадного мечтан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E50-5EA3-40E6-89EB-01E07410E41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БРАЗЫ  ОТЧИЗ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сла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                 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стари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                                     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пок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         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4E1-B4D7-4185-8ACF-B2EBA663357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0" lang="en-US" sz="8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РОДИН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ОТЧИЗ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7" name="Picture 2" descr="C:\Documents and Settings\1\Мои документы\Мои рисунки\lermontov_03.jpg"/>
          <p:cNvPicPr/>
          <p:nvPr/>
        </p:nvPicPr>
        <p:blipFill>
          <a:blip r:embed="rId1"/>
          <a:stretch/>
        </p:blipFill>
        <p:spPr>
          <a:xfrm>
            <a:off x="3564000" y="1413000"/>
            <a:ext cx="194472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7BC-4ED2-4A12-BE5B-AA7830C0781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М.Ю. Лермонтов«Родина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Но  я люблю – за  что, не  знаю са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Её степей холодное молчань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Её лесов безбрежных колыхань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Разливы рек  её, подобные моря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Проселочным путем люблю  скакать в телег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И, взором  медленным  пронзая  ночи тен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Встречать  по сторонам, вздыхая о ночлег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Дрожащие огни  печальных деревен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Люблю дымок  спаленной жнивы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В  степи  ночующий обоз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Чету белеющих берез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С отрадой, многим незнакомой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Я вижу  полное гумно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Избу, покрытую соломо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С резными  ставнями  окн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И в праздник, вечером росистым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Смотреть  до  полночи  гот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На  пляску  с  топаньем  и  свисто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Под  говор пьяных мужичк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143-AD82-4136-86DF-A7913F4FA30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М.Ю. Лермонтов«Родина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Но  я люблю – за  что, не  знаю са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Её степей холодное молчань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Её лесов безбрежных колыхань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Разливы рек  её, подобные моря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Проселочным путем люблю  скакать в телег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И, взором  медленным  пронзая  ночи тен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Встречать  по сторонам, вздыхая о ночлег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Дрожащие огни  печальных деревен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Люблю дымок  спаленной жнивы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В  степи  ночующий обоз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Чету белеющих берез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С отрадой, многим незнакомой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Я вижу  полное гумно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Избу, покрытую соломо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С резными  ставнями  окн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И в праздник, вечером росистым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Смотреть  до  полночи  гот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На  пляску  с  топаньем  и  свисто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Под  говор пьяных мужичк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          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главная   мысл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575-842C-4EB5-BEFD-783F03EB5C9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М.Ю. Лермонтов«Родина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Но  я люблю – за  что, не  знаю са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Её степей холодное молчань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Её лесов безбрежных колыхань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Разливы рек  её, подобные моря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Проселочным путем люблю  скакать в телег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И, взором  медленным  пронзая  ночи тен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Встречать  по сторонам, вздыхая о ночлег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Дрожащие огни  печальных деревен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Люблю дымок  спаленной жнивы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В  степи  ночующий обоз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Verdana"/>
              </a:rPr>
              <a:t>Чету белеющих берез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99"/>
                </a:solidFill>
                <a:latin typeface="Verdana"/>
              </a:rPr>
              <a:t>С отрадой, многим незнакомой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99"/>
                </a:solidFill>
                <a:latin typeface="Verdana"/>
              </a:rPr>
              <a:t>Я вижу  полное гумно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3399"/>
                </a:solidFill>
                <a:latin typeface="Verdana"/>
              </a:rPr>
              <a:t>Избу, покрытую соломо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С резными  ставнями  окн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И в праздник, вечером росистым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Смотреть  до  полночи  гот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На  пляску  с  топаньем  и  свисто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Под  говор пьяных мужичк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D95-1829-445B-B3F7-6CFB86D4FE5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ПЕЙЗАЖНЫЕ ОБРАЗЫ  РОСС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17F-9A9C-469E-9C6B-DC15D1A7D13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Литературная разм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«Скажи-ка, дядя, ведь недаром…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«Белеет парус одинокий…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«Тучки небесные, вечные странники…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«На севере диком стоит одиноко…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«Выхожу один я на дорогу…»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«Погиб Поэт! – невольник  чести –  ..»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D2D-3904-4E47-8E31-7C3D80925D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ПЕЙЗАЖНЫЕ ОБРАЗЫ  РОСС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степ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                      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ле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                                         </a:t>
            </a:r>
            <a:r>
              <a:rPr b="0" lang="en-US" sz="3200" spc="-1" strike="noStrike">
                <a:solidFill>
                  <a:srgbClr val="ff9933"/>
                </a:solidFill>
                <a:latin typeface="Verdana"/>
              </a:rPr>
              <a:t>ре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059-7D03-4D12-BCD1-64F5DFDE5CA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БРАЗЫ  РОСС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проселочный  путь,  деревни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спаленные  жнивы, чета  берёз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полное  гумно,  изба, пляска мужичков с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топаньем и  свисто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DE2-C824-4F26-9565-948219A3062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БРАЗЫ  РОСС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проселочный  путь,  деревни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спаленные  жнивы, чета  берёз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полное  гумно,  изба, пляска мужичков с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топаньем и  свисто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                                </a:t>
            </a: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                           </a:t>
            </a: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чувст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C93-F442-4E0F-A40A-5FC6E0A4EBA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ПРОСЕЛОЧНЫЙ  ПУ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9DF-CF57-4679-A6B7-D2C0C451B2C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ПРОСЕЛОЧНЫЙ  ПУ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ЖИЗНЕННЫЙ   ПУ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74F-4754-4DA2-95EE-1CCD4BB09D7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«ЧЕТА  БЕРЁЗ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                     </a:t>
            </a: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Verdana"/>
              </a:rPr>
              <a:t>            </a:t>
            </a:r>
            <a:r>
              <a:rPr b="0" lang="en-US" sz="4400" spc="-1" strike="noStrike">
                <a:solidFill>
                  <a:srgbClr val="00ff00"/>
                </a:solidFill>
                <a:latin typeface="Verdana"/>
              </a:rPr>
              <a:t>пара  берёз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3E3-FCFF-42F4-B712-7B5E9774136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ЧЕТА -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ПАРА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пара  двух  лиц               два однородных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 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предме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                    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891-A702-4AFE-9AD9-41EDB0ADEE8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«ЧЕТА  БЕРЁЗ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                     </a:t>
            </a: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Verdana"/>
              </a:rPr>
              <a:t>            </a:t>
            </a:r>
            <a:r>
              <a:rPr b="0" lang="en-US" sz="4400" spc="-1" strike="noStrike">
                <a:solidFill>
                  <a:srgbClr val="00ff00"/>
                </a:solidFill>
                <a:latin typeface="Verdana"/>
              </a:rPr>
              <a:t>пара  берёз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AB2-903C-412D-946C-5F4902794BB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     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умн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ни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жнивь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         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Verdana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DDD-88B1-4788-95E9-5E53436BF68C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Произвести  морфемный  разбо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мужи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мужич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14C-FDD5-4D01-BC14-6B77BC9D487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бъект   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Творчество  М.Ю. Лермонто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097440" cy="32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500-447A-4CE8-92A7-5AF77111DA2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ЦВЕТОПИС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1921-88CD-4F03-A820-E3BEAD88CB5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Домашнее  задание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написать  сочинение – эссе  по  стихотворению  М.Ю. Лермонтова  «Родина», 1841</a:t>
            </a:r>
            <a:br>
              <a:rPr sz="40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4194000"/>
            <a:ext cx="2665440" cy="26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16F-92C4-4079-A97E-BB56CCA4048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i-tmb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2881440" cy="2637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227640" y="4292640"/>
            <a:ext cx="2592360" cy="2565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6227640" y="1484280"/>
            <a:ext cx="2592360" cy="26384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C:\Documents and Settings\1\Мои документы\Мои рисунки\lermontov_03.jpg"/>
          <p:cNvPicPr/>
          <p:nvPr/>
        </p:nvPicPr>
        <p:blipFill>
          <a:blip r:embed="rId4"/>
          <a:stretch/>
        </p:blipFill>
        <p:spPr>
          <a:xfrm>
            <a:off x="395280" y="1557360"/>
            <a:ext cx="2952720" cy="25192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1814 – 1841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323640" y="3933360"/>
            <a:ext cx="3600360" cy="21891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6"/>
          <a:stretch/>
        </p:blipFill>
        <p:spPr>
          <a:xfrm>
            <a:off x="4642920" y="3933360"/>
            <a:ext cx="4038840" cy="21891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7"/>
          <a:stretch/>
        </p:blipFill>
        <p:spPr>
          <a:xfrm>
            <a:off x="2627280" y="1197000"/>
            <a:ext cx="3600360" cy="56610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8"/>
          <a:stretch/>
        </p:blipFill>
        <p:spPr>
          <a:xfrm>
            <a:off x="5580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42CC-507B-45F8-8436-8F2C3C0EF7FE}" type="slidenum">
              <a:t>92</a:t>
            </a:fld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1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Анализ исходных понятий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41560" y="3174840"/>
            <a:ext cx="6860880" cy="25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Verdana"/>
              </a:rPr>
              <a:t>Объясните, как вы понимаете, что такое добро и что такое зло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979640" y="2276640"/>
            <a:ext cx="51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Times New Roman"/>
              </a:rPr>
              <a:t>Подумаем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ff33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5860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1A5-50E0-4084-8684-CC0CCF26197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езультаты  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 чём мы говорили сегодня на урок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ам интересен этот разговор? Заполните, пожалуйста, таблич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ценки за уро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D95-596A-40E8-B701-09C740121B6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6:52:28Z</dcterms:created>
  <dc:creator>Olga</dc:creator>
  <dc:description/>
  <cp:keywords/>
  <dc:language>en-US</dc:language>
  <cp:lastModifiedBy>Питонище</cp:lastModifiedBy>
  <dcterms:modified xsi:type="dcterms:W3CDTF">2010-03-08T19:21:38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61049</vt:lpwstr>
  </property>
</Properties>
</file>