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B66-9689-4E88-B8E5-477A62D8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18A-ADB9-4FC8-A8CD-640F90E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C04-E892-4659-B4AD-25AF665B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FEF-C310-48AE-B996-45560C29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97A2-F1A3-481D-9395-F370C52E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A45C-8DE4-43C7-83FF-292AB7E0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82E7-9F76-4388-9B39-FE6E036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29B6-99D5-4A95-89FD-66951AB5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9E8-272B-4401-860C-B720F48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5787-A2A1-4664-823C-F3B1A3C3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FCF7-5FB8-4CC4-AD2B-D858D07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C7C-9F0F-4F6F-9A81-86DE4C5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2555-7FAF-4088-9DBD-764C971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A16-9550-4F55-ABE2-75137F1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977C-126E-4B9C-9A1D-F40CA39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65DC-9748-42DC-B1D3-B3379691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F24-67FC-451A-93D0-F7135152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7F1-5123-45B5-A339-E40FCD58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42C-86A4-4B67-8F5E-818EF3B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1C3-D78F-4646-8BE9-87DB4C7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1A9-20F8-4998-9C9A-29FEF4C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FC2-C2A2-4D24-B7AA-8345F08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73B-6C6A-4D38-8A75-1AEC637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EB4-392C-435A-A252-CE43D24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FFD-7F98-40D2-A5B2-D3F4361071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B25-51AD-4D7A-B54D-CE5CE47C05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jpeg"/><Relationship Id="rId3" Type="http://schemas.openxmlformats.org/officeDocument/2006/relationships/image" Target="../media/image37.jpeg"/><Relationship Id="rId4" Type="http://schemas.openxmlformats.org/officeDocument/2006/relationships/image" Target="../media/image34.jpe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761-6EFE-435A-B787-0607F602E9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алерий Яковлевич  Брюсов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1873 – 1924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13200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он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К  портрету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 Ю. Лермонтов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24360" y="3213000"/>
            <a:ext cx="3168720" cy="3645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9EF-30C9-44F0-B5A9-DD571A1D4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53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 отчизну  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о странною           любовью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(М.Ю.Лермонтов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97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CE0-9B5A-4087-88BC-0429D4051A06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53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 отчизну  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о странною           любовью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(М.Ю.Лермон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«Родина», 184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97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F57-28C9-4621-BBAB-2F855593B0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Особенности  патриотизма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Ю. Лермонто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Анализ  стихотворения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«Родина» (1841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01780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B3A-3605-401E-8E04-ABA380BB3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20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12000"/>
            </a:br>
            <a:endParaRPr b="0" lang="en-US" sz="1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ПАТРИОТИЗМ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4F5-CF21-420C-B16F-C02DE9B9C4EE}" type="slidenum">
              <a:t>14</a:t>
            </a:fld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ТРИОТИЗМ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преданность  и  любовь  к  своему  отечеству,  к  своему  народу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2FE-9BFE-4447-B9FC-7530F36795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5480" y="366840"/>
            <a:ext cx="7516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Цели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разобраться, в  чём  особенность  патриотизма  поэта  к родине, используя  все  уровни  поэтической организации  текс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отработать  навыки  анализа  стихотворе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расширить  словарный запа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207-20B9-4DCC-B485-97183AD6B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Объект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ворчеств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М. Ю. Лермонто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Предмет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тихотворение «Родина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Цель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  Россия  для М.Ю. Лермонто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21E-A2DB-45C6-8844-7D0B9AB74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20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блю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852-4C52-4767-B02B-F839E91C1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420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блю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8AE-94B4-4D09-ACEB-F2BE44783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ДРАВСТВУЙТЕ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A3E9-9CA1-4857-B678-211BDC583A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77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Особенности  патриотизма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Ю. Лермонто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Анализ  стихотворения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«Родина» (1841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01780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05E-1B73-4B27-AE3B-99B122542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88000" cy="4537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3960720" cy="22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F0C-AAB5-47C8-B7B1-908AD4DF9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952720" cy="4319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2737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332000" y="4410000"/>
            <a:ext cx="38876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3DC-B892-4EE6-BDA7-BCC304C6CC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37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0BA-F921-42D5-AF17-1C4B2AC4D8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521080" cy="424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504036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067-B67D-4960-BF60-9FAED07E50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18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М.Ю. Лермон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Родин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6CB-3B82-4F71-8A3A-F452794FB6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Образы  Росс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716360" cy="4149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42847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EB9-CC8E-4AB5-A464-DEFB185FCD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4299120"/>
            <a:ext cx="4176720" cy="255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4211640" cy="263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4211640" cy="27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421164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D56-4155-41B1-A22F-B57F2A9E14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643280" cy="4005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140360" cy="3024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4140360" cy="24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CFC-85DE-40A7-859A-8ED6B56244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295272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888000" cy="2665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5B8-2F88-42F3-8219-D90681AE34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63640" y="2349360"/>
            <a:ext cx="619308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   ЛИТЕРАТУР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E6A-59FA-4C9D-9F24-79D135E6801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0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168720" cy="4969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230364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173-D614-453C-B2BE-A4596E2996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3024000" cy="2637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449440" cy="2565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4FD-7BF5-4F99-9F4C-1941930780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24360" cy="3961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449440" cy="400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372360" y="1484280"/>
            <a:ext cx="252072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79D-8FD0-4B32-9842-E7F856E97E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18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М.Ю. Лермонтов   «Родина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ТЕМ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Verdana"/>
              </a:rPr>
              <a:t>                                                       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6B3-ECA8-45CB-8FC0-5B54007556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втограф стихотворения «Родина»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в рукописи «Отчизна»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96072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FE9-D747-4A28-AA7D-672A0D0029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втограф стихотворения «Родина»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в рукописи «Отчизна»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887640" cy="522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16360" cy="52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D7F-98EB-46F5-B4B4-DBEA396794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ЖАН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0BA-A360-4EB4-A865-DB9382C66F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ЖАН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О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Дум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Лирическое  стихотворение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B60-B9FA-4C29-82C7-FEB2EDF986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НАСТРО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78F-D0CE-4159-931D-36BD575698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НЕ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EBC-0ADA-4E4C-8737-82BFE61CFE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УРОК - ИССЛЕДОВ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1EE1-9955-4581-84DF-C85875E406CC}" type="slidenum">
              <a:t>4</a:t>
            </a:fld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ФОНЕТИКА-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звуки  ре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39E-5E81-47CA-9339-241BCA838C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ПРЕОБЛАДАЮЩИЕ   ЗВУКИ   РЕ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О        А       Э        У         Ы         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573408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D0B-6690-4976-92A9-3C21C31EA0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О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– величие, торже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Е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– нежность,  приглуше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AA1-1249-422B-A6AB-9ADB85AD3A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2A-1D15-482F-BED3-D8AA3759DA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454-D402-41DF-94B5-6EE21F98D3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.Отечество, родная сторона.            Отечество, Роди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.Место рожд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EC1-F689-4F6F-8CC0-DDC3210C9E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РОДИ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ОТЧИЗ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.Отечество, родная сторона.            Отечество, Роди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.Место рожд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170-621E-4F55-A457-F23753D443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омпози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en-US" sz="9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F59-AA9E-49F9-BAD8-CE174FC5B897}" type="slidenum">
              <a:t>47</a:t>
            </a:fld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мпозиция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троение,  соотношение  и  взаимное расположение ча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48A-A894-421C-B62F-71CDD6E139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46F-800D-495A-A9F5-1816D1A1706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9600"/>
            </a:br>
            <a:br>
              <a:rPr sz="96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СЛЕД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59120"/>
            <a:ext cx="822960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0B7-DE7B-47A2-B18E-6F32F784E85A}" type="slidenum">
              <a:t>5</a:t>
            </a:fld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главная  мыс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B36-81C7-4A6F-90E7-FAB2BAA677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Синтакси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                       </a:t>
            </a: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EBB-DFD5-4C15-92B5-A7C5DE8C09BE}" type="slidenum">
              <a:t>51</a:t>
            </a:fld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интаксис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ловосочетание  и  предложение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CB7-D8AB-4500-B01D-980B0EEB97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63A-ACEC-4889-8363-EC4A5606C5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ff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о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F62-61EC-458E-8D9B-AA322B4687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УНКТУА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8D9-7B48-42A5-8E19-CB83C1F42BB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УНКТУАЦ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  знаки  разделения  и  заверш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08B-0C76-4EE8-8DAA-76C14297A3C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ff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о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102-96F5-4420-B949-296F0F4E29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ЛЕКСИ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50C-7D82-45B1-92DC-CA4904C4B7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ЛЕКСИКА -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науки о языке, изучающий словарный соста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096-F22B-47BC-B36D-E3BEDC52E27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ИССЛЕДОВАНИЕ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859120"/>
            <a:ext cx="822960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открытие  нового, интерес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81B-847D-402B-8771-630F85617C9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лючевое сл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EFB-9C6B-4565-BE65-DB9AC7FFF55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лючевое сл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A29-1249-45C6-9ECA-51970A6A3B8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ЛЮБОВЬ-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СТРАННЫЙ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чувство самоотверженной,              необыкновенный, необычны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сердечной привязанности.              особенный, вызывающ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недоум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AFA-A6DA-477F-BC0B-E635992A6D4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  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131-EB16-4782-A97F-1C46D5A3FD6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МОРФОЛОГ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EE4-F400-413B-B9EA-F9699CFC53D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орфолог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части  речи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DD7-E61C-4A02-AADC-C6F56B5CC39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8E3-FDF0-4B85-ABF4-787145AB790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я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мой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мне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24C-5050-4EE5-BD44-D58AEBF99FE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ИНВЕРС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6BA-C5CF-47B2-B824-B0C7BDA6CEC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нверс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изменение  привычного  порядка слов  или словосочетаний  как  стилистический приё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E92-95AE-4F25-B964-957CF5D27D2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846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БЪЕКТ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7E0-8E6D-47C2-B42B-EC9B4937C234}" type="slidenum">
              <a:t>7</a:t>
            </a:fld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50B-0276-4E87-AA12-66CC699B0D7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отчизну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я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AD0-4045-4581-ABEE-411D65727A4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ЛЮБЛЮ  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Я  ЛЮБЛ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E74-061C-4375-B9A5-2076FC53747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  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76F-D824-4B4D-9007-180D0603681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ОТЧИЗ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ла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тар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по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92D-F4AC-45D5-B617-B9CF0F7F2F5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ОТЧИЗ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2" descr="C:\Documents and Settings\1\Мои документы\Мои рисунки\lermontov_03.jpg"/>
          <p:cNvPicPr/>
          <p:nvPr/>
        </p:nvPicPr>
        <p:blipFill>
          <a:blip r:embed="rId1"/>
          <a:stretch/>
        </p:blipFill>
        <p:spPr>
          <a:xfrm>
            <a:off x="3564000" y="141300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F9F-C9F3-4EBB-82B7-DFB4EA82093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724-640D-421C-85D2-5C629ADECEE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главная   мыс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7D5-3E89-44FC-87D8-E7AF1020F5D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1E0-A898-42AD-A3C5-DD86C68CBC7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ЕЙЗАЖНЫЕ ОБРАЗЫ 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887-D5F6-4572-852B-EB703604B1C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Литературн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Скажи-ка, дядя, ведь недаром…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Белеет парус одинокий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Тучки небесные, вечные странники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На севере диком стоит одиноко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Выхожу один я на дорогу…»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Погиб Поэт! – невольник  чести –  ..»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C1D-6C81-4988-BBFF-451B3538B1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ЕЙЗАЖНЫЕ ОБРАЗЫ 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теп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ле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24F-432E-44BF-8FBB-6A4A4242568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проселочный  путь,  деревн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спаленные  жнивы, чета  берёз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полное  гумно,  изба, пляска мужичков с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топаньем и  свис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E1C-3E30-4281-A5EA-C0264A10053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роселочный  путь,  деревн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спаленные  жнивы, чета  берёз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лное  гумно,  изба, пляска мужичков с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топаньем и  свис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чув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E30-19C9-45CB-928E-74A0B5CCEF1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СЕЛОЧНЫЙ  ПУ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E0B-93DA-492D-97A6-D2449B73969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РОСЕЛОЧНЫЙ  ПУ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ЖИЗНЕННЫЙ   ПУ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B1F-B650-47B8-A8B0-83E923700E5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ЧЕТА  БЕРЁЗ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            </a:t>
            </a: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пара  берё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9C3-238E-44F7-B91F-AAC49160FB7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ЧЕТА -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ПАРА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ара  двух  лиц               два однородны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редм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6DB-4742-495F-829A-9E383973DCF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ЧЕТА  БЕРЁЗ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            </a:t>
            </a: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пара  берё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9C9-F4E7-4D89-85E4-4E4A4BAC7A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ум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жнивь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054-8298-4C31-B976-EE9771D3E45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оизвести  морфемный  разбо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мужи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мужич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26B-3DCF-4D1E-921B-621C4EA745C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ъект 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ворчество  М.Ю. Лермонто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09744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2B3-D307-4A45-BA05-B68950BE855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ЦВЕТОПИ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C16-0807-48F7-9BAE-6486B7A7106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омашнее  задание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написать  сочинение – эссе  по  стихотворению  М.Ю. Лермонтова  «Родина», 1841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4194000"/>
            <a:ext cx="266544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443-8377-4750-86B0-79E848DFE69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-tmb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592360" cy="2565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592360" cy="263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Documents and Settings\1\Мои документы\Мои рисунки\lermontov_03.jpg"/>
          <p:cNvPicPr/>
          <p:nvPr/>
        </p:nvPicPr>
        <p:blipFill>
          <a:blip r:embed="rId4"/>
          <a:stretch/>
        </p:blipFill>
        <p:spPr>
          <a:xfrm>
            <a:off x="395280" y="1557360"/>
            <a:ext cx="2952720" cy="25192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1814 – 184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323640" y="3933360"/>
            <a:ext cx="3600360" cy="2189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4642920" y="3933360"/>
            <a:ext cx="4038840" cy="2189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2627280" y="1197000"/>
            <a:ext cx="3600360" cy="5661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5580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314-57DC-48F3-8B38-7B84A4494134}" type="slidenum">
              <a:t>92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Анализ исходных поняти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1560" y="3174840"/>
            <a:ext cx="686088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Объясните, как вы понимаете, что такое добро и что такое з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79640" y="227664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Times New Roman"/>
              </a:rPr>
              <a:t>Подумае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5860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6ED-0884-4511-B7E5-E8742CCB89B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 чём мы говорили сегодня на урок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ам интересен этот разговор? Заполните, пожалуйста, таблич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ценки за ур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E5C-840D-4673-A3A6-2F630D5D0D4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6:52:28Z</dcterms:created>
  <dc:creator>Olga</dc:creator>
  <dc:description/>
  <cp:keywords/>
  <dc:language>en-US</dc:language>
  <cp:lastModifiedBy>Питонище</cp:lastModifiedBy>
  <dcterms:modified xsi:type="dcterms:W3CDTF">2010-03-08T19:21:38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61049</vt:lpwstr>
  </property>
</Properties>
</file>