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C747-4D0C-4895-BCBF-AE4A19AEC6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22E2-81FB-4318-922F-74A314E358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559-60DC-4C2F-82F9-D4E3F068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E99-DEAC-47EA-9220-AD849885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A86-1659-46D2-8D66-03C80E1D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13B-67E1-46F2-A2EE-0A75AAE7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534-7860-445E-B967-EC5E74B7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AD1-96ED-42B2-A0F4-F265E2B5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996-2464-4283-8AC1-CF18329A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19B-3858-4E38-8FAE-5F3D010F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A83-0307-4B06-9E7E-EC73019A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2B0-5793-4B45-B0D7-6E1BF475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2E8-20CA-432D-AD6C-28BFD008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18C-E662-4C7A-89D9-73C62B26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F4A5-B9C1-440E-B3E4-881F9990B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2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2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295280" y="2133720"/>
            <a:ext cx="6553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КАВКАЗ  ПОДО  МНОЮ"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426760" y="5410080"/>
            <a:ext cx="642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рок  географии  в  8 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читель высшей квалификационной  категор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Лукина  Татьяна  Александр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Бештау"/>
          <p:cNvPicPr/>
          <p:nvPr/>
        </p:nvPicPr>
        <p:blipFill>
          <a:blip r:embed="rId2"/>
          <a:stretch/>
        </p:blipFill>
        <p:spPr>
          <a:xfrm>
            <a:off x="0" y="533520"/>
            <a:ext cx="5334120" cy="3962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гора Машук"/>
          <p:cNvPicPr/>
          <p:nvPr/>
        </p:nvPicPr>
        <p:blipFill>
          <a:blip r:embed="rId4"/>
          <a:stretch/>
        </p:blipFill>
        <p:spPr>
          <a:xfrm>
            <a:off x="4114800" y="3314880"/>
            <a:ext cx="5029200" cy="354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307440" y="40384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г. Бешт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793280" y="6324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г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Маш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4572000"/>
            <a:ext cx="4057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Лакколит - куполообразная форма залегания магматических горных пород, образующаяся при внедрении магмы между слоями осадочных п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486400" y="167652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На стыке хребтов  Центрального Кавказа с предгорьями образовались лакко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1906200" y="304920"/>
            <a:ext cx="3126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ОРМЫ  РЕЛЬЕ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машук"/>
          <p:cNvPicPr/>
          <p:nvPr/>
        </p:nvPicPr>
        <p:blipFill>
          <a:blip r:embed="rId3"/>
          <a:stretch/>
        </p:blipFill>
        <p:spPr>
          <a:xfrm>
            <a:off x="0" y="1143000"/>
            <a:ext cx="5867280" cy="403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место дуэли лермонтова"/>
          <p:cNvPicPr/>
          <p:nvPr/>
        </p:nvPicPr>
        <p:blipFill>
          <a:blip r:embed="rId4"/>
          <a:stretch/>
        </p:blipFill>
        <p:spPr>
          <a:xfrm>
            <a:off x="5600880" y="2133720"/>
            <a:ext cx="354312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685800" y="5486400"/>
            <a:ext cx="47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В 1841 году на склоне горы Машук, близ Пятигорска, во время  дуэли был убит М.Ю. Лермо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4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Эльбрус"/>
          <p:cNvPicPr/>
          <p:nvPr/>
        </p:nvPicPr>
        <p:blipFill>
          <a:blip r:embed="rId2"/>
          <a:stretch/>
        </p:blipFill>
        <p:spPr>
          <a:xfrm>
            <a:off x="4495680" y="3294000"/>
            <a:ext cx="4648320" cy="356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73080_45ca89c6"/>
          <p:cNvPicPr/>
          <p:nvPr/>
        </p:nvPicPr>
        <p:blipFill>
          <a:blip r:embed="rId4"/>
          <a:stretch/>
        </p:blipFill>
        <p:spPr>
          <a:xfrm>
            <a:off x="0" y="1371600"/>
            <a:ext cx="4724280" cy="3505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4800600" y="1461240"/>
            <a:ext cx="3962520" cy="189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 algn="ctr"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На какую высоту поднимаются  горные хребты  Большого Кавк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    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Учебник стр. 163, рис.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5333040"/>
            <a:ext cx="38098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Нанести на контурную карту г. Эльбрус (5642 м) и определить её координ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45760" y="228600"/>
            <a:ext cx="4060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АБОТА  С  УЧЕБ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И  КОНТУРНОЙ  КА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80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3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1424621_939ff6cf"/>
          <p:cNvPicPr/>
          <p:nvPr/>
        </p:nvPicPr>
        <p:blipFill>
          <a:blip r:embed="rId2"/>
          <a:stretch/>
        </p:blipFill>
        <p:spPr>
          <a:xfrm>
            <a:off x="152280" y="114480"/>
            <a:ext cx="8839440" cy="662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528200" y="380880"/>
            <a:ext cx="3884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ВУГЛАВЫЙ   ЭЛЬБ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413240" y="4341960"/>
            <a:ext cx="414468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 вдалеке перед то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деты голубым туман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ора вздымалась над горой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в сонме их гигант двугла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жасною и велича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м всё блистает крас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.А. Жуков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обвал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2666880" y="6324480"/>
            <a:ext cx="2014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бвал в г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754640" y="304920"/>
            <a:ext cx="328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ЯВЛЕНИЯ  В  Г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4" descr="пятигорск"/>
          <p:cNvPicPr/>
          <p:nvPr/>
        </p:nvPicPr>
        <p:blipFill>
          <a:blip r:embed="rId2"/>
          <a:srcRect l="0" t="0" r="-40" b="0"/>
          <a:stretch/>
        </p:blipFill>
        <p:spPr>
          <a:xfrm>
            <a:off x="0" y="1143000"/>
            <a:ext cx="4724280" cy="3962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Кисловодск_"/>
          <p:cNvPicPr/>
          <p:nvPr/>
        </p:nvPicPr>
        <p:blipFill>
          <a:blip r:embed="rId3"/>
          <a:stretch/>
        </p:blipFill>
        <p:spPr>
          <a:xfrm>
            <a:off x="4419720" y="3314880"/>
            <a:ext cx="4724280" cy="35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3"/>
          <p:cNvPicPr/>
          <p:nvPr/>
        </p:nvPicPr>
        <p:blipFill>
          <a:blip r:embed="rId4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256658152"/>
          <p:cNvPicPr/>
          <p:nvPr/>
        </p:nvPicPr>
        <p:blipFill>
          <a:blip r:embed="rId5"/>
          <a:stretch/>
        </p:blipFill>
        <p:spPr>
          <a:xfrm>
            <a:off x="4419720" y="1371600"/>
            <a:ext cx="2666880" cy="2529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609480" y="533304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Всемирную известность имеют Кавказские минеральные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medium_157682_0"/>
          <p:cNvPicPr/>
          <p:nvPr/>
        </p:nvPicPr>
        <p:blipFill>
          <a:blip r:embed="rId6"/>
          <a:stretch/>
        </p:blipFill>
        <p:spPr>
          <a:xfrm>
            <a:off x="7467480" y="1447920"/>
            <a:ext cx="136548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2218680" y="167652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ятиго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4753080" y="632448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Кисловод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144440" y="380880"/>
            <a:ext cx="4395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ЛЕЗНЫЕ  ИСКОП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30760" y="380880"/>
            <a:ext cx="7070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АВКАЗ В ТВОРЧЕСТВЕ  М.Ю. ЛЕРМОН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лермонтов вид пятигорска"/>
          <p:cNvPicPr/>
          <p:nvPr/>
        </p:nvPicPr>
        <p:blipFill>
          <a:blip r:embed="rId3"/>
          <a:stretch/>
        </p:blipFill>
        <p:spPr>
          <a:xfrm>
            <a:off x="4419720" y="3048120"/>
            <a:ext cx="4724280" cy="3524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лермонтов эльбрус"/>
          <p:cNvPicPr/>
          <p:nvPr/>
        </p:nvPicPr>
        <p:blipFill>
          <a:blip r:embed="rId4"/>
          <a:stretch/>
        </p:blipFill>
        <p:spPr>
          <a:xfrm>
            <a:off x="0" y="1371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228600" y="49507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Горы навсегда покорили сердце поэта своей могучей красотой и величествен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725000" y="617220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.Ю. Лермонтов  Вид Пяти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60" y="434340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.Ю. Лермонтов  Вид на гору Эльб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фён"/>
          <p:cNvPicPr/>
          <p:nvPr/>
        </p:nvPicPr>
        <p:blipFill>
          <a:blip r:embed="rId2"/>
          <a:stretch/>
        </p:blipFill>
        <p:spPr>
          <a:xfrm>
            <a:off x="533520" y="1371600"/>
            <a:ext cx="8076960" cy="436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907640" y="380880"/>
            <a:ext cx="31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ЛИМАТ  КАВ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28600" y="5867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ён - теплый и сухой стоковый ветер, часто сильный, порывистый, дующий с гор в подветренные до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бора"/>
          <p:cNvPicPr/>
          <p:nvPr/>
        </p:nvPicPr>
        <p:blipFill>
          <a:blip r:embed="rId2"/>
          <a:stretch/>
        </p:blipFill>
        <p:spPr>
          <a:xfrm>
            <a:off x="838080" y="685800"/>
            <a:ext cx="7772400" cy="523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447920" y="59436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Бора  -  холодный  порывистый  ветер, с  огромной силой  обрушивается  с  гор   на  дол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907640" y="380880"/>
            <a:ext cx="31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ЛИМАТ  КАВ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терек на равнине"/>
          <p:cNvPicPr/>
          <p:nvPr/>
        </p:nvPicPr>
        <p:blipFill>
          <a:blip r:embed="rId2"/>
          <a:stretch/>
        </p:blipFill>
        <p:spPr>
          <a:xfrm>
            <a:off x="4114800" y="2629080"/>
            <a:ext cx="5029200" cy="422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терек"/>
          <p:cNvPicPr/>
          <p:nvPr/>
        </p:nvPicPr>
        <p:blipFill>
          <a:blip r:embed="rId3"/>
          <a:stretch/>
        </p:blipFill>
        <p:spPr>
          <a:xfrm>
            <a:off x="0" y="838080"/>
            <a:ext cx="4800600" cy="389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3"/>
          <p:cNvPicPr/>
          <p:nvPr/>
        </p:nvPicPr>
        <p:blipFill>
          <a:blip r:embed="rId4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983960" y="304920"/>
            <a:ext cx="2602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ЕКИ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716840" y="167652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Терек в верхнем те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792400" y="6248520"/>
            <a:ext cx="30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Терек в нижнем те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51055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Терек воет дик и злоб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Меж утёсистых равн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Буре бег его подобе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М.Ю. Лермо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609480" y="1295280"/>
            <a:ext cx="7848720" cy="2667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38080" y="1752480"/>
            <a:ext cx="7239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оздать образ  Кавказских  гор, используя  географические  карты,  учебник, художественные 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0" y="3962520"/>
            <a:ext cx="4495680" cy="2666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648320" y="3962520"/>
            <a:ext cx="4495680" cy="2666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28600" y="4419720"/>
            <a:ext cx="40384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ЗН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Особенности ГП, рельефа, историю формирования территории, высотной поясности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724280" y="4267080"/>
            <a:ext cx="44197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М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анализировать, сравнивать, делать выводы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работать с географическими и контурной картами, художественными произвед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img011"/>
          <p:cNvPicPr/>
          <p:nvPr/>
        </p:nvPicPr>
        <p:blipFill>
          <a:blip r:embed="rId2">
            <a:lum bright="12000"/>
          </a:blip>
          <a:srcRect l="0" t="0" r="563" b="39528"/>
          <a:stretch/>
        </p:blipFill>
        <p:spPr>
          <a:xfrm>
            <a:off x="838080" y="1143000"/>
            <a:ext cx="5011920" cy="571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840240" y="228600"/>
            <a:ext cx="4928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ИРОДНЫЕ  ЗОН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mg011"/>
          <p:cNvPicPr/>
          <p:nvPr/>
        </p:nvPicPr>
        <p:blipFill>
          <a:blip r:embed="rId4">
            <a:lum bright="12000"/>
          </a:blip>
          <a:srcRect l="7927" t="59651" r="-40" b="0"/>
          <a:stretch/>
        </p:blipFill>
        <p:spPr>
          <a:xfrm>
            <a:off x="5867280" y="435456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5943600" y="1904040"/>
            <a:ext cx="2819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В горах Большого Кавказа отчётливо выражена высотная пояс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327858_1e13d338"/>
          <p:cNvPicPr/>
          <p:nvPr/>
        </p:nvPicPr>
        <p:blipFill>
          <a:blip r:embed="rId2"/>
          <a:stretch/>
        </p:blipFill>
        <p:spPr>
          <a:xfrm>
            <a:off x="914400" y="1330200"/>
            <a:ext cx="8001000" cy="5527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1602360" y="6248520"/>
            <a:ext cx="1614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есной поя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в предгорье "/>
          <p:cNvPicPr/>
          <p:nvPr/>
        </p:nvPicPr>
        <p:blipFill>
          <a:blip r:embed="rId3"/>
          <a:stretch/>
        </p:blipFill>
        <p:spPr>
          <a:xfrm>
            <a:off x="914400" y="1219320"/>
            <a:ext cx="8001000" cy="5638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6934320" y="6324480"/>
            <a:ext cx="1539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есост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буковая роща_19"/>
          <p:cNvPicPr/>
          <p:nvPr/>
        </p:nvPicPr>
        <p:blipFill>
          <a:blip r:embed="rId4"/>
          <a:stretch/>
        </p:blipFill>
        <p:spPr>
          <a:xfrm>
            <a:off x="838080" y="1447920"/>
            <a:ext cx="8077320" cy="5410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1450080" y="6247800"/>
            <a:ext cx="1814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уковые ле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5" descr="елово-пихтовый лес_"/>
          <p:cNvPicPr/>
          <p:nvPr/>
        </p:nvPicPr>
        <p:blipFill>
          <a:blip r:embed="rId5"/>
          <a:stretch/>
        </p:blipFill>
        <p:spPr>
          <a:xfrm>
            <a:off x="838080" y="1195560"/>
            <a:ext cx="8153640" cy="5662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6"/>
          <p:cNvSpPr/>
          <p:nvPr/>
        </p:nvSpPr>
        <p:spPr>
          <a:xfrm>
            <a:off x="5640480" y="6248520"/>
            <a:ext cx="2626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елово-пихтов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8" descr="rododendron1"/>
          <p:cNvPicPr/>
          <p:nvPr/>
        </p:nvPicPr>
        <p:blipFill>
          <a:blip r:embed="rId6"/>
          <a:stretch/>
        </p:blipFill>
        <p:spPr>
          <a:xfrm>
            <a:off x="838080" y="0"/>
            <a:ext cx="8153640" cy="684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3"/>
          <p:cNvPicPr/>
          <p:nvPr/>
        </p:nvPicPr>
        <p:blipFill>
          <a:blip r:embed="rId7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1371960" y="6247800"/>
            <a:ext cx="7278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убальпийские луга с зарослями кавказского рододенд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764280" y="304920"/>
            <a:ext cx="4928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ИРОДНЫЕ  ЗОН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2" descr="195284_bfc75b6f"/>
          <p:cNvPicPr/>
          <p:nvPr/>
        </p:nvPicPr>
        <p:blipFill>
          <a:blip r:embed="rId8"/>
          <a:stretch/>
        </p:blipFill>
        <p:spPr>
          <a:xfrm>
            <a:off x="762120" y="1406520"/>
            <a:ext cx="8229600" cy="5451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9"/>
          <p:cNvSpPr/>
          <p:nvPr/>
        </p:nvSpPr>
        <p:spPr>
          <a:xfrm>
            <a:off x="1753920" y="6247800"/>
            <a:ext cx="3943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изкотравные альпийские лу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4" descr="1256156999_10c83f13cc787ba02af7f7d2f6fd3"/>
          <p:cNvPicPr/>
          <p:nvPr/>
        </p:nvPicPr>
        <p:blipFill>
          <a:blip r:embed="rId9"/>
          <a:stretch/>
        </p:blipFill>
        <p:spPr>
          <a:xfrm>
            <a:off x="762120" y="1414440"/>
            <a:ext cx="8229600" cy="54435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1"/>
          <p:cNvSpPr/>
          <p:nvPr/>
        </p:nvSpPr>
        <p:spPr>
          <a:xfrm>
            <a:off x="912600" y="6247800"/>
            <a:ext cx="529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ысокогорный пояс снежников  и ледни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1523880" y="228600"/>
            <a:ext cx="3871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. 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  ПРИРОДЕ 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pushkin1"/>
          <p:cNvPicPr/>
          <p:nvPr/>
        </p:nvPicPr>
        <p:blipFill>
          <a:blip r:embed="rId3"/>
          <a:stretch/>
        </p:blipFill>
        <p:spPr>
          <a:xfrm>
            <a:off x="2971800" y="2768760"/>
            <a:ext cx="6172200" cy="4089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3рукопись Кавказского пленника jpg"/>
          <p:cNvPicPr/>
          <p:nvPr/>
        </p:nvPicPr>
        <p:blipFill>
          <a:blip r:embed="rId4"/>
          <a:stretch/>
        </p:blipFill>
        <p:spPr>
          <a:xfrm>
            <a:off x="685800" y="1447920"/>
            <a:ext cx="2787480" cy="3468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7"/>
          <p:cNvSpPr/>
          <p:nvPr/>
        </p:nvSpPr>
        <p:spPr>
          <a:xfrm>
            <a:off x="4098960" y="1636560"/>
            <a:ext cx="45878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Кавказские  впечатления                   А.С.  Пушкина служили  темами  для  многих  его  произ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3278160" y="6248520"/>
            <a:ext cx="2354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ушкин на Кавк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52280" y="5029200"/>
            <a:ext cx="2743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Рукопись  поэмы        А.С. 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авказский пленник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84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Lermontov дом в Пятигорске"/>
          <p:cNvPicPr/>
          <p:nvPr/>
        </p:nvPicPr>
        <p:blipFill>
          <a:blip r:embed="rId2"/>
          <a:stretch/>
        </p:blipFill>
        <p:spPr>
          <a:xfrm>
            <a:off x="0" y="1371600"/>
            <a:ext cx="5181480" cy="3446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лермонтов на Кавказе 1837г"/>
          <p:cNvPicPr/>
          <p:nvPr/>
        </p:nvPicPr>
        <p:blipFill>
          <a:blip r:embed="rId3"/>
          <a:srcRect l="0" t="0" r="0" b="-14"/>
          <a:stretch/>
        </p:blipFill>
        <p:spPr>
          <a:xfrm>
            <a:off x="4924440" y="1676520"/>
            <a:ext cx="4071960" cy="5029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3"/>
          <p:cNvPicPr/>
          <p:nvPr/>
        </p:nvPicPr>
        <p:blipFill>
          <a:blip r:embed="rId4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609480" y="228600"/>
            <a:ext cx="5257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М. Ю. ЛЕРМОНТОВ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  ПРИРОДЕ 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6960" y="6324480"/>
            <a:ext cx="2818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ермонтов на Кавк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28600" y="5105520"/>
            <a:ext cx="47242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рирода Кавказа приковала внимание Лермонтова, он готов был «целую жизнь» сидеть и любоваться её крас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34240" y="4343400"/>
            <a:ext cx="4262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Домик  Лермонтова  в Пятигор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991398"/>
          <p:cNvPicPr/>
          <p:nvPr/>
        </p:nvPicPr>
        <p:blipFill>
          <a:blip r:embed="rId2"/>
          <a:stretch/>
        </p:blipFill>
        <p:spPr>
          <a:xfrm>
            <a:off x="0" y="1320840"/>
            <a:ext cx="9144000" cy="5537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146520" y="152280"/>
            <a:ext cx="67827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Основная общеобразовательная школа №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Советского городского о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Калинингра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296080" y="3886200"/>
            <a:ext cx="3557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рок географи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286000" y="4495680"/>
            <a:ext cx="6400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читель  Лукина  Татьяна  Александ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3888720" y="6324480"/>
            <a:ext cx="1130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290320" y="228600"/>
            <a:ext cx="2599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ЛАН 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20640" y="1905120"/>
            <a:ext cx="6449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РОВЕРКА  ДОМАШНЕГО 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ГЕОГРАФИЧЕСКОЕ  ПОЛОЖЕНИ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3.  ИСТОРИЯ  ОБРАЗОВАНИЯ,  РЕЛЬЕФ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ОЛЕЗНЫЕ ИСКОПАЕМЫ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КЛИМАТ, 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ВЫСОТНАЯ ПОЯСНОСТЬ В ГОРАХ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ОЭТЫ  О  ПРИРОД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ИТОГИ 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076400" y="1752480"/>
            <a:ext cx="6703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РОВЕРКА  ДОМАШНЕГО 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758960" y="2666880"/>
            <a:ext cx="5276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ЧТО  ТАКОЕ?    КТО  Т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65360" y="35053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АЛДАЙ -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62840" y="41911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ИВАЧ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621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ИЖ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64640" y="55627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ЕЛИГЕР -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4345200" y="350532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ОЛГ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344480" y="41911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ЕРСМАН А.Е.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268880" y="495288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АРЦИАЛЬНЫЕ  ВОДЫ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419720" y="56386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БАРАНЬИ  ЛБЫ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normal_kavkaz_rocks_001"/>
          <p:cNvPicPr/>
          <p:nvPr/>
        </p:nvPicPr>
        <p:blipFill>
          <a:blip r:embed="rId2"/>
          <a:stretch/>
        </p:blipFill>
        <p:spPr>
          <a:xfrm>
            <a:off x="6095880" y="1676520"/>
            <a:ext cx="2884680" cy="373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виноград"/>
          <p:cNvPicPr/>
          <p:nvPr/>
        </p:nvPicPr>
        <p:blipFill>
          <a:blip r:embed="rId3"/>
          <a:stretch/>
        </p:blipFill>
        <p:spPr>
          <a:xfrm>
            <a:off x="2819520" y="2590920"/>
            <a:ext cx="396216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3505320" y="5867280"/>
            <a:ext cx="563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ирода  Кавказа  разнообразна          и  необычайно  кра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3"/>
          <p:cNvPicPr/>
          <p:nvPr/>
        </p:nvPicPr>
        <p:blipFill>
          <a:blip r:embed="rId4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5"/>
          <p:cNvPicPr/>
          <p:nvPr/>
        </p:nvPicPr>
        <p:blipFill>
          <a:blip r:embed="rId5"/>
          <a:srcRect l="0" t="0" r="-30" b="48"/>
          <a:stretch/>
        </p:blipFill>
        <p:spPr>
          <a:xfrm>
            <a:off x="1981080" y="0"/>
            <a:ext cx="3422880" cy="28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meshersky_9"/>
          <p:cNvPicPr/>
          <p:nvPr/>
        </p:nvPicPr>
        <p:blipFill>
          <a:blip r:embed="rId6"/>
          <a:stretch/>
        </p:blipFill>
        <p:spPr>
          <a:xfrm>
            <a:off x="0" y="274320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304920" y="-91440"/>
            <a:ext cx="3733560" cy="216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ние горы Кавказа,                                                                                            Приветствую ва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11"/>
          <p:cNvPicPr/>
          <p:nvPr/>
        </p:nvPicPr>
        <p:blipFill>
          <a:blip r:embed="rId3"/>
          <a:stretch/>
        </p:blipFill>
        <p:spPr>
          <a:xfrm>
            <a:off x="228600" y="1371600"/>
            <a:ext cx="861048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068480" y="304920"/>
            <a:ext cx="5330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ГЕОГРАФИЧЕСКОЕ 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img010"/>
          <p:cNvPicPr/>
          <p:nvPr/>
        </p:nvPicPr>
        <p:blipFill>
          <a:blip r:embed="rId2">
            <a:lum bright="12000"/>
          </a:blip>
          <a:srcRect l="0" t="0" r="-6" b="-6"/>
          <a:stretch/>
        </p:blipFill>
        <p:spPr>
          <a:xfrm>
            <a:off x="3276720" y="1295280"/>
            <a:ext cx="5638680" cy="556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152280" y="49528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к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акие природные комплексы выделяют на Кавказ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30760" y="457200"/>
            <a:ext cx="599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ИРОДНЫЕ  КОМПЛЕКС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геологическое строение"/>
          <p:cNvPicPr/>
          <p:nvPr/>
        </p:nvPicPr>
        <p:blipFill>
          <a:blip r:embed="rId2"/>
          <a:stretch/>
        </p:blipFill>
        <p:spPr>
          <a:xfrm>
            <a:off x="0" y="2090880"/>
            <a:ext cx="9144000" cy="476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1219151805_kavkaz-2"/>
          <p:cNvPicPr/>
          <p:nvPr/>
        </p:nvPicPr>
        <p:blipFill>
          <a:blip r:embed="rId4"/>
          <a:stretch/>
        </p:blipFill>
        <p:spPr>
          <a:xfrm>
            <a:off x="0" y="0"/>
            <a:ext cx="472428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29200" y="1600200"/>
            <a:ext cx="3429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ГЕОЛОГИЧЕСКОЕ 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куэста"/>
          <p:cNvPicPr/>
          <p:nvPr/>
        </p:nvPicPr>
        <p:blipFill>
          <a:blip r:embed="rId2"/>
          <a:srcRect l="0" t="0" r="0" b="-30"/>
          <a:stretch/>
        </p:blipFill>
        <p:spPr>
          <a:xfrm>
            <a:off x="0" y="3808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5943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уэ́сты (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т исп. cuesta — откос, склон гор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) — форма рельефа в виде вытянутых гряд с ассиметричными склонами: пологим и крут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601280" y="3049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ОРМЫ  РЕЛЬЕ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m</cp:lastModifiedBy>
  <dcterms:modified xsi:type="dcterms:W3CDTF">2010-02-02T06:52:5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