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345A-908C-42A8-BFCF-DD004FC17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C2B-6182-4508-8BDD-3DF5E0736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539-9019-4D61-AB33-B6B3A910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3C5-2103-4B7B-94C9-F10C757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7D3-5E93-4219-9E4F-666D1B7D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00E-D9DC-416D-BB7E-D31F4735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502-FC6B-4E66-B268-2765113F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565-2F40-4799-BF4C-60BA7E50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D06-E713-4175-AECC-BAE94892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D3B-1D8F-4351-BE77-B417F37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6C0-0B6B-4769-8CE4-16E48CA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4C3-651A-48D8-BFC7-FCCF03B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630-C398-4913-8B5D-46DAD75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67E-4EA8-457D-B21D-E1521DB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5A77-EB19-4C0A-AD35-D566B49A7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2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295280" y="2133720"/>
            <a:ext cx="6553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КАВКАЗ  ПОДО  МНОЮ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426760" y="5410080"/>
            <a:ext cx="642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рок  географии  в  8 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итель высшей квалификационной  категор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Лукина  Татьяна  Александр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Бештау"/>
          <p:cNvPicPr/>
          <p:nvPr/>
        </p:nvPicPr>
        <p:blipFill>
          <a:blip r:embed="rId2"/>
          <a:stretch/>
        </p:blipFill>
        <p:spPr>
          <a:xfrm>
            <a:off x="0" y="533520"/>
            <a:ext cx="5334120" cy="3962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гора Машук"/>
          <p:cNvPicPr/>
          <p:nvPr/>
        </p:nvPicPr>
        <p:blipFill>
          <a:blip r:embed="rId4"/>
          <a:stretch/>
        </p:blipFill>
        <p:spPr>
          <a:xfrm>
            <a:off x="4114800" y="3314880"/>
            <a:ext cx="5029200" cy="354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07440" y="40384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г. Бешт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793280" y="6324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г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Маш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4572000"/>
            <a:ext cx="405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Лакколит - куполообразная форма залегания магматических горных пород, образующаяся при внедрении магмы между слоями осадочных п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86400" y="16765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 стыке хребтов  Центрального Кавказа с предгорьями образовались лакко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1906200" y="304920"/>
            <a:ext cx="3126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машук"/>
          <p:cNvPicPr/>
          <p:nvPr/>
        </p:nvPicPr>
        <p:blipFill>
          <a:blip r:embed="rId3"/>
          <a:stretch/>
        </p:blipFill>
        <p:spPr>
          <a:xfrm>
            <a:off x="0" y="1143000"/>
            <a:ext cx="5867280" cy="4038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место дуэли лермонтова"/>
          <p:cNvPicPr/>
          <p:nvPr/>
        </p:nvPicPr>
        <p:blipFill>
          <a:blip r:embed="rId4"/>
          <a:stretch/>
        </p:blipFill>
        <p:spPr>
          <a:xfrm>
            <a:off x="5600880" y="2133720"/>
            <a:ext cx="354312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685800" y="548640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 1841 году на склоне горы Машук, близ Пятигорска, во время  дуэли был убит 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4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Эльбрус"/>
          <p:cNvPicPr/>
          <p:nvPr/>
        </p:nvPicPr>
        <p:blipFill>
          <a:blip r:embed="rId2"/>
          <a:stretch/>
        </p:blipFill>
        <p:spPr>
          <a:xfrm>
            <a:off x="4495680" y="329400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73080_45ca89c6"/>
          <p:cNvPicPr/>
          <p:nvPr/>
        </p:nvPicPr>
        <p:blipFill>
          <a:blip r:embed="rId4"/>
          <a:stretch/>
        </p:blipFill>
        <p:spPr>
          <a:xfrm>
            <a:off x="0" y="1371600"/>
            <a:ext cx="4724280" cy="3505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4800600" y="1461240"/>
            <a:ext cx="3962520" cy="189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 algn="ctr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 какую высоту поднимаются  горные хребты  Большого Кавк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 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Учебник стр. 163, рис.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57200" y="5333040"/>
            <a:ext cx="38098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Нанести на контурную карту г. Эльбрус (5642 м) и определить её коорди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45760" y="228600"/>
            <a:ext cx="4060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АБОТА  С  УЧЕБ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И  КОНТУРНОЙ  КА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8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3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424621_939ff6cf"/>
          <p:cNvPicPr/>
          <p:nvPr/>
        </p:nvPicPr>
        <p:blipFill>
          <a:blip r:embed="rId2"/>
          <a:stretch/>
        </p:blipFill>
        <p:spPr>
          <a:xfrm>
            <a:off x="152280" y="114480"/>
            <a:ext cx="8839440" cy="662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528200" y="380880"/>
            <a:ext cx="3884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ВУГЛАВЫЙ   ЭЛЬБ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413240" y="4341960"/>
            <a:ext cx="414468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 вдалеке перед то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еты голубым туман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ра вздымалась над горой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в сонме их гигант двугла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жасною и велича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м всё блистает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.А. Жуков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обвал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666880" y="6324480"/>
            <a:ext cx="2014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бвал в г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754640" y="304920"/>
            <a:ext cx="328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ЯВЛЕНИЯ  В  Г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4" descr="пятигорск"/>
          <p:cNvPicPr/>
          <p:nvPr/>
        </p:nvPicPr>
        <p:blipFill>
          <a:blip r:embed="rId2"/>
          <a:srcRect l="0" t="0" r="-40" b="0"/>
          <a:stretch/>
        </p:blipFill>
        <p:spPr>
          <a:xfrm>
            <a:off x="0" y="1143000"/>
            <a:ext cx="4724280" cy="3962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Кисловодск_"/>
          <p:cNvPicPr/>
          <p:nvPr/>
        </p:nvPicPr>
        <p:blipFill>
          <a:blip r:embed="rId3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256658152"/>
          <p:cNvPicPr/>
          <p:nvPr/>
        </p:nvPicPr>
        <p:blipFill>
          <a:blip r:embed="rId5"/>
          <a:stretch/>
        </p:blipFill>
        <p:spPr>
          <a:xfrm>
            <a:off x="4419720" y="1371600"/>
            <a:ext cx="2666880" cy="252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609480" y="533304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семирную известность имеют Кавказские минеральные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medium_157682_0"/>
          <p:cNvPicPr/>
          <p:nvPr/>
        </p:nvPicPr>
        <p:blipFill>
          <a:blip r:embed="rId6"/>
          <a:stretch/>
        </p:blipFill>
        <p:spPr>
          <a:xfrm>
            <a:off x="7467480" y="1447920"/>
            <a:ext cx="136548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218680" y="16765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яти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4753080" y="632448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Кисловод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144440" y="380880"/>
            <a:ext cx="4395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ЛЕЗНЫЕ  ИСКОПАЕ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0760" y="380880"/>
            <a:ext cx="7070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АВКАЗ В ТВОРЧЕСТВЕ  М.Ю. ЛЕРМОН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лермонтов вид пятигорска"/>
          <p:cNvPicPr/>
          <p:nvPr/>
        </p:nvPicPr>
        <p:blipFill>
          <a:blip r:embed="rId3"/>
          <a:stretch/>
        </p:blipFill>
        <p:spPr>
          <a:xfrm>
            <a:off x="4419720" y="3048120"/>
            <a:ext cx="4724280" cy="3524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лермонтов эльбрус"/>
          <p:cNvPicPr/>
          <p:nvPr/>
        </p:nvPicPr>
        <p:blipFill>
          <a:blip r:embed="rId4"/>
          <a:stretch/>
        </p:blipFill>
        <p:spPr>
          <a:xfrm>
            <a:off x="0" y="1371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228600" y="49507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оры навсегда покорили сердце поэта своей могучей красотой и величеств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725000" y="61722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  Вид Пятиго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60" y="434340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  Вид на гору Эльб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фён"/>
          <p:cNvPicPr/>
          <p:nvPr/>
        </p:nvPicPr>
        <p:blipFill>
          <a:blip r:embed="rId2"/>
          <a:stretch/>
        </p:blipFill>
        <p:spPr>
          <a:xfrm>
            <a:off x="533520" y="1371600"/>
            <a:ext cx="8076960" cy="436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5867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ён - теплый и сухой стоковый ветер, часто сильный, порывистый, дующий с гор в подветренные до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бора"/>
          <p:cNvPicPr/>
          <p:nvPr/>
        </p:nvPicPr>
        <p:blipFill>
          <a:blip r:embed="rId2"/>
          <a:stretch/>
        </p:blipFill>
        <p:spPr>
          <a:xfrm>
            <a:off x="838080" y="685800"/>
            <a:ext cx="7772400" cy="5235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44792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Бора  -  холодный  порывистый  ветер, с  огромной силой  обрушивается  с  гор   на  до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907640" y="380880"/>
            <a:ext cx="315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ЛИМАТ  КАВ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терек на равнине"/>
          <p:cNvPicPr/>
          <p:nvPr/>
        </p:nvPicPr>
        <p:blipFill>
          <a:blip r:embed="rId2"/>
          <a:stretch/>
        </p:blipFill>
        <p:spPr>
          <a:xfrm>
            <a:off x="4114800" y="2629080"/>
            <a:ext cx="5029200" cy="422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терек"/>
          <p:cNvPicPr/>
          <p:nvPr/>
        </p:nvPicPr>
        <p:blipFill>
          <a:blip r:embed="rId3"/>
          <a:stretch/>
        </p:blipFill>
        <p:spPr>
          <a:xfrm>
            <a:off x="0" y="838080"/>
            <a:ext cx="4800600" cy="389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983960" y="30492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РЕКИ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16840" y="167652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Терек в верх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792400" y="6248520"/>
            <a:ext cx="30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Терек в нижнем те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510552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Терек воет дик и злоб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еж утёсистых равни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Буре бег его подоб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.Ю. Лермо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609480" y="1295280"/>
            <a:ext cx="7848720" cy="266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38080" y="1752480"/>
            <a:ext cx="72392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оздать образ  Кавказских  гор, используя  географические  карты,  учебник, художественные 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648320" y="3962520"/>
            <a:ext cx="4495680" cy="266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e8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28600" y="4419720"/>
            <a:ext cx="40384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Особенности ГП, рельефа, историю формирования территории, высотной поясности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724280" y="4267080"/>
            <a:ext cx="4419720" cy="19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анализировать, сравнивать, делать выводы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работать с географическими и контурной картами, художественными произвед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img011"/>
          <p:cNvPicPr/>
          <p:nvPr/>
        </p:nvPicPr>
        <p:blipFill>
          <a:blip r:embed="rId2">
            <a:lum bright="12000"/>
          </a:blip>
          <a:srcRect l="0" t="0" r="563" b="39528"/>
          <a:stretch/>
        </p:blipFill>
        <p:spPr>
          <a:xfrm>
            <a:off x="838080" y="1143000"/>
            <a:ext cx="501192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40240" y="22860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mg011"/>
          <p:cNvPicPr/>
          <p:nvPr/>
        </p:nvPicPr>
        <p:blipFill>
          <a:blip r:embed="rId4">
            <a:lum bright="12000"/>
          </a:blip>
          <a:srcRect l="7927" t="59651" r="-40" b="0"/>
          <a:stretch/>
        </p:blipFill>
        <p:spPr>
          <a:xfrm>
            <a:off x="5867280" y="435456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5943600" y="1904040"/>
            <a:ext cx="28195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 горах Большого Кавказа отчётливо выражена высотная пояс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327858_1e13d338"/>
          <p:cNvPicPr/>
          <p:nvPr/>
        </p:nvPicPr>
        <p:blipFill>
          <a:blip r:embed="rId2"/>
          <a:stretch/>
        </p:blipFill>
        <p:spPr>
          <a:xfrm>
            <a:off x="914400" y="1330200"/>
            <a:ext cx="8001000" cy="5527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602360" y="6248520"/>
            <a:ext cx="161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сной поя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в предгорье "/>
          <p:cNvPicPr/>
          <p:nvPr/>
        </p:nvPicPr>
        <p:blipFill>
          <a:blip r:embed="rId3"/>
          <a:stretch/>
        </p:blipFill>
        <p:spPr>
          <a:xfrm>
            <a:off x="914400" y="1219320"/>
            <a:ext cx="8001000" cy="5638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6934320" y="6324480"/>
            <a:ext cx="153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со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буковая роща_19"/>
          <p:cNvPicPr/>
          <p:nvPr/>
        </p:nvPicPr>
        <p:blipFill>
          <a:blip r:embed="rId4"/>
          <a:stretch/>
        </p:blipFill>
        <p:spPr>
          <a:xfrm>
            <a:off x="838080" y="1447920"/>
            <a:ext cx="807732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450080" y="6247800"/>
            <a:ext cx="181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уковые л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елово-пихтовый лес_"/>
          <p:cNvPicPr/>
          <p:nvPr/>
        </p:nvPicPr>
        <p:blipFill>
          <a:blip r:embed="rId5"/>
          <a:stretch/>
        </p:blipFill>
        <p:spPr>
          <a:xfrm>
            <a:off x="838080" y="1195560"/>
            <a:ext cx="8153640" cy="56624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5640480" y="6248520"/>
            <a:ext cx="262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елово-пихтов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rododendron1"/>
          <p:cNvPicPr/>
          <p:nvPr/>
        </p:nvPicPr>
        <p:blipFill>
          <a:blip r:embed="rId6"/>
          <a:stretch/>
        </p:blipFill>
        <p:spPr>
          <a:xfrm>
            <a:off x="838080" y="0"/>
            <a:ext cx="8153640" cy="6846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3"/>
          <p:cNvPicPr/>
          <p:nvPr/>
        </p:nvPicPr>
        <p:blipFill>
          <a:blip r:embed="rId7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1371960" y="6247800"/>
            <a:ext cx="7278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убальпийские луга с зарослями кавказского рододенд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4280" y="304920"/>
            <a:ext cx="492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ЗОН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2" descr="195284_bfc75b6f"/>
          <p:cNvPicPr/>
          <p:nvPr/>
        </p:nvPicPr>
        <p:blipFill>
          <a:blip r:embed="rId8"/>
          <a:stretch/>
        </p:blipFill>
        <p:spPr>
          <a:xfrm>
            <a:off x="762120" y="1406520"/>
            <a:ext cx="8229600" cy="54514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9"/>
          <p:cNvSpPr/>
          <p:nvPr/>
        </p:nvSpPr>
        <p:spPr>
          <a:xfrm>
            <a:off x="1753920" y="6247800"/>
            <a:ext cx="3943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изкотравные альпийские л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4" descr="1256156999_10c83f13cc787ba02af7f7d2f6fd3"/>
          <p:cNvPicPr/>
          <p:nvPr/>
        </p:nvPicPr>
        <p:blipFill>
          <a:blip r:embed="rId9"/>
          <a:stretch/>
        </p:blipFill>
        <p:spPr>
          <a:xfrm>
            <a:off x="762120" y="1414440"/>
            <a:ext cx="8229600" cy="54435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1"/>
          <p:cNvSpPr/>
          <p:nvPr/>
        </p:nvSpPr>
        <p:spPr>
          <a:xfrm>
            <a:off x="912600" y="6247800"/>
            <a:ext cx="529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сокогорный пояс снежников  и лед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1523880" y="228600"/>
            <a:ext cx="3871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А. 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pushkin1"/>
          <p:cNvPicPr/>
          <p:nvPr/>
        </p:nvPicPr>
        <p:blipFill>
          <a:blip r:embed="rId3"/>
          <a:stretch/>
        </p:blipFill>
        <p:spPr>
          <a:xfrm>
            <a:off x="2971800" y="2768760"/>
            <a:ext cx="6172200" cy="4089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рукопись Кавказского пленника jpg"/>
          <p:cNvPicPr/>
          <p:nvPr/>
        </p:nvPicPr>
        <p:blipFill>
          <a:blip r:embed="rId4"/>
          <a:stretch/>
        </p:blipFill>
        <p:spPr>
          <a:xfrm>
            <a:off x="685800" y="1447920"/>
            <a:ext cx="2787480" cy="3468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7"/>
          <p:cNvSpPr/>
          <p:nvPr/>
        </p:nvSpPr>
        <p:spPr>
          <a:xfrm>
            <a:off x="4098960" y="1636560"/>
            <a:ext cx="45878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авказские  впечатления                   А.С.  Пушкина служили  темами  для  многих  его  произ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3278160" y="6248520"/>
            <a:ext cx="2354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ушкин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52280" y="5029200"/>
            <a:ext cx="2743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Рукопись  поэмы       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авказский пленник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84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Lermontov дом в Пятигорске"/>
          <p:cNvPicPr/>
          <p:nvPr/>
        </p:nvPicPr>
        <p:blipFill>
          <a:blip r:embed="rId2"/>
          <a:stretch/>
        </p:blipFill>
        <p:spPr>
          <a:xfrm>
            <a:off x="0" y="1371600"/>
            <a:ext cx="5181480" cy="344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лермонтов на Кавказе 1837г"/>
          <p:cNvPicPr/>
          <p:nvPr/>
        </p:nvPicPr>
        <p:blipFill>
          <a:blip r:embed="rId3"/>
          <a:srcRect l="0" t="0" r="0" b="-14"/>
          <a:stretch/>
        </p:blipFill>
        <p:spPr>
          <a:xfrm>
            <a:off x="4924440" y="1676520"/>
            <a:ext cx="407196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609480" y="228600"/>
            <a:ext cx="52578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М. Ю. ЛЕРМОНТО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  ПРИРОДЕ 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6960" y="6324480"/>
            <a:ext cx="2818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ермонтов на Кавк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28600" y="5105520"/>
            <a:ext cx="47242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ирода Кавказа приковала внимание Лермонтова, он готов был «целую жизнь» сидеть и любоваться её красо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34240" y="4343400"/>
            <a:ext cx="4262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Домик  Лермонтова  в Пятигор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991398"/>
          <p:cNvPicPr/>
          <p:nvPr/>
        </p:nvPicPr>
        <p:blipFill>
          <a:blip r:embed="rId2"/>
          <a:stretch/>
        </p:blipFill>
        <p:spPr>
          <a:xfrm>
            <a:off x="0" y="132084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146520" y="152280"/>
            <a:ext cx="67827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Основная общеобразовательная школа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Советского городс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алининград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296080" y="3886200"/>
            <a:ext cx="3557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рок географи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286000" y="4495680"/>
            <a:ext cx="6400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Учитель  Лукина  Татьяна  Александ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888720" y="6324480"/>
            <a:ext cx="113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290320" y="228600"/>
            <a:ext cx="259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ЛАН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20640" y="1905120"/>
            <a:ext cx="6449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РОВЕРКА  ДОМАШНЕГО 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ГЕОГРАФИЧЕСКОЕ  ПОЛОЖЕНИ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3.  ИСТОРИЯ  ОБРАЗОВАНИЯ,  РЕЛЬЕФ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ЛЕЗНЫЕ ИСКОПАЕМЫ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КЛИМАТ, 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ВЫСОТНАЯ ПОЯСНОСТЬ В ГОРАХ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ПОЭТЫ  О  ПРИРОДЕ  КАВ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ИТОГИ 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076400" y="1752480"/>
            <a:ext cx="6703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РОВЕРКА  ДОМАШНЕГО 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758960" y="2666880"/>
            <a:ext cx="5276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ЧТО  ТАКОЕ?    КТО 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5360" y="35053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АЛДАЙ -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840" y="41911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ИВАЧ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621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ИЖ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64640" y="55627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ЕЛИГЕР -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45200" y="35053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ВОЛГ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344480" y="4191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ЕРСМАН А.Е.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268880" y="49528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АРЦИАЛЬНЫЕ  ВОД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419720" y="56386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АРАНЬИ  ЛБЫ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normal_kavkaz_rocks_001"/>
          <p:cNvPicPr/>
          <p:nvPr/>
        </p:nvPicPr>
        <p:blipFill>
          <a:blip r:embed="rId2"/>
          <a:stretch/>
        </p:blipFill>
        <p:spPr>
          <a:xfrm>
            <a:off x="6095880" y="1676520"/>
            <a:ext cx="2884680" cy="37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виноград"/>
          <p:cNvPicPr/>
          <p:nvPr/>
        </p:nvPicPr>
        <p:blipFill>
          <a:blip r:embed="rId3"/>
          <a:stretch/>
        </p:blipFill>
        <p:spPr>
          <a:xfrm>
            <a:off x="2819520" y="2590920"/>
            <a:ext cx="396216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3505320" y="5867280"/>
            <a:ext cx="5638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а  Кавказа  разнообразна          и  необычайно  кра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"/>
          <p:cNvPicPr/>
          <p:nvPr/>
        </p:nvPicPr>
        <p:blipFill>
          <a:blip r:embed="rId4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5"/>
          <p:cNvPicPr/>
          <p:nvPr/>
        </p:nvPicPr>
        <p:blipFill>
          <a:blip r:embed="rId5"/>
          <a:srcRect l="0" t="0" r="-30" b="48"/>
          <a:stretch/>
        </p:blipFill>
        <p:spPr>
          <a:xfrm>
            <a:off x="1981080" y="0"/>
            <a:ext cx="3422880" cy="28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meshersky_9"/>
          <p:cNvPicPr/>
          <p:nvPr/>
        </p:nvPicPr>
        <p:blipFill>
          <a:blip r:embed="rId6"/>
          <a:stretch/>
        </p:blipFill>
        <p:spPr>
          <a:xfrm>
            <a:off x="0" y="274320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304920" y="-91440"/>
            <a:ext cx="3733560" cy="216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ние горы Кавказа,                                                                                            Приветствую в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11"/>
          <p:cNvPicPr/>
          <p:nvPr/>
        </p:nvPicPr>
        <p:blipFill>
          <a:blip r:embed="rId3"/>
          <a:stretch/>
        </p:blipFill>
        <p:spPr>
          <a:xfrm>
            <a:off x="228600" y="137160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068480" y="304920"/>
            <a:ext cx="53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ГЕОГРАФИЧЕСКОЕ  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mg010"/>
          <p:cNvPicPr/>
          <p:nvPr/>
        </p:nvPicPr>
        <p:blipFill>
          <a:blip r:embed="rId2">
            <a:lum bright="12000"/>
          </a:blip>
          <a:srcRect l="0" t="0" r="-6" b="-6"/>
          <a:stretch/>
        </p:blipFill>
        <p:spPr>
          <a:xfrm>
            <a:off x="3276720" y="1295280"/>
            <a:ext cx="563868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52280" y="4952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к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акие природные комплексы выделяют на Кавказ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30760" y="457200"/>
            <a:ext cx="599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ИРОДНЫЕ  КОМПЛЕКСЫ  КАВ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геологическое строение"/>
          <p:cNvPicPr/>
          <p:nvPr/>
        </p:nvPicPr>
        <p:blipFill>
          <a:blip r:embed="rId2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219151805_kavkaz-2"/>
          <p:cNvPicPr/>
          <p:nvPr/>
        </p:nvPicPr>
        <p:blipFill>
          <a:blip r:embed="rId4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1600200"/>
            <a:ext cx="3429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ГЕОЛОГИЧЕСКОЕ 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куэста"/>
          <p:cNvPicPr/>
          <p:nvPr/>
        </p:nvPicPr>
        <p:blipFill>
          <a:blip r:embed="rId2"/>
          <a:srcRect l="0" t="0" r="0" b="-30"/>
          <a:stretch/>
        </p:blipFill>
        <p:spPr>
          <a:xfrm>
            <a:off x="0" y="3808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3"/>
          <p:cNvPicPr/>
          <p:nvPr/>
        </p:nvPicPr>
        <p:blipFill>
          <a:blip r:embed="rId3"/>
          <a:stretch/>
        </p:blipFill>
        <p:spPr>
          <a:xfrm>
            <a:off x="0" y="0"/>
            <a:ext cx="9144000" cy="1422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уэ́сты (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сп. cuesta — откос, склон горы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 — форма рельефа в виде вытянутых гряд с ассиметричными склонами: пологим и крут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1280" y="3049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ФОРМЫ  РЕЛЬЕ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m</cp:lastModifiedBy>
  <dcterms:modified xsi:type="dcterms:W3CDTF">2010-02-02T06:52:5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