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0460-C8B9-4FBE-9994-80381CC9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E34E-5FD0-47CB-98CD-96A61BE8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3BBA-3DBA-430D-8E28-88EC7C4A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208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504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0912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208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504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7171B-5EB0-4C18-B1C9-DBA86C50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90720" y="122040"/>
            <a:ext cx="6705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D9EB-16F5-44A3-80D6-6771D28C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2208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3504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12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2208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3504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BF230-27D7-4C72-84D9-2139DBA3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D3708-F66A-4658-9D7E-6AF69DD3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3772-2D54-404A-A4AE-5E832924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22040"/>
            <a:ext cx="6705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3E23-565C-4BE9-A3CB-C87F33AE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1DCF-BEBA-4C05-912C-F42F6185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0F4FA-1CD4-482F-9C94-55B0B2BE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75EA-E16D-46B9-AA19-03CC8216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0"/>
            <a:ext cx="8477280" cy="76824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b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d7a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1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13f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5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13f71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3f71"/>
                </a:solidFill>
                <a:latin typeface="Verdana"/>
              </a:rPr>
              <a:t>Company 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8640" y="63385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13f7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E5E2-5483-4BC1-BACA-BA9B976B043E}" type="slidenum">
              <a:rPr b="0" lang="en-US" sz="1400" spc="-1" strike="noStrike">
                <a:solidFill>
                  <a:srgbClr val="113f7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457200" cy="768240"/>
          </a:xfrm>
          <a:prstGeom prst="rect">
            <a:avLst/>
          </a:prstGeom>
          <a:solidFill>
            <a:srgbClr val="5a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2120"/>
            <a:ext cx="457200" cy="15228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914400"/>
            <a:ext cx="457200" cy="41911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3ea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05520"/>
            <a:ext cx="457200" cy="1544400"/>
          </a:xfrm>
          <a:prstGeom prst="rect">
            <a:avLst/>
          </a:prstGeom>
          <a:gradFill rotWithShape="0">
            <a:gsLst>
              <a:gs pos="0">
                <a:srgbClr val="d2e892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656400"/>
            <a:ext cx="457200" cy="2095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6649920"/>
            <a:ext cx="1305000" cy="21600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752480" y="6649920"/>
            <a:ext cx="7391520" cy="21600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dac9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777160" y="6656400"/>
            <a:ext cx="366840" cy="20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7d7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769240" y="6019920"/>
            <a:ext cx="374760" cy="64296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763120" y="914400"/>
            <a:ext cx="380880" cy="5105520"/>
          </a:xfrm>
          <a:prstGeom prst="rect">
            <a:avLst/>
          </a:prstGeom>
          <a:gradFill rotWithShape="0">
            <a:gsLst>
              <a:gs pos="0">
                <a:srgbClr val="5aabcc"/>
              </a:gs>
              <a:gs pos="100000">
                <a:srgbClr val="a9d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763120" y="762120"/>
            <a:ext cx="380880" cy="152280"/>
          </a:xfrm>
          <a:prstGeom prst="rect">
            <a:avLst/>
          </a:prstGeom>
          <a:solidFill>
            <a:srgbClr val="bd9e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771040" y="0"/>
            <a:ext cx="372960" cy="762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57200" y="762120"/>
            <a:ext cx="8315280" cy="152280"/>
          </a:xfrm>
          <a:prstGeom prst="rect">
            <a:avLst/>
          </a:prstGeom>
          <a:gradFill rotWithShape="0">
            <a:gsLst>
              <a:gs pos="0">
                <a:srgbClr val="b8d1ee"/>
              </a:gs>
              <a:gs pos="100000">
                <a:srgbClr val="2d7a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7983360" y="44280"/>
            <a:ext cx="696600" cy="687600"/>
            <a:chOff x="7983360" y="44280"/>
            <a:chExt cx="696600" cy="687600"/>
          </a:xfrm>
        </p:grpSpPr>
        <p:sp>
          <p:nvSpPr>
            <p:cNvPr id="19" name=""/>
            <p:cNvSpPr/>
            <p:nvPr/>
          </p:nvSpPr>
          <p:spPr>
            <a:xfrm rot="149400">
              <a:off x="8193240" y="255600"/>
              <a:ext cx="277560" cy="27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20" name=""/>
            <p:cNvGrpSpPr/>
            <p:nvPr/>
          </p:nvGrpSpPr>
          <p:grpSpPr>
            <a:xfrm>
              <a:off x="8447040" y="489600"/>
              <a:ext cx="152280" cy="133560"/>
              <a:chOff x="8447040" y="489600"/>
              <a:chExt cx="152280" cy="133560"/>
            </a:xfrm>
          </p:grpSpPr>
          <p:sp>
            <p:nvSpPr>
              <p:cNvPr id="21" name=""/>
              <p:cNvSpPr/>
              <p:nvPr/>
            </p:nvSpPr>
            <p:spPr>
              <a:xfrm rot="334800">
                <a:off x="8517600" y="549720"/>
                <a:ext cx="42840" cy="43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4800">
                <a:off x="8562600" y="589680"/>
                <a:ext cx="34920" cy="31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334800">
                <a:off x="8449560" y="492840"/>
                <a:ext cx="70200" cy="63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8485560" y="361080"/>
              <a:ext cx="194400" cy="91800"/>
              <a:chOff x="8485560" y="361080"/>
              <a:chExt cx="194400" cy="91800"/>
            </a:xfrm>
          </p:grpSpPr>
          <p:sp>
            <p:nvSpPr>
              <p:cNvPr id="25" name=""/>
              <p:cNvSpPr/>
              <p:nvPr/>
            </p:nvSpPr>
            <p:spPr>
              <a:xfrm rot="19495200">
                <a:off x="8582400" y="385920"/>
                <a:ext cx="42480" cy="43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19495200">
                <a:off x="8639280" y="391320"/>
                <a:ext cx="34560" cy="31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9495200">
                <a:off x="8497080" y="375120"/>
                <a:ext cx="69840" cy="63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8" name=""/>
            <p:cNvGrpSpPr/>
            <p:nvPr/>
          </p:nvGrpSpPr>
          <p:grpSpPr>
            <a:xfrm>
              <a:off x="8460360" y="173880"/>
              <a:ext cx="157680" cy="130320"/>
              <a:chOff x="8460360" y="173880"/>
              <a:chExt cx="157680" cy="130320"/>
            </a:xfrm>
          </p:grpSpPr>
          <p:sp>
            <p:nvSpPr>
              <p:cNvPr id="29" name=""/>
              <p:cNvSpPr/>
              <p:nvPr/>
            </p:nvSpPr>
            <p:spPr>
              <a:xfrm rot="16953000">
                <a:off x="8537760" y="200160"/>
                <a:ext cx="38520" cy="47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6953000">
                <a:off x="8581680" y="175320"/>
                <a:ext cx="31320" cy="3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16953000">
                <a:off x="8469000" y="230760"/>
                <a:ext cx="63360" cy="69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8290440" y="540360"/>
              <a:ext cx="94680" cy="191520"/>
              <a:chOff x="8290440" y="540360"/>
              <a:chExt cx="94680" cy="191520"/>
            </a:xfrm>
          </p:grpSpPr>
          <p:sp>
            <p:nvSpPr>
              <p:cNvPr id="33" name=""/>
              <p:cNvSpPr/>
              <p:nvPr/>
            </p:nvSpPr>
            <p:spPr>
              <a:xfrm rot="2913000">
                <a:off x="8318160" y="632880"/>
                <a:ext cx="38520" cy="48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2913000">
                <a:off x="8323200" y="691200"/>
                <a:ext cx="31320" cy="34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2913000">
                <a:off x="8305920" y="552240"/>
                <a:ext cx="63360" cy="7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8297640" y="44280"/>
              <a:ext cx="94680" cy="191520"/>
              <a:chOff x="8297640" y="44280"/>
              <a:chExt cx="94680" cy="191520"/>
            </a:xfrm>
          </p:grpSpPr>
          <p:sp>
            <p:nvSpPr>
              <p:cNvPr id="37" name=""/>
              <p:cNvSpPr/>
              <p:nvPr/>
            </p:nvSpPr>
            <p:spPr>
              <a:xfrm rot="13711800">
                <a:off x="8325720" y="94320"/>
                <a:ext cx="38520" cy="48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3711800">
                <a:off x="8327880" y="49680"/>
                <a:ext cx="31320" cy="34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13711800">
                <a:off x="8313120" y="153360"/>
                <a:ext cx="63360" cy="7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0" name=""/>
            <p:cNvGrpSpPr/>
            <p:nvPr/>
          </p:nvGrpSpPr>
          <p:grpSpPr>
            <a:xfrm>
              <a:off x="8086680" y="135720"/>
              <a:ext cx="145440" cy="150120"/>
              <a:chOff x="8086680" y="135720"/>
              <a:chExt cx="145440" cy="150120"/>
            </a:xfrm>
          </p:grpSpPr>
          <p:sp>
            <p:nvSpPr>
              <p:cNvPr id="41" name=""/>
              <p:cNvSpPr/>
              <p:nvPr/>
            </p:nvSpPr>
            <p:spPr>
              <a:xfrm rot="11530200">
                <a:off x="8121960" y="171360"/>
                <a:ext cx="42480" cy="44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11530200">
                <a:off x="8089560" y="138600"/>
                <a:ext cx="34560" cy="32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1530200">
                <a:off x="8155800" y="214920"/>
                <a:ext cx="69840" cy="64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4" name=""/>
            <p:cNvGrpSpPr/>
            <p:nvPr/>
          </p:nvGrpSpPr>
          <p:grpSpPr>
            <a:xfrm>
              <a:off x="7983360" y="339480"/>
              <a:ext cx="192960" cy="90720"/>
              <a:chOff x="7983360" y="339480"/>
              <a:chExt cx="192960" cy="90720"/>
            </a:xfrm>
          </p:grpSpPr>
          <p:sp>
            <p:nvSpPr>
              <p:cNvPr id="45" name=""/>
              <p:cNvSpPr/>
              <p:nvPr/>
            </p:nvSpPr>
            <p:spPr>
              <a:xfrm rot="8884800">
                <a:off x="8037000" y="358200"/>
                <a:ext cx="42480" cy="43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8884800">
                <a:off x="7988760" y="362160"/>
                <a:ext cx="34560" cy="31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884800">
                <a:off x="8094960" y="353160"/>
                <a:ext cx="69840" cy="63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8057880" y="480240"/>
              <a:ext cx="168480" cy="122760"/>
              <a:chOff x="8057880" y="480240"/>
              <a:chExt cx="168480" cy="122760"/>
            </a:xfrm>
          </p:grpSpPr>
          <p:sp>
            <p:nvSpPr>
              <p:cNvPr id="49" name=""/>
              <p:cNvSpPr/>
              <p:nvPr/>
            </p:nvSpPr>
            <p:spPr>
              <a:xfrm rot="6558000">
                <a:off x="8103600" y="532080"/>
                <a:ext cx="38520" cy="47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6558000">
                <a:off x="8063280" y="565200"/>
                <a:ext cx="31320" cy="3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6558000">
                <a:off x="8151480" y="486720"/>
                <a:ext cx="63360" cy="69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5"/>
          <p:cNvSpPr>
            <a:spLocks noGrp="1"/>
          </p:cNvSpPr>
          <p:nvPr>
            <p:ph type="dt" idx="3"/>
          </p:nvPr>
        </p:nvSpPr>
        <p:spPr>
          <a:xfrm>
            <a:off x="456840" y="63241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13f7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3f71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64848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0" y="5105520"/>
            <a:ext cx="4572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6648480"/>
            <a:ext cx="0" cy="2095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763120" y="601992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rot="5400000">
            <a:off x="7904160" y="1163520"/>
            <a:ext cx="2098440" cy="380880"/>
          </a:xfrm>
          <a:prstGeom prst="rect">
            <a:avLst/>
          </a:prstGeom>
          <a:gradFill rotWithShape="0">
            <a:gsLst>
              <a:gs pos="0">
                <a:srgbClr val="dce5e6"/>
              </a:gs>
              <a:gs pos="100000">
                <a:srgbClr val="c1d1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571500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f71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08280" y="635040"/>
            <a:ext cx="1995120" cy="2065320"/>
            <a:chOff x="908280" y="635040"/>
            <a:chExt cx="1995120" cy="2065320"/>
          </a:xfrm>
        </p:grpSpPr>
        <p:sp>
          <p:nvSpPr>
            <p:cNvPr id="101" name=""/>
            <p:cNvSpPr/>
            <p:nvPr/>
          </p:nvSpPr>
          <p:spPr>
            <a:xfrm rot="292200">
              <a:off x="1514880" y="1252440"/>
              <a:ext cx="790200" cy="841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212920" y="1995480"/>
              <a:ext cx="423720" cy="427320"/>
              <a:chOff x="2212920" y="1995480"/>
              <a:chExt cx="423720" cy="427320"/>
            </a:xfrm>
          </p:grpSpPr>
          <p:sp>
            <p:nvSpPr>
              <p:cNvPr id="103" name=""/>
              <p:cNvSpPr/>
              <p:nvPr/>
            </p:nvSpPr>
            <p:spPr>
              <a:xfrm rot="477600">
                <a:off x="2410200" y="2189880"/>
                <a:ext cx="120960" cy="136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477600">
                <a:off x="2531160" y="2318040"/>
                <a:ext cx="99000" cy="98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477600">
                <a:off x="2225520" y="2008080"/>
                <a:ext cx="198720" cy="196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334600" y="1603800"/>
              <a:ext cx="568800" cy="273960"/>
              <a:chOff x="2334600" y="1603800"/>
              <a:chExt cx="568800" cy="273960"/>
            </a:xfrm>
          </p:grpSpPr>
          <p:sp>
            <p:nvSpPr>
              <p:cNvPr id="107" name=""/>
              <p:cNvSpPr/>
              <p:nvPr/>
            </p:nvSpPr>
            <p:spPr>
              <a:xfrm rot="19638000">
                <a:off x="2620440" y="1693080"/>
                <a:ext cx="12024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9638000">
                <a:off x="2785680" y="1724040"/>
                <a:ext cx="9864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9638000">
                <a:off x="2372400" y="1641600"/>
                <a:ext cx="19764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282400" y="1018080"/>
              <a:ext cx="472680" cy="403200"/>
              <a:chOff x="2282400" y="1018080"/>
              <a:chExt cx="472680" cy="403200"/>
            </a:xfrm>
          </p:grpSpPr>
          <p:sp>
            <p:nvSpPr>
              <p:cNvPr id="111" name=""/>
              <p:cNvSpPr/>
              <p:nvPr/>
            </p:nvSpPr>
            <p:spPr>
              <a:xfrm rot="17095800">
                <a:off x="2512440" y="1105920"/>
                <a:ext cx="12060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7095800">
                <a:off x="2645280" y="1028880"/>
                <a:ext cx="9864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7095800">
                <a:off x="2304720" y="1200600"/>
                <a:ext cx="19800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1736640" y="2134440"/>
              <a:ext cx="271440" cy="565920"/>
              <a:chOff x="1736640" y="2134440"/>
              <a:chExt cx="271440" cy="565920"/>
            </a:xfrm>
          </p:grpSpPr>
          <p:sp>
            <p:nvSpPr>
              <p:cNvPr id="115" name=""/>
              <p:cNvSpPr/>
              <p:nvPr/>
            </p:nvSpPr>
            <p:spPr>
              <a:xfrm rot="3570000">
                <a:off x="1782360" y="2409480"/>
                <a:ext cx="12060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570000">
                <a:off x="1776600" y="2583000"/>
                <a:ext cx="9864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570000">
                <a:off x="1773360" y="2170800"/>
                <a:ext cx="19800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1861200" y="635040"/>
              <a:ext cx="272160" cy="566640"/>
              <a:chOff x="1861200" y="635040"/>
              <a:chExt cx="272160" cy="566640"/>
            </a:xfrm>
          </p:grpSpPr>
          <p:sp>
            <p:nvSpPr>
              <p:cNvPr id="119" name=""/>
              <p:cNvSpPr/>
              <p:nvPr/>
            </p:nvSpPr>
            <p:spPr>
              <a:xfrm rot="14344200">
                <a:off x="1964520" y="788400"/>
                <a:ext cx="12060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4344200">
                <a:off x="1991160" y="653040"/>
                <a:ext cx="9900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4344200">
                <a:off x="1897920" y="966600"/>
                <a:ext cx="19800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242360" y="865800"/>
              <a:ext cx="405360" cy="470520"/>
              <a:chOff x="1242360" y="865800"/>
              <a:chExt cx="405360" cy="470520"/>
            </a:xfrm>
          </p:grpSpPr>
          <p:sp>
            <p:nvSpPr>
              <p:cNvPr id="123" name=""/>
              <p:cNvSpPr/>
              <p:nvPr/>
            </p:nvSpPr>
            <p:spPr>
              <a:xfrm rot="11673000">
                <a:off x="1338840" y="978120"/>
                <a:ext cx="12096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1673000">
                <a:off x="1252800" y="876240"/>
                <a:ext cx="9900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1673000">
                <a:off x="1427400" y="1116000"/>
                <a:ext cx="19872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908280" y="1508040"/>
              <a:ext cx="562680" cy="268920"/>
              <a:chOff x="908280" y="1508040"/>
              <a:chExt cx="562680" cy="268920"/>
            </a:xfrm>
          </p:grpSpPr>
          <p:sp>
            <p:nvSpPr>
              <p:cNvPr id="127" name=""/>
              <p:cNvSpPr/>
              <p:nvPr/>
            </p:nvSpPr>
            <p:spPr>
              <a:xfrm rot="9028200">
                <a:off x="1068480" y="1542240"/>
                <a:ext cx="120600" cy="136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9028200">
                <a:off x="925920" y="1541880"/>
                <a:ext cx="98640" cy="98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9028200">
                <a:off x="1236960" y="1544040"/>
                <a:ext cx="198000" cy="196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086840" y="1940760"/>
              <a:ext cx="507600" cy="378360"/>
              <a:chOff x="1086840" y="1940760"/>
              <a:chExt cx="507600" cy="378360"/>
            </a:xfrm>
          </p:grpSpPr>
          <p:sp>
            <p:nvSpPr>
              <p:cNvPr id="131" name=""/>
              <p:cNvSpPr/>
              <p:nvPr/>
            </p:nvSpPr>
            <p:spPr>
              <a:xfrm rot="6700800">
                <a:off x="1222920" y="2104920"/>
                <a:ext cx="120600" cy="137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6700800">
                <a:off x="1101600" y="2205360"/>
                <a:ext cx="9864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6700800">
                <a:off x="1366560" y="1969920"/>
                <a:ext cx="198000" cy="19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457200" y="0"/>
            <a:ext cx="7620120" cy="304920"/>
          </a:xfrm>
          <a:prstGeom prst="rect">
            <a:avLst/>
          </a:prstGeom>
          <a:gradFill rotWithShape="0">
            <a:gsLst>
              <a:gs pos="0">
                <a:srgbClr val="eee6d7"/>
              </a:gs>
              <a:gs pos="100000">
                <a:srgbClr val="bd9e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64320" y="-7920"/>
            <a:ext cx="2098800" cy="31284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2549520" y="6553080"/>
            <a:ext cx="6230880" cy="31752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763120" y="-7920"/>
            <a:ext cx="380880" cy="314280"/>
          </a:xfrm>
          <a:prstGeom prst="rect">
            <a:avLst/>
          </a:prstGeom>
          <a:gradFill rotWithShape="0">
            <a:gsLst>
              <a:gs pos="0">
                <a:srgbClr val="2d7acf"/>
              </a:gs>
              <a:gs pos="100000">
                <a:srgbClr val="cbdd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554880"/>
            <a:ext cx="2098800" cy="3175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7ede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553080"/>
            <a:ext cx="457200" cy="3193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2213640" y="2510640"/>
            <a:ext cx="4876560" cy="46512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-575280" y="5520240"/>
            <a:ext cx="1600200" cy="465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3e0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769240" y="6539040"/>
            <a:ext cx="374760" cy="32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6558120" y="3967200"/>
            <a:ext cx="4790880" cy="380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3e0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ceb7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0" y="4952880"/>
            <a:ext cx="4572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63120" y="175248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763120" y="190512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43040" y="6553080"/>
            <a:ext cx="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672240" y="-360"/>
            <a:ext cx="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13f7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13f7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13f7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120" y="25686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113f71"/>
                </a:solidFill>
                <a:latin typeface="Verdana"/>
              </a:rPr>
              <a:t>Закрепление</a:t>
            </a:r>
            <a:endParaRPr b="1" i="1" lang="en-US" sz="4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52120" y="399096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5638680"/>
            <a:ext cx="15238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113f71"/>
                </a:solidFill>
                <a:latin typeface="Verdana"/>
              </a:rPr>
              <a:t>Сколько лет живет?</a:t>
            </a:r>
            <a:endParaRPr b="1" i="1" lang="en-US" sz="38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260" name="815032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2457360" cy="3686040"/>
          </a:xfrm>
          <a:prstGeom prst="rect">
            <a:avLst/>
          </a:prstGeom>
          <a:ln w="0">
            <a:noFill/>
          </a:ln>
        </p:spPr>
      </p:pic>
      <p:pic>
        <p:nvPicPr>
          <p:cNvPr id="261" name="kudr4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3429000" cy="26668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267080" y="2133720"/>
            <a:ext cx="259092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72 г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600200" y="5173560"/>
            <a:ext cx="25336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? в 9 раз &lt;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33720" y="4114800"/>
            <a:ext cx="4572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11240" y="1066680"/>
            <a:ext cx="72946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2 см = …дм …с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11240" y="2438280"/>
            <a:ext cx="72946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3 м 4 дм = …д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011240" y="3809880"/>
            <a:ext cx="72946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96 дм = …м …с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011240" y="5257800"/>
            <a:ext cx="72946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5 м 2 дм = …д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285840" y="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-2858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62120" y="1143000"/>
            <a:ext cx="7671960" cy="5181480"/>
            <a:chOff x="762120" y="1143000"/>
            <a:chExt cx="7671960" cy="5181480"/>
          </a:xfrm>
        </p:grpSpPr>
        <p:sp>
          <p:nvSpPr>
            <p:cNvPr id="274" name=""/>
            <p:cNvSpPr/>
            <p:nvPr/>
          </p:nvSpPr>
          <p:spPr>
            <a:xfrm>
              <a:off x="2076480" y="3969000"/>
              <a:ext cx="4916520" cy="2355480"/>
            </a:xfrm>
            <a:prstGeom prst="rect">
              <a:avLst/>
            </a:prstGeom>
            <a:solidFill>
              <a:srgbClr val="ffffff"/>
            </a:solidFill>
            <a:ln w="82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2076480" y="3968640"/>
              <a:ext cx="2415600" cy="2355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34560" y="3969000"/>
              <a:ext cx="2501280" cy="2355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663160" y="3981240"/>
              <a:ext cx="1314000" cy="105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59680" y="1613520"/>
              <a:ext cx="4874400" cy="2355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120" y="2791440"/>
              <a:ext cx="3984120" cy="1177560"/>
            </a:xfrm>
            <a:prstGeom prst="parallelogram">
              <a:avLst>
                <a:gd name="adj" fmla="val 102613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54720" y="1143000"/>
              <a:ext cx="1991520" cy="16484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58720" y="1990800"/>
          <a:ext cx="8099640" cy="2428920"/>
        </p:xfrm>
        <a:graphic>
          <a:graphicData uri="http://schemas.openxmlformats.org/drawingml/2006/table">
            <a:tbl>
              <a:tblPr/>
              <a:tblGrid>
                <a:gridCol w="1157400"/>
                <a:gridCol w="1155600"/>
                <a:gridCol w="1157400"/>
                <a:gridCol w="1157400"/>
                <a:gridCol w="1157040"/>
                <a:gridCol w="1155960"/>
                <a:gridCol w="1158840"/>
              </a:tblGrid>
              <a:tr h="1214280">
                <a:tc>
                  <a:txBody>
                    <a:bodyPr lIns="72000" rIns="72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3</a:t>
                      </a:r>
                      <a:endParaRPr b="0" lang="en-US" sz="4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20</a:t>
                      </a:r>
                      <a:endParaRPr b="0" lang="en-US" sz="4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27</a:t>
                      </a:r>
                      <a:endParaRPr b="0" lang="en-US" sz="4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30</a:t>
                      </a:r>
                      <a:endParaRPr b="0" lang="en-US" sz="4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40</a:t>
                      </a:r>
                      <a:endParaRPr b="0" lang="en-US" sz="4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42</a:t>
                      </a:r>
                      <a:endParaRPr b="0" lang="en-US" sz="4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59</a:t>
                      </a:r>
                      <a:endParaRPr b="0" lang="en-US" sz="4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4640">
                <a:tc>
                  <a:txBody>
                    <a:bodyPr lIns="72000" rIns="72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П</a:t>
                      </a:r>
                      <a:endParaRPr b="0" lang="en-US" sz="4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Р</a:t>
                      </a:r>
                      <a:endParaRPr b="0" lang="en-US" sz="4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И</a:t>
                      </a:r>
                      <a:endParaRPr b="0" lang="en-US" sz="4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Р</a:t>
                      </a:r>
                      <a:endParaRPr b="0" lang="en-US" sz="4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О</a:t>
                      </a:r>
                      <a:endParaRPr b="0" lang="en-US" sz="4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Д</a:t>
                      </a:r>
                      <a:endParaRPr b="0" lang="en-US" sz="4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А</a:t>
                      </a:r>
                      <a:endParaRPr b="0" lang="en-US" sz="4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113f71"/>
                </a:solidFill>
                <a:latin typeface="Verdana"/>
              </a:rPr>
              <a:t>Масса</a:t>
            </a:r>
            <a:endParaRPr b="1" i="1" lang="en-US" sz="3800" spc="-1" strike="noStrike">
              <a:solidFill>
                <a:srgbClr val="113f71"/>
              </a:solidFill>
              <a:latin typeface="Verdana"/>
            </a:endParaRPr>
          </a:p>
        </p:txBody>
      </p:sp>
      <p:pic>
        <p:nvPicPr>
          <p:cNvPr id="198" name="Erinaceus_europaeus" descr=""/>
          <p:cNvPicPr/>
          <p:nvPr/>
        </p:nvPicPr>
        <p:blipFill>
          <a:blip r:embed="rId1"/>
          <a:stretch/>
        </p:blipFill>
        <p:spPr>
          <a:xfrm>
            <a:off x="533520" y="1538280"/>
            <a:ext cx="4572000" cy="3081240"/>
          </a:xfrm>
          <a:prstGeom prst="rect">
            <a:avLst/>
          </a:prstGeom>
          <a:ln w="0">
            <a:noFill/>
          </a:ln>
        </p:spPr>
      </p:pic>
      <p:pic>
        <p:nvPicPr>
          <p:cNvPr id="199" name="825084" descr=""/>
          <p:cNvPicPr/>
          <p:nvPr/>
        </p:nvPicPr>
        <p:blipFill>
          <a:blip r:embed="rId2"/>
          <a:stretch/>
        </p:blipFill>
        <p:spPr>
          <a:xfrm>
            <a:off x="5105520" y="928800"/>
            <a:ext cx="3124080" cy="40971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2133720" y="4967280"/>
            <a:ext cx="1017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1 кг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0080" y="5119560"/>
            <a:ext cx="2622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? на 5 кг &gt;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122400" y="43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22400" y="96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122400" y="96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113f71"/>
                </a:solidFill>
                <a:latin typeface="Verdana"/>
              </a:rPr>
              <a:t>Длина</a:t>
            </a:r>
            <a:endParaRPr b="1" i="1" lang="en-US" sz="3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495680" y="990720"/>
            <a:ext cx="1905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40 с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495680" y="1981080"/>
            <a:ext cx="1905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10 с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</p:txBody>
      </p:sp>
      <p:pic>
        <p:nvPicPr>
          <p:cNvPr id="208" name="825089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3619800" cy="38480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219320" y="2819520"/>
            <a:ext cx="19810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30 к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7 к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2 к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70 к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1 к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-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9480" y="1295280"/>
            <a:ext cx="8077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2,  4,  8,  16,  32,  …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480" y="2895480"/>
            <a:ext cx="8001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5,  6,  8,  11,  15, …,  …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4648320"/>
            <a:ext cx="8001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,  4,  9,  16,  25, …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Безымянный" descr=""/>
          <p:cNvPicPr/>
          <p:nvPr/>
        </p:nvPicPr>
        <p:blipFill>
          <a:blip r:embed="rId1"/>
          <a:stretch/>
        </p:blipFill>
        <p:spPr>
          <a:xfrm>
            <a:off x="2305080" y="914400"/>
            <a:ext cx="2125800" cy="2182680"/>
          </a:xfrm>
          <a:prstGeom prst="rect">
            <a:avLst/>
          </a:prstGeom>
          <a:ln w="0">
            <a:noFill/>
          </a:ln>
        </p:spPr>
      </p:pic>
      <p:pic>
        <p:nvPicPr>
          <p:cNvPr id="217" name="816089" descr=""/>
          <p:cNvPicPr/>
          <p:nvPr/>
        </p:nvPicPr>
        <p:blipFill>
          <a:blip r:embed="rId2"/>
          <a:stretch/>
        </p:blipFill>
        <p:spPr>
          <a:xfrm>
            <a:off x="4743360" y="2362320"/>
            <a:ext cx="1846440" cy="28749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971960" y="1143000"/>
            <a:ext cx="16225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36 л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-366840"/>
            <a:ext cx="4572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909960"/>
            <a:ext cx="4572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909960"/>
            <a:ext cx="4572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113f71"/>
                </a:solidFill>
                <a:latin typeface="Verdana"/>
              </a:rPr>
              <a:t>Сколько лет живет?</a:t>
            </a:r>
            <a:endParaRPr b="1" i="1" lang="en-US" sz="3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819680" y="5562720"/>
            <a:ext cx="1809720" cy="73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64 г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rcRect l="0" t="2436" r="0" b="7318"/>
          <a:stretch/>
        </p:blipFill>
        <p:spPr>
          <a:xfrm>
            <a:off x="2305080" y="3733920"/>
            <a:ext cx="2133720" cy="2819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685960" y="3048120"/>
            <a:ext cx="16700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26 л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-39996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99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112760"/>
            <a:ext cx="791676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81 : 9    ∙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2751120"/>
            <a:ext cx="7916760" cy="15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21    ∙9    + 3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4656240"/>
            <a:ext cx="7916760" cy="15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: 9    ∙ 4    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39996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99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815006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3114720" cy="2057400"/>
          </a:xfrm>
          <a:prstGeom prst="rect">
            <a:avLst/>
          </a:prstGeom>
          <a:ln w="0">
            <a:noFill/>
          </a:ln>
        </p:spPr>
      </p:pic>
      <p:pic>
        <p:nvPicPr>
          <p:cNvPr id="235" name="815019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2828880" cy="2286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267080" y="1600200"/>
            <a:ext cx="110808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40 °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</p:txBody>
      </p:sp>
      <p:pic>
        <p:nvPicPr>
          <p:cNvPr id="237" name="816060" descr=""/>
          <p:cNvPicPr/>
          <p:nvPr/>
        </p:nvPicPr>
        <p:blipFill>
          <a:blip r:embed="rId3"/>
          <a:stretch/>
        </p:blipFill>
        <p:spPr>
          <a:xfrm>
            <a:off x="5638680" y="1981080"/>
            <a:ext cx="2229120" cy="33433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038480" y="3505320"/>
            <a:ext cx="110808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40 °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267080" y="5181480"/>
            <a:ext cx="1108080" cy="3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7acf"/>
                </a:solidFill>
                <a:latin typeface="Times New Roman"/>
              </a:rPr>
              <a:t>40 °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d7acf"/>
              </a:solidFill>
              <a:latin typeface="Times New Roman"/>
              <a:ea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17840" y="0"/>
            <a:ext cx="4572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7840" y="647640"/>
            <a:ext cx="4572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122040"/>
            <a:ext cx="6705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113f71"/>
                </a:solidFill>
                <a:latin typeface="Verdana"/>
              </a:rPr>
              <a:t>Температура тела</a:t>
            </a:r>
            <a:endParaRPr b="1" i="1" lang="en-US" sz="3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-422280" y="449280"/>
            <a:ext cx="200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422280" y="449280"/>
            <a:ext cx="312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422280" y="449280"/>
            <a:ext cx="226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422280" y="449280"/>
            <a:ext cx="312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422280" y="449280"/>
            <a:ext cx="226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-422280" y="449280"/>
            <a:ext cx="312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-422280" y="449280"/>
            <a:ext cx="312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09480" y="1066680"/>
          <a:ext cx="7924680" cy="5486040"/>
        </p:xfrm>
        <a:graphic>
          <a:graphicData uri="http://schemas.openxmlformats.org/drawingml/2006/table">
            <a:tbl>
              <a:tblPr/>
              <a:tblGrid>
                <a:gridCol w="1796040"/>
                <a:gridCol w="1069560"/>
                <a:gridCol w="1587600"/>
                <a:gridCol w="991800"/>
                <a:gridCol w="2479680"/>
              </a:tblGrid>
              <a:tr h="137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7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7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7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7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7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7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7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7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7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7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7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7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6311880" y="1174680"/>
            <a:ext cx="1765440" cy="1035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478240"/>
            <a:ext cx="1469880" cy="1179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83400" y="3957480"/>
            <a:ext cx="1144440" cy="1071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43800" y="5295960"/>
            <a:ext cx="1293840" cy="12571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2440080"/>
            <a:ext cx="1266840" cy="12938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4008600"/>
            <a:ext cx="1411560" cy="1172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51200" y="1227240"/>
            <a:ext cx="1049400" cy="1058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1-08T17:26:3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