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4.wmf" ContentType="image/x-wmf"/>
  <Override PartName="/ppt/media/image21.wmf" ContentType="image/x-wmf"/>
  <Override PartName="/ppt/media/image18.jpeg" ContentType="image/jpeg"/>
  <Override PartName="/ppt/media/image17.gif" ContentType="image/gif"/>
  <Override PartName="/ppt/media/image3.png" ContentType="image/png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42C-9165-4B2B-AD84-BFA16A27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120-CFE7-4098-BB5A-85E8EC65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3F2-CC72-4BA4-B009-698729CF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5C3-50D7-42CB-A6BB-986C4B42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6AB5-2F67-428F-88F7-271408F3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FF15-B29C-4B27-933F-ED2801F0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E2B2-1E4D-4880-A32A-2982D6D0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352F-1BB7-48C3-998E-D822C55F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BA6F-6759-44D2-BE71-D31C2439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9A3D-D60D-435F-935B-804AF0FE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2972-83A2-45E6-909E-E673C7AC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0D1-463E-45C9-B123-CB5B9D97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6D06-7BDC-4A02-8B56-A9BD7AA2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B1A8-9482-41E3-9D2D-48D4A065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ED51-2DEF-490F-A74E-8576F627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24BB-A691-4BF4-8178-08004A2B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63D5-42DC-4982-8766-75EF73DB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6E37-763C-48C3-AA22-C00A19B5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5F0A-21F1-422C-B205-CE930FD9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FB3F-F1E9-4714-98C3-945C00CB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5720F-5598-4EE0-AC94-99205874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20F2-BA40-4E44-9FC7-24AF204B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583-DF4E-4B69-8539-5FFD1C30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9704-3AA2-490E-AC26-538EE11F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7731-86AE-4E01-A239-F7CBB69A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D9E8-D6B8-4F74-981E-CCF64F7B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CEF1-32D5-4249-B1C4-F46F696D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B4DD1-F1A8-4015-91DA-BDD07527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F03DF-2682-402E-8090-A01B32F6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894C0-B1E8-4DE9-8F78-3144D9D6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4E823-0F02-4596-98E0-B9C89031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D66A8-69BB-4DFA-AF49-484FC63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5FC9C-FE48-402A-94C7-086A24BB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3DD-3E2C-4EE7-A99B-D3FB6A14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E4A89-8ED5-4A15-ACEF-F166EC76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EE2B4-AE68-47E8-A79C-D1D48ABE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C8111-9752-4FA0-9C1E-E9731C18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19A85-6F97-4CB5-92BA-9239C5BB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3EC40-0952-4651-83C2-E392096D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55F99-C0D6-4175-8A88-06E7550D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8C4D6-6535-4AA9-BFF1-544FBC27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ACD6B-2B87-465D-ADD2-F5F71118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3529A-27AB-49C7-88A9-D96188CB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F9A61-AC4F-49C5-BAA1-DC270CD5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733-61C8-4AF3-B44C-F8B47DDA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F7CFE-708B-4B49-B132-F9CFD569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767F6-931D-4056-851B-FD027D32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6535E-B7BB-46AB-B2B2-16C5AAF5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AEE00-6648-49C5-A0B0-983FED1D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3957F-88C5-4D77-AB3D-0B385D1D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C2EE7-1544-4886-ABC6-144AF803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A3E2A-6019-4DFC-9E88-C3E5449F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3020C-B7EA-44BA-8F85-863008E3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9A2A3-5AC2-44A6-A7AE-C79951C5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4EAB6-6DB3-46A0-A429-EBD47FBD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B94-D190-453F-88F1-8041FD7E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07537-7468-4EF6-B6F0-0AEEE18C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E09-C69C-41CC-A387-65565EF2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955-7C4E-4D1F-AEA2-63D9156C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F9B-FFF6-4978-9D7F-1F0C095D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af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AD19-79EC-445B-A79C-BFE7FC78F64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af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7744-EB70-4D57-8D26-3F6166DE6EC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af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45F6-87CC-4FB9-A8EF-CE5F97C7D05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af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C39D-1D61-48E3-9C6F-CEFE0D6AAD69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af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30FB-54B8-4EAE-8505-1151D3657DE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5" descr="C:\Users\Малыш\AppData\Local\Microsoft\Windows\Temporary Internet Files\Low\Content.IE5\1WS515XO\j0435825[1].wmf"/>
          <p:cNvPicPr/>
          <p:nvPr/>
        </p:nvPicPr>
        <p:blipFill>
          <a:blip r:embed="rId1"/>
          <a:stretch/>
        </p:blipFill>
        <p:spPr>
          <a:xfrm>
            <a:off x="-571680" y="-285840"/>
            <a:ext cx="9929880" cy="7143840"/>
          </a:xfrm>
          <a:prstGeom prst="rect">
            <a:avLst/>
          </a:prstGeom>
          <a:ln w="0">
            <a:noFill/>
          </a:ln>
        </p:spPr>
      </p:pic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581680" cy="38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4286160"/>
            <a:ext cx="6400800" cy="257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Внимание. Развитие вниман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rebuchet MS"/>
              </a:rPr>
              <a:t>Занятие – тренинг для второклассников и их родителе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2009-2010 учебный год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3" descr="kind1.gif"/>
          <p:cNvPicPr/>
          <p:nvPr/>
        </p:nvPicPr>
        <p:blipFill>
          <a:blip r:embed="rId3"/>
          <a:stretch/>
        </p:blipFill>
        <p:spPr>
          <a:xfrm>
            <a:off x="428760" y="507204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kind2.gif"/>
          <p:cNvPicPr/>
          <p:nvPr/>
        </p:nvPicPr>
        <p:blipFill>
          <a:blip r:embed="rId4"/>
          <a:stretch/>
        </p:blipFill>
        <p:spPr>
          <a:xfrm>
            <a:off x="7143840" y="5072040"/>
            <a:ext cx="1600200" cy="14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5" descr="C:\Users\Малыш\AppData\Local\Microsoft\Windows\Temporary Internet Files\Low\Content.IE5\MKSWOQCI\j042532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b23b7e"/>
                </a:solidFill>
                <a:latin typeface="Trebuchet MS"/>
              </a:rPr>
              <a:t>         </a:t>
            </a:r>
            <a:r>
              <a:rPr b="0" i="1" lang="ru-RU" sz="6000" spc="-1" strike="noStrike">
                <a:solidFill>
                  <a:srgbClr val="c00000"/>
                </a:solidFill>
                <a:latin typeface="Trebuchet MS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00000"/>
                </a:solidFill>
                <a:latin typeface="Trebuchet MS"/>
              </a:rPr>
              <a:t>     </a:t>
            </a:r>
            <a:r>
              <a:rPr b="0" i="1" lang="ru-RU" sz="6000" spc="-1" strike="noStrike">
                <a:solidFill>
                  <a:srgbClr val="c00000"/>
                </a:solidFill>
                <a:latin typeface="Trebuchet MS"/>
              </a:rPr>
              <a:t>за внимание! 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70c0"/>
                </a:solidFill>
                <a:latin typeface="Trebuchet MS"/>
              </a:rPr>
              <a:t> </a:t>
            </a:r>
            <a:r>
              <a:rPr b="0" i="1" lang="ru-RU" sz="6000" spc="-1" strike="noStrike">
                <a:solidFill>
                  <a:srgbClr val="ffffff"/>
                </a:solidFill>
                <a:latin typeface="Trebuchet MS"/>
              </a:rPr>
              <a:t>До следующих встреч!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Рисунок 3" descr="C:\Users\Малыш\AppData\Local\Microsoft\Windows\Temporary Internet Files\Low\Content.IE5\7SNRI36J\j0426208[1].wmf"/>
          <p:cNvPicPr/>
          <p:nvPr/>
        </p:nvPicPr>
        <p:blipFill>
          <a:blip r:embed="rId2"/>
          <a:stretch/>
        </p:blipFill>
        <p:spPr>
          <a:xfrm>
            <a:off x="5357880" y="3286080"/>
            <a:ext cx="3500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202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04920" y="1642680"/>
            <a:ext cx="86868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c00000"/>
                </a:solidFill>
                <a:uFillTx/>
                <a:latin typeface="Trebuchet MS"/>
              </a:rPr>
              <a:t>Внимание </a:t>
            </a:r>
            <a:r>
              <a:rPr b="0" i="1" lang="ru-RU" sz="4800" spc="-1" strike="noStrike">
                <a:solidFill>
                  <a:srgbClr val="000000"/>
                </a:solidFill>
                <a:latin typeface="Trebuchet MS"/>
              </a:rPr>
              <a:t>– это сосредоточенность человека на каком-то предмете или явлении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Рисунок 3" descr="malchik2.jpg"/>
          <p:cNvPicPr/>
          <p:nvPr/>
        </p:nvPicPr>
        <p:blipFill>
          <a:blip r:embed="rId2"/>
          <a:stretch/>
        </p:blipFill>
        <p:spPr>
          <a:xfrm>
            <a:off x="7500960" y="2771640"/>
            <a:ext cx="1643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af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2c64"/>
                </a:solidFill>
                <a:latin typeface="Trebuchet MS"/>
              </a:rPr>
              <a:t>10 различий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ru-RU" sz="3200" spc="-1" strike="noStrike">
                <a:solidFill>
                  <a:srgbClr val="b23b7e"/>
                </a:solidFill>
                <a:latin typeface="Trebuchet MS"/>
              </a:rPr>
              <a:t>очень высокий уровень внимательности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5a2c64"/>
                </a:solidFill>
                <a:latin typeface="Trebuchet MS"/>
              </a:rPr>
              <a:t>8-9 различий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ru-RU" sz="3200" spc="-1" strike="noStrike">
                <a:solidFill>
                  <a:srgbClr val="b23b7e"/>
                </a:solidFill>
                <a:latin typeface="Trebuchet MS"/>
              </a:rPr>
              <a:t>выше среднего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5a2c64"/>
                </a:solidFill>
                <a:latin typeface="Trebuchet MS"/>
              </a:rPr>
              <a:t>4-7 различий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ru-RU" sz="3200" spc="-1" strike="noStrike">
                <a:solidFill>
                  <a:srgbClr val="b23b7e"/>
                </a:solidFill>
                <a:latin typeface="Trebuchet MS"/>
              </a:rPr>
              <a:t>средний уровень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5a2c64"/>
                </a:solidFill>
                <a:latin typeface="Trebuchet MS"/>
              </a:rPr>
              <a:t>2-3 различия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ru-RU" sz="3200" spc="-1" strike="noStrike">
                <a:solidFill>
                  <a:srgbClr val="b23b7e"/>
                </a:solidFill>
                <a:latin typeface="Trebuchet MS"/>
              </a:rPr>
              <a:t>низкий уровень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5a2c64"/>
                </a:solidFill>
                <a:latin typeface="Trebuchet MS"/>
              </a:rPr>
              <a:t>0-1 различие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ru-RU" sz="3200" spc="-1" strike="noStrike">
                <a:solidFill>
                  <a:srgbClr val="b23b7e"/>
                </a:solidFill>
                <a:latin typeface="Trebuchet MS"/>
              </a:rPr>
              <a:t>очень низкий уровень развития внимательност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8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8" name="j0074931.wav" descr=""/>
          <p:cNvPicPr/>
          <p:nvPr/>
        </p:nvPicPr>
        <p:blipFill>
          <a:blip r:embed="rId1"/>
          <a:stretch/>
        </p:blipFill>
        <p:spPr>
          <a:xfrm>
            <a:off x="728676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9" name="j0074839.wav" descr=""/>
          <p:cNvPicPr/>
          <p:nvPr/>
        </p:nvPicPr>
        <p:blipFill>
          <a:blip r:embed="rId2"/>
          <a:stretch/>
        </p:blipFill>
        <p:spPr>
          <a:xfrm>
            <a:off x="76438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0" name="j0075028.wav" descr=""/>
          <p:cNvPicPr/>
          <p:nvPr/>
        </p:nvPicPr>
        <p:blipFill>
          <a:blip r:embed="rId3"/>
          <a:stretch/>
        </p:blipFill>
        <p:spPr>
          <a:xfrm>
            <a:off x="792972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j0074721.wav" descr=""/>
          <p:cNvPicPr/>
          <p:nvPr/>
        </p:nvPicPr>
        <p:blipFill>
          <a:blip r:embed="rId4"/>
          <a:stretch/>
        </p:blipFill>
        <p:spPr>
          <a:xfrm>
            <a:off x="842976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http://content.foto.mail.ru/mail/boeva-on/_answers/i-87.jpg"/>
          <p:cNvPicPr/>
          <p:nvPr/>
        </p:nvPicPr>
        <p:blipFill>
          <a:blip r:embed="rId5"/>
          <a:stretch/>
        </p:blipFill>
        <p:spPr>
          <a:xfrm>
            <a:off x="428760" y="0"/>
            <a:ext cx="82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312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icture 2" descr="D:\Вашуркина\Алена\презентации к занятиям\мультяшки\mult-pict.narod.ru35[1].gif"/>
          <p:cNvPicPr/>
          <p:nvPr/>
        </p:nvPicPr>
        <p:blipFill>
          <a:blip r:embed="rId1"/>
          <a:stretch/>
        </p:blipFill>
        <p:spPr>
          <a:xfrm>
            <a:off x="428760" y="357120"/>
            <a:ext cx="4572000" cy="6313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D:\Мои рисунки\Насекомые\kuznechik_with_violin_128x128.gif"/>
          <p:cNvPicPr/>
          <p:nvPr/>
        </p:nvPicPr>
        <p:blipFill>
          <a:blip r:embed="rId2"/>
          <a:stretch/>
        </p:blipFill>
        <p:spPr>
          <a:xfrm>
            <a:off x="5072040" y="392904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246" name="ДЕТСКАЯ_В траве сидел кузнечик(заб).mp3" descr=""/>
          <p:cNvPicPr/>
          <p:nvPr/>
        </p:nvPicPr>
        <p:blipFill>
          <a:blip r:embed="rId3"/>
          <a:stretch/>
        </p:blipFill>
        <p:spPr>
          <a:xfrm>
            <a:off x="828684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ДЕТСКАЯ_В траве сидел кузнечик(заб).mp3" descr=""/>
          <p:cNvPicPr/>
          <p:nvPr/>
        </p:nvPicPr>
        <p:blipFill>
          <a:blip r:embed="rId4"/>
          <a:stretch/>
        </p:blipFill>
        <p:spPr>
          <a:xfrm>
            <a:off x="85726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5016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16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5016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4" descr="C:\Users\Малыш\AppData\Local\Microsoft\Windows\Temporary Internet Files\Low\Content.IE5\LOPO4RXQ\j043111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Bookman Old Style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Рисунок 3" descr="сарр.gif"/>
          <p:cNvPicPr/>
          <p:nvPr/>
        </p:nvPicPr>
        <p:blipFill>
          <a:blip r:embed="rId2"/>
          <a:stretch/>
        </p:blipFill>
        <p:spPr>
          <a:xfrm>
            <a:off x="6932520" y="5286240"/>
            <a:ext cx="22114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42920" y="214200"/>
            <a:ext cx="8848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олнце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тол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окно,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машина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оза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жара,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умка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ыб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Рисунок 3" descr="79.gif"/>
          <p:cNvPicPr/>
          <p:nvPr/>
        </p:nvPicPr>
        <p:blipFill>
          <a:blip r:embed="rId1"/>
          <a:stretch/>
        </p:blipFill>
        <p:spPr>
          <a:xfrm>
            <a:off x="3286080" y="1500120"/>
            <a:ext cx="4214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Содержимое 4" descr="C:\Users\Малыш\AppData\Local\Microsoft\Windows\Temporary Internet Files\Low\Content.IE5\1WS515XO\j0439482[1].jpg"/>
          <p:cNvPicPr/>
          <p:nvPr/>
        </p:nvPicPr>
        <p:blipFill>
          <a:blip r:embed="rId1"/>
          <a:stretch/>
        </p:blipFill>
        <p:spPr>
          <a:xfrm>
            <a:off x="4286160" y="285840"/>
            <a:ext cx="4572000" cy="63579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356760"/>
            <a:ext cx="54291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Trebuchet MS"/>
              </a:rPr>
              <a:t>Быть внимательным </a:t>
            </a: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5400" spc="-1" strike="noStrike">
                <a:solidFill>
                  <a:srgbClr val="c00000"/>
                </a:solidFill>
                <a:latin typeface="Trebuchet MS"/>
              </a:rPr>
              <a:t>это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ru-RU" sz="5400" spc="-1" strike="noStrike">
                <a:solidFill>
                  <a:srgbClr val="c00000"/>
                </a:solidFill>
                <a:latin typeface="Trebuchet MS"/>
              </a:rPr>
              <a:t>здорово!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красный квадратик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«понравилось»;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rebuchet MS"/>
              </a:rPr>
              <a:t>зелёный квадратик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«не очень понравилось»;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rebuchet MS"/>
              </a:rPr>
              <a:t>синий квадратик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«не понравилось»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2-12-31T20:31:39Z</dcterms:modified>
  <cp:revision>36</cp:revision>
  <dc:subject/>
  <dc:title>PowerPoint Presentation</dc:title>
</cp:coreProperties>
</file>