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4.wmf" ContentType="image/x-wmf"/>
  <Override PartName="/ppt/media/image21.wmf" ContentType="image/x-wmf"/>
  <Override PartName="/ppt/media/image18.jpeg" ContentType="image/jpeg"/>
  <Override PartName="/ppt/media/image17.gif" ContentType="image/gif"/>
  <Override PartName="/ppt/media/image3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A87-9EB2-4780-9063-347BEBF2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895-2EAD-4785-A783-95CDD3E1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8B8-BA1C-4C4C-A51F-8BB13163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92F-BF78-4CCC-A8BE-0856B27F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6F1-E433-4AD5-A59D-1F38F446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3E28-1B2A-48DD-966E-663FAC4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CDCF-4EEE-4A6E-B980-1E1AEF0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D0D-B151-4244-AB8A-79A1F91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C1FB-9B47-44F4-B4D1-3CFE9B0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287C-13E3-487A-A835-4797993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0F42-9E38-4D3A-938A-EAEFC40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5CA-0431-46D3-A28D-BF0EA98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61DD-B953-4590-A2E9-29B6CC5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1CA-9EF4-4753-9BD7-51DCE1B1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838-5323-4954-8BEC-8977C58C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7292-23A3-47A4-A482-788EA68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157-609C-44C2-A7DC-D0ADF64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4E6B-CA58-4ADC-BE61-5EA6F854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1FB3-8520-4559-8B29-C4352CC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665B-B6D7-4413-8A71-CC7E7A2B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6F0E-0542-4FFB-91A1-70B47229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1835A-101A-4B25-9243-67F001CD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557-B4D9-4B74-A04A-B4B14CCF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7500-ECEC-49B8-BFF6-0E4F5C8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8745-16CE-448B-B6F2-3ED5A5C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5EFE-FC16-44AE-AC99-93D1AAA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0B6F-6601-4B8C-BCA1-234A92F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60ED-8112-4C78-825C-D1EA3C3C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96DA-6FDA-45F5-9ACC-9214FCD6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4D2A-6146-468C-A9FE-818693B1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22F8-F39F-421B-8F86-CE42382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6E14-D1E3-490A-9093-A4976A8F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FCEB-4750-4993-B59D-5644F20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29F-F265-4ACD-95DE-F6707738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52D6A-EA69-4191-A5BC-5EFD357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F8CA-F930-4BB8-B23B-0D9ED73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F14DF-8755-42E2-AEA6-AA2551A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3073-1722-4273-8B71-DA76762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D92D-A123-48F0-9D6A-449F3FA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8BBD-E0D1-427C-B51F-105B01A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B23A-A4E7-4579-B4F2-4C71506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D27E-0125-4826-BC0D-E27A7CBF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19B8-E340-4227-B835-A01DD622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8DAA-78A1-4B42-9B69-FFFB13B8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E41-937B-47A6-B519-B742397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FFD8-3CB2-4182-BDD4-243BA5B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3235-BFA2-4F5F-8DB8-8495E4D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46AC-83A9-4BC1-AE6B-50FB3EC7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C63E-4578-4A6F-A86C-E5A7FCF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4061-48EE-4535-94E1-A087787C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4006-EB5B-416C-9F77-8562DF6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8F62-D89D-4D32-BE1A-63DB0B6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86196-E4A0-4964-B189-E76FC7A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8427-32D7-4855-B723-1EDF0BA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B7C0-53CF-456F-847F-AF456E3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113-53E2-40BD-849B-5E787B20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1203-9B64-4310-BE6E-E11F6611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F6D-316F-4142-BC43-0BF3FA3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4AF-94F8-471D-9E3C-743DA86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D8B-89E6-44EA-86F9-85173B51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0AF-CB50-49C2-A7B4-D57D08857A0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112-4C0D-4ED2-8A82-52F80DE1C0D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472-A248-4EFE-BB10-AD4F748198E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C4E-C2B9-4275-9FB9-64E96108B49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C3C0-0233-4B87-A141-B1FDF0E3C5A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5" descr="C:\Users\Малыш\AppData\Local\Microsoft\Windows\Temporary Internet Files\Low\Content.IE5\1WS515XO\j0435825[1].wmf"/>
          <p:cNvPicPr/>
          <p:nvPr/>
        </p:nvPicPr>
        <p:blipFill>
          <a:blip r:embed="rId1"/>
          <a:stretch/>
        </p:blipFill>
        <p:spPr>
          <a:xfrm>
            <a:off x="-571680" y="-285840"/>
            <a:ext cx="9929880" cy="714384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81680" cy="38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28616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Внимание. Развитие вним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Занятие – тренинг для второклассников и их родителе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2009-2010 учебный год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kind1.gif"/>
          <p:cNvPicPr/>
          <p:nvPr/>
        </p:nvPicPr>
        <p:blipFill>
          <a:blip r:embed="rId3"/>
          <a:stretch/>
        </p:blipFill>
        <p:spPr>
          <a:xfrm>
            <a:off x="428760" y="507204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kind2.gif"/>
          <p:cNvPicPr/>
          <p:nvPr/>
        </p:nvPicPr>
        <p:blipFill>
          <a:blip r:embed="rId4"/>
          <a:stretch/>
        </p:blipFill>
        <p:spPr>
          <a:xfrm>
            <a:off x="7143840" y="5072040"/>
            <a:ext cx="1600200" cy="14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5" descr="C:\Users\Малыш\AppData\Local\Microsoft\Windows\Temporary Internet Files\Low\Content.IE5\MKSWOQCI\j0425321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b23b7e"/>
                </a:solidFill>
                <a:latin typeface="Trebuchet MS"/>
              </a:rPr>
              <a:t>         </a:t>
            </a: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     </a:t>
            </a:r>
            <a:r>
              <a:rPr b="0" i="1" lang="ru-RU" sz="6000" spc="-1" strike="noStrike">
                <a:solidFill>
                  <a:srgbClr val="c00000"/>
                </a:solidFill>
                <a:latin typeface="Trebuchet MS"/>
              </a:rPr>
              <a:t>за внимание! 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Trebuchet MS"/>
              </a:rPr>
              <a:t>До следующих встреч!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Рисунок 3" descr="C:\Users\Малыш\AppData\Local\Microsoft\Windows\Temporary Internet Files\Low\Content.IE5\7SNRI36J\j0426208[1].wmf"/>
          <p:cNvPicPr/>
          <p:nvPr/>
        </p:nvPicPr>
        <p:blipFill>
          <a:blip r:embed="rId2"/>
          <a:stretch/>
        </p:blipFill>
        <p:spPr>
          <a:xfrm>
            <a:off x="5357880" y="3286080"/>
            <a:ext cx="3500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202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04920" y="1642680"/>
            <a:ext cx="8686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c00000"/>
                </a:solidFill>
                <a:uFillTx/>
                <a:latin typeface="Trebuchet MS"/>
              </a:rPr>
              <a:t>Внимание </a:t>
            </a:r>
            <a:r>
              <a:rPr b="0" i="1" lang="ru-RU" sz="4800" spc="-1" strike="noStrike">
                <a:solidFill>
                  <a:srgbClr val="000000"/>
                </a:solidFill>
                <a:latin typeface="Trebuchet MS"/>
              </a:rPr>
              <a:t>– это сосредоточенность человека на каком-то предмете или явлении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Рисунок 3" descr="malchik2.jpg"/>
          <p:cNvPicPr/>
          <p:nvPr/>
        </p:nvPicPr>
        <p:blipFill>
          <a:blip r:embed="rId2"/>
          <a:stretch/>
        </p:blipFill>
        <p:spPr>
          <a:xfrm>
            <a:off x="7500960" y="2771640"/>
            <a:ext cx="1643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faff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10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очень высокий уровень внимательност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8-9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выше среднего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4-7 различий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средний уровень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2-3 различия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низкий уровень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5a2c64"/>
                </a:solidFill>
                <a:latin typeface="Trebuchet MS"/>
              </a:rPr>
              <a:t>0-1 различие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1" lang="ru-RU" sz="3200" spc="-1" strike="noStrike">
                <a:solidFill>
                  <a:srgbClr val="b23b7e"/>
                </a:solidFill>
                <a:latin typeface="Trebuchet MS"/>
              </a:rPr>
              <a:t>очень низкий уровень развития внимательност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8" name="j0074931.wav" descr=""/>
          <p:cNvPicPr/>
          <p:nvPr/>
        </p:nvPicPr>
        <p:blipFill>
          <a:blip r:embed="rId1"/>
          <a:stretch/>
        </p:blipFill>
        <p:spPr>
          <a:xfrm>
            <a:off x="72867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j0074839.wav" descr=""/>
          <p:cNvPicPr/>
          <p:nvPr/>
        </p:nvPicPr>
        <p:blipFill>
          <a:blip r:embed="rId2"/>
          <a:stretch/>
        </p:blipFill>
        <p:spPr>
          <a:xfrm>
            <a:off x="764388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j0075028.wav" descr=""/>
          <p:cNvPicPr/>
          <p:nvPr/>
        </p:nvPicPr>
        <p:blipFill>
          <a:blip r:embed="rId3"/>
          <a:stretch/>
        </p:blipFill>
        <p:spPr>
          <a:xfrm>
            <a:off x="792972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j0074721.wav" descr=""/>
          <p:cNvPicPr/>
          <p:nvPr/>
        </p:nvPicPr>
        <p:blipFill>
          <a:blip r:embed="rId4"/>
          <a:stretch/>
        </p:blipFill>
        <p:spPr>
          <a:xfrm>
            <a:off x="842976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http://content.foto.mail.ru/mail/boeva-on/_answers/i-87.jpg"/>
          <p:cNvPicPr/>
          <p:nvPr/>
        </p:nvPicPr>
        <p:blipFill>
          <a:blip r:embed="rId5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312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2" descr="D:\Вашуркина\Алена\презентации к занятиям\мультяшки\mult-pict.narod.ru35[1].gif"/>
          <p:cNvPicPr/>
          <p:nvPr/>
        </p:nvPicPr>
        <p:blipFill>
          <a:blip r:embed="rId1"/>
          <a:stretch/>
        </p:blipFill>
        <p:spPr>
          <a:xfrm>
            <a:off x="428760" y="357120"/>
            <a:ext cx="4572000" cy="631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D:\Мои рисунки\Насекомые\kuznechik_with_violin_128x128.gif"/>
          <p:cNvPicPr/>
          <p:nvPr/>
        </p:nvPicPr>
        <p:blipFill>
          <a:blip r:embed="rId2"/>
          <a:stretch/>
        </p:blipFill>
        <p:spPr>
          <a:xfrm>
            <a:off x="5072040" y="392904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46" name="ДЕТСКАЯ_В траве сидел кузнечик(заб).mp3" descr=""/>
          <p:cNvPicPr/>
          <p:nvPr/>
        </p:nvPicPr>
        <p:blipFill>
          <a:blip r:embed="rId3"/>
          <a:stretch/>
        </p:blipFill>
        <p:spPr>
          <a:xfrm>
            <a:off x="8286840" y="6858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ДЕТСКАЯ_В траве сидел кузнечик(заб).mp3" descr=""/>
          <p:cNvPicPr/>
          <p:nvPr/>
        </p:nvPicPr>
        <p:blipFill>
          <a:blip r:embed="rId4"/>
          <a:stretch/>
        </p:blipFill>
        <p:spPr>
          <a:xfrm>
            <a:off x="85726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5016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16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5016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C:\Users\Малыш\AppData\Local\Microsoft\Windows\Temporary Internet Files\Low\Content.IE5\LOPO4RXQ\j043111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Bookman Old Style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Рисунок 3" descr="сарр.gif"/>
          <p:cNvPicPr/>
          <p:nvPr/>
        </p:nvPicPr>
        <p:blipFill>
          <a:blip r:embed="rId2"/>
          <a:stretch/>
        </p:blipFill>
        <p:spPr>
          <a:xfrm>
            <a:off x="6932520" y="5286240"/>
            <a:ext cx="22114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2920" y="214200"/>
            <a:ext cx="8848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олнце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тол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окно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машин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оз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жара,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умк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ыб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3" descr="79.gif"/>
          <p:cNvPicPr/>
          <p:nvPr/>
        </p:nvPicPr>
        <p:blipFill>
          <a:blip r:embed="rId1"/>
          <a:stretch/>
        </p:blipFill>
        <p:spPr>
          <a:xfrm>
            <a:off x="3286080" y="1500120"/>
            <a:ext cx="4214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Содержимое 4" descr="C:\Users\Малыш\AppData\Local\Microsoft\Windows\Temporary Internet Files\Low\Content.IE5\1WS515XO\j0439482[1].jpg"/>
          <p:cNvPicPr/>
          <p:nvPr/>
        </p:nvPicPr>
        <p:blipFill>
          <a:blip r:embed="rId1"/>
          <a:stretch/>
        </p:blipFill>
        <p:spPr>
          <a:xfrm>
            <a:off x="4286160" y="285840"/>
            <a:ext cx="4572000" cy="63579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356760"/>
            <a:ext cx="5429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rebuchet MS"/>
              </a:rPr>
              <a:t>Быть внимательным </a:t>
            </a: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это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5400" spc="-1" strike="noStrike">
                <a:solidFill>
                  <a:srgbClr val="c00000"/>
                </a:solidFill>
                <a:latin typeface="Trebuchet MS"/>
              </a:rPr>
              <a:t>здорово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расны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понравилось»;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rebuchet MS"/>
              </a:rPr>
              <a:t>зелёны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не очень понравилось»;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rebuchet MS"/>
              </a:rPr>
              <a:t>синий квадратик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«не понравилось»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2-12-31T20:31:39Z</dcterms:modified>
  <cp:revision>36</cp:revision>
  <dc:subject/>
  <dc:title>PowerPoint Presentation</dc:title>
</cp:coreProperties>
</file>