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633-23EB-4710-AA02-6219FCA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9F2-69DE-4F38-B5ED-35216483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E72-2B75-4B77-9FB4-5FE74507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91D-786A-40D6-A4E1-69B12E2B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233-4E3E-46C8-8DD3-03B969C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3D0-7AAB-4B75-A029-F81E5DC5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4C8-A74A-447A-BDE2-21F27340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DA5-2272-45AC-9CA8-627F48FC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796-0734-4CD6-A159-2A1D7AB1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91A-8059-4ED3-9DE2-42727C4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0F3-68F8-4292-B98F-F4915F5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8B3-DFE0-4A62-A5E5-A312F48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51CF-A8AD-4BC2-8309-C970E37B9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5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hiller"/>
              </a:rPr>
              <a:t>В гости к осен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2997360"/>
          <a:ext cx="8569440" cy="3384360"/>
        </p:xfrm>
        <a:graphic>
          <a:graphicData uri="http://schemas.openxmlformats.org/drawingml/2006/table">
            <a:tbl>
              <a:tblPr/>
              <a:tblGrid>
                <a:gridCol w="658800"/>
                <a:gridCol w="658800"/>
                <a:gridCol w="660600"/>
                <a:gridCol w="658800"/>
                <a:gridCol w="658800"/>
                <a:gridCol w="658800"/>
                <a:gridCol w="660240"/>
                <a:gridCol w="658800"/>
                <a:gridCol w="658800"/>
                <a:gridCol w="658800"/>
                <a:gridCol w="660600"/>
                <a:gridCol w="658800"/>
                <a:gridCol w="6588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867040" cy="35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861160" y="3213000"/>
            <a:ext cx="2635200" cy="3213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39120" y="619920"/>
            <a:ext cx="42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ж небо осенью дышал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ж реже солнышко блистал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ороче становился ден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Лесов таинственная 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48520" y="4142520"/>
            <a:ext cx="42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сенней позднею поро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Люблю я Царскосельский сад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огда он тихой полумгло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ак бы дремотою объ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2305080" cy="3349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669480" y="399240"/>
            <a:ext cx="433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пять осенний блеск денниц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рожит обманчивым огнем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И уговор заводят птиц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мчаться стаей за теп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33240" y="3933000"/>
            <a:ext cx="515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ихо в чаще можжевеля по обрыв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ень, рыжая кобыла, чешет грив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 речным покровом бере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лышен синий лязг ее по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0555"/>
          <p:cNvPicPr/>
          <p:nvPr/>
        </p:nvPicPr>
        <p:blipFill>
          <a:blip r:embed="rId1"/>
          <a:stretch/>
        </p:blipFill>
        <p:spPr>
          <a:xfrm>
            <a:off x="179280" y="476280"/>
            <a:ext cx="4335480" cy="609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768920" y="18900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484360" y="230040"/>
            <a:ext cx="4248360" cy="314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4032360" cy="33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3743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7506a7407c2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465800" cy="33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4427640" y="14796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41054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55c9f7dbfdfb470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067280" y="2924280"/>
            <a:ext cx="4302000" cy="322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3216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6:45:35Z</dcterms:created>
  <dc:creator>Zver</dc:creator>
  <dc:description/>
  <dc:language>en-US</dc:language>
  <cp:lastModifiedBy>User</cp:lastModifiedBy>
  <dcterms:modified xsi:type="dcterms:W3CDTF">2009-12-29T16:20:19Z</dcterms:modified>
  <cp:revision>36</cp:revision>
  <dc:subject/>
  <dc:title>В гости к осени</dc:title>
</cp:coreProperties>
</file>