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4.jpeg" ContentType="image/jpeg"/>
  <Override PartName="/ppt/media/image14.jpeg" ContentType="image/jpeg"/>
  <Override PartName="/ppt/media/image3.jpeg" ContentType="image/jpeg"/>
  <Override PartName="/ppt/media/image15.png" ContentType="image/png"/>
  <Override PartName="/ppt/media/image2.jpeg" ContentType="image/jpeg"/>
  <Override PartName="/ppt/media/image8.gif" ContentType="image/gif"/>
  <Override PartName="/ppt/media/image1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6D8E-ED6A-40A1-A5D0-7FC278976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6B4A-A076-411F-8B31-05E44BC7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F69B-E4A6-4239-914C-F45431AB0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7B87-41D4-4582-B171-922A0E615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5487-06AA-4232-B64C-B7C27E69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067C-A7DC-421E-A217-2C716C4D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3DC7-8549-426D-820D-48D38851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FE62-AD8F-43C7-A4E4-EB906836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8A1A-01CA-4AA1-B88B-AD98E1B8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986C-36D2-4BE2-9DF0-B3CC0A4C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9EAC-8CEA-450F-B040-7CB61AE9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5EBD-2D36-41AD-BE64-394A86DA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92D0-48D7-40E3-BE4E-4C11922A38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0" y="-747720"/>
            <a:ext cx="9144000" cy="7605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528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hiller"/>
              </a:rPr>
              <a:t>В гости к осен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95280" y="2997360"/>
          <a:ext cx="8569440" cy="3384360"/>
        </p:xfrm>
        <a:graphic>
          <a:graphicData uri="http://schemas.openxmlformats.org/drawingml/2006/table">
            <a:tbl>
              <a:tblPr/>
              <a:tblGrid>
                <a:gridCol w="658800"/>
                <a:gridCol w="658800"/>
                <a:gridCol w="660600"/>
                <a:gridCol w="658800"/>
                <a:gridCol w="658800"/>
                <a:gridCol w="658800"/>
                <a:gridCol w="660240"/>
                <a:gridCol w="658800"/>
                <a:gridCol w="658800"/>
                <a:gridCol w="658800"/>
                <a:gridCol w="660600"/>
                <a:gridCol w="658800"/>
                <a:gridCol w="65880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2867040" cy="3529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5861160" y="3213000"/>
            <a:ext cx="2635200" cy="32133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3939120" y="619920"/>
            <a:ext cx="4239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Уж небо осенью дышало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Уж реже солнышко блистало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Короче становился день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Лесов таинственная с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848520" y="4142520"/>
            <a:ext cx="4254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Осенней позднею порою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Люблю я Царскосельский сад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Когда он тихой полумглою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Как бы дремотою объя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2219400" cy="2952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6012000" y="2924280"/>
            <a:ext cx="2305080" cy="33494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6"/>
          <p:cNvSpPr/>
          <p:nvPr/>
        </p:nvSpPr>
        <p:spPr>
          <a:xfrm>
            <a:off x="3669480" y="399240"/>
            <a:ext cx="433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Опять осенний блеск денницы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Дрожит обманчивым огнем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И уговор заводят птицы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Умчаться стаей за теп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633240" y="3933000"/>
            <a:ext cx="515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Тихо в чаще можжевеля по обрыву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Осень, рыжая кобыла, чешет гривы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Над речным покровом берегов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Слышен синий лязг ее под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1258920" y="0"/>
            <a:ext cx="698508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8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10555"/>
          <p:cNvPicPr/>
          <p:nvPr/>
        </p:nvPicPr>
        <p:blipFill>
          <a:blip r:embed="rId1"/>
          <a:stretch/>
        </p:blipFill>
        <p:spPr>
          <a:xfrm>
            <a:off x="179280" y="476280"/>
            <a:ext cx="4335480" cy="6092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4768920" y="189000"/>
            <a:ext cx="4176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2484360" y="230040"/>
            <a:ext cx="4248360" cy="3140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2"/>
          <a:stretch/>
        </p:blipFill>
        <p:spPr>
          <a:xfrm>
            <a:off x="4859280" y="3213000"/>
            <a:ext cx="4032360" cy="3333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3"/>
          <a:stretch/>
        </p:blipFill>
        <p:spPr>
          <a:xfrm>
            <a:off x="324000" y="3068640"/>
            <a:ext cx="374328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7506a7407c29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3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4465800" cy="3368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"/>
          <p:cNvPicPr/>
          <p:nvPr/>
        </p:nvPicPr>
        <p:blipFill>
          <a:blip r:embed="rId2"/>
          <a:stretch/>
        </p:blipFill>
        <p:spPr>
          <a:xfrm>
            <a:off x="4427640" y="1479600"/>
            <a:ext cx="4176720" cy="3132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" descr=""/>
          <p:cNvPicPr/>
          <p:nvPr/>
        </p:nvPicPr>
        <p:blipFill>
          <a:blip r:embed="rId3"/>
          <a:stretch/>
        </p:blipFill>
        <p:spPr>
          <a:xfrm>
            <a:off x="1187280" y="3645000"/>
            <a:ext cx="410544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55c9f7dbfdfb4703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4067280" y="2924280"/>
            <a:ext cx="4302000" cy="3220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900000" y="333360"/>
            <a:ext cx="32162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8T06:45:35Z</dcterms:created>
  <dc:creator>Zver</dc:creator>
  <dc:description/>
  <dc:language>en-US</dc:language>
  <cp:lastModifiedBy>User</cp:lastModifiedBy>
  <dcterms:modified xsi:type="dcterms:W3CDTF">2009-12-29T16:20:19Z</dcterms:modified>
  <cp:revision>36</cp:revision>
  <dc:subject/>
  <dc:title>В гости к осени</dc:title>
</cp:coreProperties>
</file>