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BAC9-22C0-4B3B-9E66-B5281148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D06C-5FBB-4D08-A7D4-93D2F4F6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F1D3-B006-4BEE-BCA4-62276080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BE68-7267-4EE7-80CA-2BC4A882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E501-3636-418F-9DC7-F3E89754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E8F5-EF0B-4F7C-95C5-028E3D1F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5E0A-74E1-4AB3-BA9A-67030A15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6B8E-E15B-4F4C-B364-49C5E721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4DEC-9F42-44DC-910A-92928B55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941F-0A23-4D41-95CD-30514BDC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8C9D-C3BC-4C81-B208-8AA8A8FE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002F-2170-4B32-B558-6C1554BB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391D-9E43-448B-8B71-E90EBF0DC7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91960"/>
            <a:ext cx="7772400" cy="26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3399"/>
                </a:solidFill>
                <a:latin typeface="Tahoma"/>
              </a:rPr>
              <a:t>В 1959 году Генеральная Ассамблея Организации объединенных Наций приняла Декларацию прав ребён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4" descr="Отсканировано 03"/>
          <p:cNvPicPr/>
          <p:nvPr/>
        </p:nvPicPr>
        <p:blipFill>
          <a:blip r:embed="rId2"/>
          <a:srcRect l="25919" t="19956" r="21736" b="5536"/>
          <a:stretch/>
        </p:blipFill>
        <p:spPr>
          <a:xfrm>
            <a:off x="2895480" y="3230640"/>
            <a:ext cx="3886200" cy="32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ГЛАВНЫЕ ВОПРОС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cc"/>
                </a:solidFill>
                <a:latin typeface="Tahoma"/>
              </a:rPr>
              <a:t>Что люди могут делать и чего не могу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cc"/>
                </a:solidFill>
                <a:latin typeface="Tahoma"/>
              </a:rPr>
              <a:t>Что обязаны делать и чего не обязан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cc"/>
                </a:solidFill>
                <a:latin typeface="Tahoma"/>
              </a:rPr>
              <a:t>На что имеют право и на что не имею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              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ООН (1945г.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      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– Организация</a:t>
            </a:r>
            <a:br>
              <a:rPr sz="2400"/>
            </a:b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     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 – Объединенных</a:t>
            </a:r>
            <a:br>
              <a:rPr sz="2400"/>
            </a:b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     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Н</a:t>
            </a: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 – Наций</a:t>
            </a:r>
            <a:br>
              <a:rPr sz="2400"/>
            </a:br>
            <a:r>
              <a:rPr b="1" lang="ru-RU" sz="2400" spc="-1" strike="noStrike">
                <a:solidFill>
                  <a:srgbClr val="ff66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Главная цель: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66cc"/>
                </a:solidFill>
                <a:latin typeface="Tahoma"/>
              </a:rPr>
              <a:t>стремление избавить грядущее поколение от бедствий вой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Отсканировано 03"/>
          <p:cNvPicPr/>
          <p:nvPr/>
        </p:nvPicPr>
        <p:blipFill>
          <a:blip r:embed="rId2"/>
          <a:srcRect l="10349" t="19546" r="14517" b="19804"/>
          <a:stretch/>
        </p:blipFill>
        <p:spPr>
          <a:xfrm>
            <a:off x="2743200" y="3886200"/>
            <a:ext cx="350532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Международные документы о правах ребёнк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3399"/>
                </a:solidFill>
                <a:latin typeface="Tahoma"/>
              </a:rPr>
              <a:t>Конвен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cc"/>
                </a:solidFill>
                <a:latin typeface="Tahoma"/>
              </a:rPr>
              <a:t>(договор, соглашени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c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cc"/>
                </a:solidFill>
                <a:latin typeface="Tahoma"/>
              </a:rPr>
              <a:t>обязательно для  государств подписавших догов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616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3200" spc="-1" strike="noStrike">
                <a:solidFill>
                  <a:srgbClr val="ff3399"/>
                </a:solidFill>
                <a:latin typeface="Tahoma"/>
              </a:rPr>
              <a:t>Деклар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66cc"/>
                </a:solidFill>
                <a:latin typeface="Tahoma"/>
              </a:rPr>
              <a:t>(высказывани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c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cc"/>
                </a:solidFill>
                <a:latin typeface="Tahoma"/>
              </a:rPr>
              <a:t>рекомендации; не имеет обязательной сил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7"/>
          <p:cNvSpPr/>
          <p:nvPr/>
        </p:nvSpPr>
        <p:spPr>
          <a:xfrm flipH="1">
            <a:off x="1676520" y="1676520"/>
            <a:ext cx="16761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5105520" y="1676520"/>
            <a:ext cx="198108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АКИЕ ГЕРОИ ЛИШЕНЫ СЛЕДУЮЩИХ ПРА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/>
        </a:graphic>
      </p:graphicFrame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Право на жизнь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Золуш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Колобо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Кот в сапога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Право на неприкосновенность жилища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Сестрица Алёнуш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Три поросён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Колобо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Право на свободный труд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Золуш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Красная Шапоч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Бал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Право на свободное вступление в брак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Золуш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Дюймовоч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Алёнуш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Право на владение личным имуществом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Красная шапоч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Бурати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cc"/>
                </a:solidFill>
                <a:latin typeface="Tahoma"/>
              </a:rPr>
              <a:t>Баба Яг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          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 МЕНЯ ЕС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на имя, отчество и фамилию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знать своих родителей, совместно с ними проживат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на заботу и воспит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на общение со своими родителями, бабушками, дедушками, братьями и сёстр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на защиту и воспит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на общение с обоими родителя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выражать своё мне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на уважение человеческого достоинст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на защиту своих прав и законных интерес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право на личное имущество, на получение содержания от родите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asha</cp:lastModifiedBy>
  <dcterms:modified xsi:type="dcterms:W3CDTF">2010-01-09T10:44:0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