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1C1-4223-4D36-BEAC-0410B818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13C-01F2-490A-BF8C-640C6F22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88B-4C93-4231-AF80-0FCC85DE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505-06F7-48E0-B4C6-B0DCFFB7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ABC-5A16-458E-B384-AF1B21F3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2C70-6618-4946-8499-6BB3C09C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C0E-029F-4C41-B28F-931723A9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C2A-8787-4E95-BFAE-4952589E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203-C4D6-4507-876E-E48090C7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C6E-E4B0-41E2-934C-DF655E76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E4B-BCC3-46F9-A50B-11205E8C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3E4-00B7-411A-B9F4-85562FC9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9363-A71F-4B0D-B247-47AE982C29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91960"/>
            <a:ext cx="777240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Tahoma"/>
              </a:rPr>
              <a:t>В 1959 году Генеральная Ассамблея Организации объединенных Наций приняла Декларацию прав ребён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4" descr="Отсканировано 03"/>
          <p:cNvPicPr/>
          <p:nvPr/>
        </p:nvPicPr>
        <p:blipFill>
          <a:blip r:embed="rId2"/>
          <a:srcRect l="25919" t="19956" r="21736" b="5536"/>
          <a:stretch/>
        </p:blipFill>
        <p:spPr>
          <a:xfrm>
            <a:off x="2895480" y="3230640"/>
            <a:ext cx="3886200" cy="32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ГЛАВНЫЕ ВОПРОС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cc"/>
                </a:solidFill>
                <a:latin typeface="Tahoma"/>
              </a:rPr>
              <a:t>Что люди могут делать и чего не могу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cc"/>
                </a:solidFill>
                <a:latin typeface="Tahoma"/>
              </a:rPr>
              <a:t>Что обязаны делать и чего не обязан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cc"/>
                </a:solidFill>
                <a:latin typeface="Tahoma"/>
              </a:rPr>
              <a:t>На что имеют право и на что не имею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ОН (1945г.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– Организация</a:t>
            </a:r>
            <a:br>
              <a:rPr sz="2400"/>
            </a:b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– Объединенных</a:t>
            </a:r>
            <a:br>
              <a:rPr sz="2400"/>
            </a:b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– Наций</a:t>
            </a:r>
            <a:br>
              <a:rPr sz="2400"/>
            </a:b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Главная цель: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66cc"/>
                </a:solidFill>
                <a:latin typeface="Tahoma"/>
              </a:rPr>
              <a:t>стремление избавить грядущее поколение от бедствий вой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Отсканировано 03"/>
          <p:cNvPicPr/>
          <p:nvPr/>
        </p:nvPicPr>
        <p:blipFill>
          <a:blip r:embed="rId2"/>
          <a:srcRect l="10349" t="19546" r="14517" b="19804"/>
          <a:stretch/>
        </p:blipFill>
        <p:spPr>
          <a:xfrm>
            <a:off x="2743200" y="3886200"/>
            <a:ext cx="350532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Международные документы о правах ребён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Конвен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(договор, соглаше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обязательно для  государств подписавших догов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Деклар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(высказыва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рекомендации; не имеет обязательной си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1676520" y="1676520"/>
            <a:ext cx="16761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5105520" y="1676520"/>
            <a:ext cx="198108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АКИЕ ГЕРОИ ЛИШЕНЫ СЛЕДУЮЩИХ ПРА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/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жизнь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Зол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олобо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от в сапога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неприкосновенность жилища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Сестрица Алён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Три поросён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олобо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свободный труд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Зол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расная Шапоч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Бал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свободное вступление в брак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Зол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Дюймовоч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Алён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владение личным имуществом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расная шапоч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Бурати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Баба Я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 МЕНЯ ЕС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имя, отчество и фамили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знать своих родителей, совместно с ними прожива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заботу и воспит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общение со своими родителями, бабушками, дедушками, братьями и сёстр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защиту и воспит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общение с обоими родител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выражать своё мн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уважение человеческого достоин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защиту своих прав и законных интерес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личное имущество, на получение содержания от роди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sha</cp:lastModifiedBy>
  <dcterms:modified xsi:type="dcterms:W3CDTF">2010-01-09T10:44:0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